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88756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-1800" y="9359640"/>
            <a:ext cx="288756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3774960" y="9359640"/>
            <a:ext cx="28879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A17F82-0EAE-4B81-92DF-67C19D734F27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Img"/>
          </p:nvPr>
        </p:nvSpPr>
        <p:spPr>
          <a:xfrm>
            <a:off x="1036800" y="858600"/>
            <a:ext cx="4587840" cy="343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887040" y="4824000"/>
            <a:ext cx="4886280" cy="37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038240" y="85896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-144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-144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036800" y="858960"/>
            <a:ext cx="4587840" cy="343836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887040" y="4667040"/>
            <a:ext cx="48862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5FD-05E4-458C-99A1-47219F91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F94-C005-41C2-BB71-4ABD1384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FD1-E2CD-4911-AC07-817A5CFD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79E-5206-4842-BC65-EF883E7D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57E-8A06-478C-9B7E-95C6E9E7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AEF-EBE9-4DFF-8B58-A00D69FF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7D2-9676-4726-9B7F-747D5BA3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FB8-56EB-4F51-B616-FAD422FB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BD9-C0FA-4BAD-A7F2-6B7F8E94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5C0-56FF-4D07-8773-3B062E77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E81E-BCCC-485E-8A07-FDE4A819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0E1-93A1-45CE-B778-BA180DBF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78AE64-70BE-4AD2-BDE2-F2F488C91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298080" y="6432480"/>
            <a:ext cx="125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1 - </a:t>
            </a:r>
            <a:fld id="{036D6FB6-B8F0-4CF5-BD01-03DC84D33D50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6000" y="646272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74840"/>
            <a:ext cx="9131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en-US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7152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Chapitre 1: Généralités sur l’Architecture d’Oracle7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73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74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7034040" y="3306600"/>
            <a:ext cx="160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DBA7-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PMON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5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Nettoie les connexions terminées de façon anorma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fait les transactions non validé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ibère les verrous qui avaient été posés par un process qui s’est terminé en erreu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ibère les ressources SGA allouées par le process en erreu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edémarre les serveurs partagés et les process dispatcher en erreu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MON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7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éalise la restauration automatique d’instanc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écupère l’espace occupé par des segments temporaires qui ne sont plus utilisé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Fusionne les zones contigües d’espace libre dans les fichiers de donné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Process RECO, LCK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n</a:t>
            </a: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, P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nnn</a:t>
            </a: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 et SNP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116000" y="1674720"/>
            <a:ext cx="1890720" cy="326520"/>
            <a:chOff x="1116000" y="1674720"/>
            <a:chExt cx="1890720" cy="326520"/>
          </a:xfrm>
        </p:grpSpPr>
        <p:sp>
          <p:nvSpPr>
            <p:cNvPr id="472" name=""/>
            <p:cNvSpPr/>
            <p:nvPr/>
          </p:nvSpPr>
          <p:spPr>
            <a:xfrm>
              <a:off x="1644480" y="167940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16000" y="1674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086360" y="1674720"/>
            <a:ext cx="1890720" cy="326520"/>
            <a:chOff x="4086360" y="1674720"/>
            <a:chExt cx="1890720" cy="326520"/>
          </a:xfrm>
        </p:grpSpPr>
        <p:sp>
          <p:nvSpPr>
            <p:cNvPr id="475" name=""/>
            <p:cNvSpPr/>
            <p:nvPr/>
          </p:nvSpPr>
          <p:spPr>
            <a:xfrm>
              <a:off x="4626000" y="167940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86360" y="1674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LCK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089680" y="1679400"/>
            <a:ext cx="1890720" cy="331560"/>
            <a:chOff x="5089680" y="1679400"/>
            <a:chExt cx="1890720" cy="331560"/>
          </a:xfrm>
        </p:grpSpPr>
        <p:sp>
          <p:nvSpPr>
            <p:cNvPr id="478" name=""/>
            <p:cNvSpPr/>
            <p:nvPr/>
          </p:nvSpPr>
          <p:spPr>
            <a:xfrm>
              <a:off x="5597640" y="167940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89680" y="16844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104920" y="1674720"/>
            <a:ext cx="1890720" cy="326520"/>
            <a:chOff x="2104920" y="1674720"/>
            <a:chExt cx="1890720" cy="326520"/>
          </a:xfrm>
        </p:grpSpPr>
        <p:sp>
          <p:nvSpPr>
            <p:cNvPr id="481" name=""/>
            <p:cNvSpPr/>
            <p:nvPr/>
          </p:nvSpPr>
          <p:spPr>
            <a:xfrm>
              <a:off x="2625840" y="167940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04920" y="1674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100320" y="1679400"/>
            <a:ext cx="1890720" cy="331560"/>
            <a:chOff x="3100320" y="1679400"/>
            <a:chExt cx="1890720" cy="331560"/>
          </a:xfrm>
        </p:grpSpPr>
        <p:sp>
          <p:nvSpPr>
            <p:cNvPr id="484" name=""/>
            <p:cNvSpPr/>
            <p:nvPr/>
          </p:nvSpPr>
          <p:spPr>
            <a:xfrm>
              <a:off x="3616200" y="167940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00320" y="16844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N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6056280" y="1673280"/>
            <a:ext cx="1890720" cy="333360"/>
            <a:chOff x="6056280" y="1673280"/>
            <a:chExt cx="1890720" cy="333360"/>
          </a:xfrm>
        </p:grpSpPr>
        <p:sp>
          <p:nvSpPr>
            <p:cNvPr id="487" name=""/>
            <p:cNvSpPr/>
            <p:nvPr/>
          </p:nvSpPr>
          <p:spPr>
            <a:xfrm>
              <a:off x="6588000" y="168768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56280" y="16732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1228680" y="2543040"/>
            <a:ext cx="6781680" cy="20383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568520" y="3389400"/>
            <a:ext cx="1552680" cy="957240"/>
            <a:chOff x="1568520" y="3389400"/>
            <a:chExt cx="1552680" cy="957240"/>
          </a:xfrm>
        </p:grpSpPr>
        <p:sp>
          <p:nvSpPr>
            <p:cNvPr id="491" name=""/>
            <p:cNvSpPr/>
            <p:nvPr/>
          </p:nvSpPr>
          <p:spPr>
            <a:xfrm>
              <a:off x="1568520" y="3389400"/>
              <a:ext cx="1552680" cy="9572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52760" y="3675240"/>
              <a:ext cx="603000" cy="55080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38280" y="3675240"/>
              <a:ext cx="601920" cy="55080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340320" y="3292560"/>
            <a:ext cx="1032120" cy="1114200"/>
            <a:chOff x="6340320" y="3292560"/>
            <a:chExt cx="1032120" cy="1114200"/>
          </a:xfrm>
        </p:grpSpPr>
        <p:sp>
          <p:nvSpPr>
            <p:cNvPr id="495" name=""/>
            <p:cNvSpPr/>
            <p:nvPr/>
          </p:nvSpPr>
          <p:spPr>
            <a:xfrm>
              <a:off x="6346800" y="3298680"/>
              <a:ext cx="1019160" cy="1105200"/>
            </a:xfrm>
            <a:custGeom>
              <a:avLst/>
              <a:gdLst>
                <a:gd name="textAreaLeft" fmla="*/ 37080 w 1019160"/>
                <a:gd name="textAreaRight" fmla="*/ 982080 w 1019160"/>
                <a:gd name="textAreaTop" fmla="*/ 37080 h 1105200"/>
                <a:gd name="textAreaBottom" fmla="*/ 1068120 h 1105200"/>
              </a:gdLst>
              <a:ahLst/>
              <a:rect l="textAreaLeft" t="textAreaTop" r="textAreaRight" b="textAreaBottom"/>
              <a:pathLst>
                <a:path w="21600" h="23423">
                  <a:moveTo>
                    <a:pt x="2699" y="0"/>
                  </a:moveTo>
                  <a:arcTo wR="2699" hR="2699" stAng="16200000" swAng="-5400000"/>
                  <a:lnTo>
                    <a:pt x="0" y="20724"/>
                  </a:lnTo>
                  <a:arcTo wR="2699" hR="2699" stAng="10800000" swAng="-5400000"/>
                  <a:lnTo>
                    <a:pt x="18901" y="2342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62680" y="3292560"/>
              <a:ext cx="3240" cy="111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40320" y="4259160"/>
              <a:ext cx="103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42120" y="4091040"/>
              <a:ext cx="1023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40320" y="3292560"/>
              <a:ext cx="376560" cy="720720"/>
            </a:xfrm>
            <a:custGeom>
              <a:avLst/>
              <a:gdLst>
                <a:gd name="textAreaLeft" fmla="*/ 13680 w 376560"/>
                <a:gd name="textAreaRight" fmla="*/ 362880 w 376560"/>
                <a:gd name="textAreaTop" fmla="*/ 13680 h 720720"/>
                <a:gd name="textAreaBottom" fmla="*/ 707040 h 720720"/>
              </a:gdLst>
              <a:ahLst/>
              <a:rect l="textAreaLeft" t="textAreaTop" r="textAreaRight" b="textAreaBottom"/>
              <a:pathLst>
                <a:path w="21600" h="41323">
                  <a:moveTo>
                    <a:pt x="2699" y="0"/>
                  </a:moveTo>
                  <a:arcTo wR="2699" hR="2699" stAng="16200000" swAng="-5400000"/>
                  <a:lnTo>
                    <a:pt x="0" y="38624"/>
                  </a:lnTo>
                  <a:arcTo wR="2699" hR="2699" stAng="10800000" swAng="-5400000"/>
                  <a:lnTo>
                    <a:pt x="18901" y="4132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42120" y="3606840"/>
              <a:ext cx="103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40320" y="3925800"/>
              <a:ext cx="103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40320" y="3770280"/>
              <a:ext cx="103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42120" y="3448080"/>
              <a:ext cx="103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1171440" y="3048120"/>
            <a:ext cx="2276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03600" y="3041640"/>
            <a:ext cx="2276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305240" y="2577960"/>
            <a:ext cx="97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45240" y="2955960"/>
            <a:ext cx="2276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edo Log Buff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3840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03848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38560" y="198900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1998720"/>
            <a:ext cx="19080" cy="5443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48640" y="2017800"/>
            <a:ext cx="18720" cy="5443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5756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190520" y="3409920"/>
            <a:ext cx="227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SQL Are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587760" y="3432240"/>
            <a:ext cx="2203560" cy="981000"/>
            <a:chOff x="3587760" y="3432240"/>
            <a:chExt cx="2203560" cy="981000"/>
          </a:xfrm>
        </p:grpSpPr>
        <p:grpSp>
          <p:nvGrpSpPr>
            <p:cNvPr id="516" name=""/>
            <p:cNvGrpSpPr/>
            <p:nvPr/>
          </p:nvGrpSpPr>
          <p:grpSpPr>
            <a:xfrm>
              <a:off x="3587760" y="3432240"/>
              <a:ext cx="2203560" cy="981000"/>
              <a:chOff x="3587760" y="3432240"/>
              <a:chExt cx="2203560" cy="981000"/>
            </a:xfrm>
          </p:grpSpPr>
          <p:sp>
            <p:nvSpPr>
              <p:cNvPr id="517" name=""/>
              <p:cNvSpPr/>
              <p:nvPr/>
            </p:nvSpPr>
            <p:spPr>
              <a:xfrm>
                <a:off x="3594240" y="3438360"/>
                <a:ext cx="2190600" cy="96840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44960" y="3432240"/>
                <a:ext cx="0" cy="9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651200" y="3432240"/>
                <a:ext cx="0" cy="9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261040" y="3432240"/>
                <a:ext cx="0" cy="98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587760" y="3821040"/>
                <a:ext cx="2203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587760" y="4135320"/>
                <a:ext cx="2203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95800" y="3436920"/>
                <a:ext cx="0" cy="9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411880" y="3436920"/>
                <a:ext cx="0" cy="9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733920" y="3436920"/>
                <a:ext cx="0" cy="9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343400" y="3436920"/>
                <a:ext cx="0" cy="9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948200" y="3436920"/>
                <a:ext cx="0" cy="9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884760" y="3441600"/>
                <a:ext cx="0" cy="95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495680" y="3441600"/>
                <a:ext cx="0" cy="95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02280" y="3441600"/>
                <a:ext cx="0" cy="9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95920" y="3432240"/>
                <a:ext cx="0" cy="9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49760" y="3436920"/>
                <a:ext cx="0" cy="9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689440" y="3436920"/>
                <a:ext cx="0" cy="9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587760" y="3970440"/>
                <a:ext cx="2203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587760" y="4287960"/>
                <a:ext cx="2203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587760" y="3684600"/>
                <a:ext cx="2203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87760" y="3557520"/>
                <a:ext cx="2203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3602160" y="3560760"/>
              <a:ext cx="1346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24200" y="3560760"/>
              <a:ext cx="15264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02400" y="3565440"/>
              <a:ext cx="7452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10200" y="3564000"/>
              <a:ext cx="1461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68960" y="3564000"/>
              <a:ext cx="14112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02280" y="3564000"/>
              <a:ext cx="1458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92680" y="3975120"/>
              <a:ext cx="15228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29120" y="3979800"/>
              <a:ext cx="1602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64160" y="3449520"/>
              <a:ext cx="109440" cy="921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57680" y="3689280"/>
              <a:ext cx="12240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02160" y="3979800"/>
              <a:ext cx="136440" cy="141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02280" y="3822840"/>
              <a:ext cx="13464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60920" y="4143240"/>
              <a:ext cx="119160" cy="1317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03720" y="3973680"/>
              <a:ext cx="15264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02280" y="4148280"/>
              <a:ext cx="12528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9880" y="4287960"/>
              <a:ext cx="13968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10200" y="4140360"/>
              <a:ext cx="15552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65720" y="4138560"/>
              <a:ext cx="1396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89440" y="4292640"/>
              <a:ext cx="1476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41840" y="4302000"/>
              <a:ext cx="123840" cy="939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30960" y="3830760"/>
              <a:ext cx="10620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4680" y="3827520"/>
              <a:ext cx="136440" cy="1299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25920" y="4145040"/>
              <a:ext cx="111240" cy="127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57680" y="3827520"/>
              <a:ext cx="131760" cy="13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02040" y="3689280"/>
              <a:ext cx="14148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1440" y="4287960"/>
              <a:ext cx="14616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Process RECO, LCK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n</a:t>
            </a: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, P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nnn</a:t>
            </a: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, et SNP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6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rocess Recover (RECO) résoud les erreurs concernant une transaction distribué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rocess Lock (LCK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n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) réalise le verrouillage inter-instance dans un système parallel serv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rocess Parallel Query (P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nnn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) permet le parallélisme des requêtes, de la création d’index, du chargement de données, et de la commande CREATE TABLE AS SELEC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rocess Snapshot (SNP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n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) réalise les rafraîchissements automatiques des snapshots (tables répliquées en lecture-seule). Il est également responsable des files d’attente job au niveau du serveur et des files de réplication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97600" y="4908600"/>
            <a:ext cx="127764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Process Utilisateur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44960" y="475632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51200" y="480996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52800" y="2543040"/>
            <a:ext cx="4857480" cy="1657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400480" y="3332160"/>
            <a:ext cx="1158840" cy="682560"/>
            <a:chOff x="2400480" y="3332160"/>
            <a:chExt cx="1158840" cy="682560"/>
          </a:xfrm>
        </p:grpSpPr>
        <p:sp>
          <p:nvSpPr>
            <p:cNvPr id="576" name=""/>
            <p:cNvSpPr/>
            <p:nvPr/>
          </p:nvSpPr>
          <p:spPr>
            <a:xfrm>
              <a:off x="2400480" y="3332160"/>
              <a:ext cx="1158840" cy="68256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62040" y="3535200"/>
              <a:ext cx="451080" cy="3952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49560" y="3535200"/>
              <a:ext cx="450720" cy="3952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111720" y="3292560"/>
            <a:ext cx="617760" cy="726840"/>
            <a:chOff x="6111720" y="3292560"/>
            <a:chExt cx="617760" cy="726840"/>
          </a:xfrm>
        </p:grpSpPr>
        <p:sp>
          <p:nvSpPr>
            <p:cNvPr id="580" name=""/>
            <p:cNvSpPr/>
            <p:nvPr/>
          </p:nvSpPr>
          <p:spPr>
            <a:xfrm>
              <a:off x="6118200" y="3298680"/>
              <a:ext cx="604800" cy="716040"/>
            </a:xfrm>
            <a:custGeom>
              <a:avLst/>
              <a:gdLst>
                <a:gd name="textAreaLeft" fmla="*/ 21960 w 604800"/>
                <a:gd name="textAreaRight" fmla="*/ 582840 w 604800"/>
                <a:gd name="textAreaTop" fmla="*/ 21960 h 716040"/>
                <a:gd name="textAreaBottom" fmla="*/ 694080 h 716040"/>
              </a:gdLst>
              <a:ahLst/>
              <a:rect l="textAreaLeft" t="textAreaTop" r="textAreaRight" b="textAreaBottom"/>
              <a:pathLst>
                <a:path w="21600" h="25570">
                  <a:moveTo>
                    <a:pt x="2699" y="0"/>
                  </a:moveTo>
                  <a:arcTo wR="2699" hR="2699" stAng="16200000" swAng="-5400000"/>
                  <a:lnTo>
                    <a:pt x="0" y="22871"/>
                  </a:lnTo>
                  <a:arcTo wR="2699" hR="2699" stAng="10800000" swAng="-5400000"/>
                  <a:lnTo>
                    <a:pt x="18901" y="2557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24560" y="3292560"/>
              <a:ext cx="1800" cy="72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11720" y="392256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13520" y="3813120"/>
              <a:ext cx="61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111720" y="3292560"/>
              <a:ext cx="225720" cy="469800"/>
            </a:xfrm>
            <a:custGeom>
              <a:avLst/>
              <a:gdLst>
                <a:gd name="textAreaLeft" fmla="*/ 7920 w 225720"/>
                <a:gd name="textAreaRight" fmla="*/ 217800 w 225720"/>
                <a:gd name="textAreaTop" fmla="*/ 7920 h 469800"/>
                <a:gd name="textAreaBottom" fmla="*/ 461880 h 469800"/>
              </a:gdLst>
              <a:ahLst/>
              <a:rect l="textAreaLeft" t="textAreaTop" r="textAreaRight" b="textAreaBottom"/>
              <a:pathLst>
                <a:path w="21600" h="44920">
                  <a:moveTo>
                    <a:pt x="2699" y="0"/>
                  </a:moveTo>
                  <a:arcTo wR="2699" hR="2699" stAng="16200000" swAng="-5400000"/>
                  <a:lnTo>
                    <a:pt x="0" y="42221"/>
                  </a:lnTo>
                  <a:arcTo wR="2699" hR="2699" stAng="10800000" swAng="-5400000"/>
                  <a:lnTo>
                    <a:pt x="18901" y="4492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13520" y="349740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11720" y="370512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11720" y="360360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13520" y="339408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4305240" y="2577960"/>
            <a:ext cx="97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327800" y="3652920"/>
            <a:ext cx="828720" cy="31896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387360" y="3122640"/>
            <a:ext cx="1890720" cy="326520"/>
            <a:chOff x="387360" y="3122640"/>
            <a:chExt cx="1890720" cy="326520"/>
          </a:xfrm>
        </p:grpSpPr>
        <p:sp>
          <p:nvSpPr>
            <p:cNvPr id="592" name=""/>
            <p:cNvSpPr/>
            <p:nvPr/>
          </p:nvSpPr>
          <p:spPr>
            <a:xfrm>
              <a:off x="907920" y="31226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7360" y="31226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B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800760" y="2603520"/>
            <a:ext cx="1890720" cy="331200"/>
            <a:chOff x="6800760" y="2603520"/>
            <a:chExt cx="1890720" cy="331200"/>
          </a:xfrm>
        </p:grpSpPr>
        <p:sp>
          <p:nvSpPr>
            <p:cNvPr id="595" name=""/>
            <p:cNvSpPr/>
            <p:nvPr/>
          </p:nvSpPr>
          <p:spPr>
            <a:xfrm>
              <a:off x="7324560" y="260352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00760" y="26082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K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41360" y="3740040"/>
            <a:ext cx="1890720" cy="328320"/>
            <a:chOff x="441360" y="3740040"/>
            <a:chExt cx="1890720" cy="328320"/>
          </a:xfrm>
        </p:grpSpPr>
        <p:sp>
          <p:nvSpPr>
            <p:cNvPr id="598" name=""/>
            <p:cNvSpPr/>
            <p:nvPr/>
          </p:nvSpPr>
          <p:spPr>
            <a:xfrm>
              <a:off x="947880" y="3740040"/>
              <a:ext cx="82836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1360" y="37418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G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6815160" y="3660840"/>
            <a:ext cx="1890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1803240" y="3695400"/>
            <a:ext cx="409680" cy="284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020000" y="2790720"/>
            <a:ext cx="295200" cy="4381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00920" y="3505320"/>
            <a:ext cx="323640" cy="390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07880" y="2449440"/>
            <a:ext cx="1890720" cy="326520"/>
            <a:chOff x="407880" y="2449440"/>
            <a:chExt cx="1890720" cy="326520"/>
          </a:xfrm>
        </p:grpSpPr>
        <p:sp>
          <p:nvSpPr>
            <p:cNvPr id="605" name=""/>
            <p:cNvSpPr/>
            <p:nvPr/>
          </p:nvSpPr>
          <p:spPr>
            <a:xfrm>
              <a:off x="936720" y="245412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7880" y="24494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82920" y="1611360"/>
            <a:ext cx="1890720" cy="326520"/>
            <a:chOff x="2482920" y="1611360"/>
            <a:chExt cx="1890720" cy="326520"/>
          </a:xfrm>
        </p:grpSpPr>
        <p:sp>
          <p:nvSpPr>
            <p:cNvPr id="608" name=""/>
            <p:cNvSpPr/>
            <p:nvPr/>
          </p:nvSpPr>
          <p:spPr>
            <a:xfrm>
              <a:off x="30225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82920" y="16113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LCK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571920" y="1616040"/>
            <a:ext cx="1890720" cy="331200"/>
            <a:chOff x="3571920" y="1616040"/>
            <a:chExt cx="1890720" cy="331200"/>
          </a:xfrm>
        </p:grpSpPr>
        <p:sp>
          <p:nvSpPr>
            <p:cNvPr id="611" name=""/>
            <p:cNvSpPr/>
            <p:nvPr/>
          </p:nvSpPr>
          <p:spPr>
            <a:xfrm>
              <a:off x="407988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71920" y="1620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44600" y="1611360"/>
            <a:ext cx="1890720" cy="326520"/>
            <a:chOff x="444600" y="1611360"/>
            <a:chExt cx="1890720" cy="326520"/>
          </a:xfrm>
        </p:grpSpPr>
        <p:sp>
          <p:nvSpPr>
            <p:cNvPr id="614" name=""/>
            <p:cNvSpPr/>
            <p:nvPr/>
          </p:nvSpPr>
          <p:spPr>
            <a:xfrm>
              <a:off x="9651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4600" y="16113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459080" y="1616040"/>
            <a:ext cx="1890720" cy="331200"/>
            <a:chOff x="1459080" y="1616040"/>
            <a:chExt cx="1890720" cy="331200"/>
          </a:xfrm>
        </p:grpSpPr>
        <p:sp>
          <p:nvSpPr>
            <p:cNvPr id="617" name=""/>
            <p:cNvSpPr/>
            <p:nvPr/>
          </p:nvSpPr>
          <p:spPr>
            <a:xfrm>
              <a:off x="19749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59080" y="1620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N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548240" y="1609560"/>
            <a:ext cx="1890720" cy="333720"/>
            <a:chOff x="4548240" y="1609560"/>
            <a:chExt cx="1890720" cy="333720"/>
          </a:xfrm>
        </p:grpSpPr>
        <p:sp>
          <p:nvSpPr>
            <p:cNvPr id="620" name=""/>
            <p:cNvSpPr/>
            <p:nvPr/>
          </p:nvSpPr>
          <p:spPr>
            <a:xfrm>
              <a:off x="5079960" y="162396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48240" y="16095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49552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45744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24480" y="198900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600880" y="2006640"/>
            <a:ext cx="0" cy="5364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53080" y="1994040"/>
            <a:ext cx="0" cy="555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09760" y="2000160"/>
            <a:ext cx="799920" cy="5907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6656400" y="1631880"/>
            <a:ext cx="1890720" cy="333360"/>
            <a:chOff x="6656400" y="1631880"/>
            <a:chExt cx="1890720" cy="333360"/>
          </a:xfrm>
        </p:grpSpPr>
        <p:sp>
          <p:nvSpPr>
            <p:cNvPr id="629" name=""/>
            <p:cNvSpPr/>
            <p:nvPr/>
          </p:nvSpPr>
          <p:spPr>
            <a:xfrm>
              <a:off x="7188120" y="164628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56400" y="16318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 flipH="1">
            <a:off x="6943320" y="1998720"/>
            <a:ext cx="600120" cy="582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333520" y="2967120"/>
            <a:ext cx="129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03600" y="2967120"/>
            <a:ext cx="227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867280" y="2784600"/>
            <a:ext cx="1123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Redo Log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3943440" y="3343320"/>
            <a:ext cx="1560600" cy="695160"/>
            <a:chOff x="3943440" y="3343320"/>
            <a:chExt cx="1560600" cy="695160"/>
          </a:xfrm>
        </p:grpSpPr>
        <p:grpSp>
          <p:nvGrpSpPr>
            <p:cNvPr id="636" name=""/>
            <p:cNvGrpSpPr/>
            <p:nvPr/>
          </p:nvGrpSpPr>
          <p:grpSpPr>
            <a:xfrm>
              <a:off x="3943440" y="3343320"/>
              <a:ext cx="1560600" cy="695160"/>
              <a:chOff x="3943440" y="3343320"/>
              <a:chExt cx="1560600" cy="695160"/>
            </a:xfrm>
          </p:grpSpPr>
          <p:sp>
            <p:nvSpPr>
              <p:cNvPr id="637" name=""/>
              <p:cNvSpPr/>
              <p:nvPr/>
            </p:nvSpPr>
            <p:spPr>
              <a:xfrm>
                <a:off x="3949560" y="3349800"/>
                <a:ext cx="1548000" cy="68256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6708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69584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12928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43440" y="361944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943440" y="384192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37364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23548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46400" y="3346560"/>
                <a:ext cx="0" cy="682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784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068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154400" y="3349800"/>
                <a:ext cx="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586400" y="3349800"/>
                <a:ext cx="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16600" y="3349800"/>
                <a:ext cx="0" cy="68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799160" y="334332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33412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4324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943440" y="372420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943440" y="394956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943440" y="352260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943440" y="343224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3954600" y="3433680"/>
              <a:ext cx="9504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40280" y="3433680"/>
              <a:ext cx="10800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40320" y="3438360"/>
              <a:ext cx="5256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021280" y="3436920"/>
              <a:ext cx="10332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33960" y="3436920"/>
              <a:ext cx="10008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78320" y="3436920"/>
              <a:ext cx="1033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59080" y="3727440"/>
              <a:ext cx="108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255920" y="3730680"/>
              <a:ext cx="11304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705200" y="3355920"/>
              <a:ext cx="77760" cy="651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02320" y="3525840"/>
              <a:ext cx="8568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591080" y="3730680"/>
              <a:ext cx="96840" cy="1015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78320" y="3619440"/>
              <a:ext cx="9540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03760" y="3846600"/>
              <a:ext cx="84240" cy="93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8040" y="3727440"/>
              <a:ext cx="106560" cy="11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78320" y="3851280"/>
              <a:ext cx="88920" cy="87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83080" y="3949560"/>
              <a:ext cx="1000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21280" y="3844800"/>
              <a:ext cx="1094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32520" y="3843360"/>
              <a:ext cx="9828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157640" y="3952800"/>
              <a:ext cx="10332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52880" y="3959280"/>
              <a:ext cx="87480" cy="66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49880" y="3625920"/>
              <a:ext cx="74520" cy="871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11840" y="3624120"/>
              <a:ext cx="96840" cy="90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45200" y="3848040"/>
              <a:ext cx="79200" cy="90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02320" y="3624120"/>
              <a:ext cx="9180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03840" y="3525840"/>
              <a:ext cx="10008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8600" y="3949560"/>
              <a:ext cx="1029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 flipV="1">
            <a:off x="1739880" y="3085920"/>
            <a:ext cx="409680" cy="284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90640" y="2616120"/>
            <a:ext cx="343080" cy="279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589720" y="1619280"/>
            <a:ext cx="1890720" cy="333360"/>
            <a:chOff x="5589720" y="1619280"/>
            <a:chExt cx="1890720" cy="333360"/>
          </a:xfrm>
        </p:grpSpPr>
        <p:sp>
          <p:nvSpPr>
            <p:cNvPr id="687" name=""/>
            <p:cNvSpPr/>
            <p:nvPr/>
          </p:nvSpPr>
          <p:spPr>
            <a:xfrm>
              <a:off x="6121440" y="163368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9720" y="16192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600200" y="2438280"/>
            <a:ext cx="6019920" cy="2819520"/>
          </a:xfrm>
          <a:prstGeom prst="roundRect">
            <a:avLst>
              <a:gd name="adj" fmla="val 12495"/>
            </a:avLst>
          </a:prstGeom>
          <a:solidFill>
            <a:srgbClr val="618ffd"/>
          </a:soli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onfiguration de la PGA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152800" y="3124080"/>
            <a:ext cx="4857480" cy="17622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00480" y="3664080"/>
            <a:ext cx="1158840" cy="9604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05240" y="3187800"/>
            <a:ext cx="97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333520" y="3881520"/>
            <a:ext cx="129564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502160" y="3664080"/>
            <a:ext cx="2181240" cy="1036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41680" y="3881520"/>
            <a:ext cx="227664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nnées de la se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352680" y="2577960"/>
            <a:ext cx="31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rocess Utilisat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44720" y="4911840"/>
            <a:ext cx="131148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692440" y="4759200"/>
            <a:ext cx="131112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03360" y="4886280"/>
            <a:ext cx="1890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Serveu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152800" y="2543040"/>
            <a:ext cx="4857480" cy="1657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400480" y="3332160"/>
            <a:ext cx="1158840" cy="682560"/>
            <a:chOff x="2400480" y="3332160"/>
            <a:chExt cx="1158840" cy="682560"/>
          </a:xfrm>
        </p:grpSpPr>
        <p:sp>
          <p:nvSpPr>
            <p:cNvPr id="707" name=""/>
            <p:cNvSpPr/>
            <p:nvPr/>
          </p:nvSpPr>
          <p:spPr>
            <a:xfrm>
              <a:off x="2400480" y="3332160"/>
              <a:ext cx="1158840" cy="68256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462040" y="3535200"/>
              <a:ext cx="451080" cy="3952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49560" y="3535200"/>
              <a:ext cx="450720" cy="3952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6111720" y="3292560"/>
            <a:ext cx="617760" cy="726840"/>
            <a:chOff x="6111720" y="3292560"/>
            <a:chExt cx="617760" cy="726840"/>
          </a:xfrm>
        </p:grpSpPr>
        <p:sp>
          <p:nvSpPr>
            <p:cNvPr id="711" name=""/>
            <p:cNvSpPr/>
            <p:nvPr/>
          </p:nvSpPr>
          <p:spPr>
            <a:xfrm>
              <a:off x="6118200" y="3298680"/>
              <a:ext cx="604800" cy="716040"/>
            </a:xfrm>
            <a:custGeom>
              <a:avLst/>
              <a:gdLst>
                <a:gd name="textAreaLeft" fmla="*/ 21960 w 604800"/>
                <a:gd name="textAreaRight" fmla="*/ 582840 w 604800"/>
                <a:gd name="textAreaTop" fmla="*/ 21960 h 716040"/>
                <a:gd name="textAreaBottom" fmla="*/ 694080 h 716040"/>
              </a:gdLst>
              <a:ahLst/>
              <a:rect l="textAreaLeft" t="textAreaTop" r="textAreaRight" b="textAreaBottom"/>
              <a:pathLst>
                <a:path w="21600" h="25570">
                  <a:moveTo>
                    <a:pt x="2699" y="0"/>
                  </a:moveTo>
                  <a:arcTo wR="2699" hR="2699" stAng="16200000" swAng="-5400000"/>
                  <a:lnTo>
                    <a:pt x="0" y="22871"/>
                  </a:lnTo>
                  <a:arcTo wR="2699" hR="2699" stAng="10800000" swAng="-5400000"/>
                  <a:lnTo>
                    <a:pt x="18901" y="2557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24560" y="3292560"/>
              <a:ext cx="1800" cy="72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11720" y="392256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13520" y="3813120"/>
              <a:ext cx="61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11720" y="3292560"/>
              <a:ext cx="225720" cy="469800"/>
            </a:xfrm>
            <a:custGeom>
              <a:avLst/>
              <a:gdLst>
                <a:gd name="textAreaLeft" fmla="*/ 7920 w 225720"/>
                <a:gd name="textAreaRight" fmla="*/ 217800 w 225720"/>
                <a:gd name="textAreaTop" fmla="*/ 7920 h 469800"/>
                <a:gd name="textAreaBottom" fmla="*/ 461880 h 469800"/>
              </a:gdLst>
              <a:ahLst/>
              <a:rect l="textAreaLeft" t="textAreaTop" r="textAreaRight" b="textAreaBottom"/>
              <a:pathLst>
                <a:path w="21600" h="44920">
                  <a:moveTo>
                    <a:pt x="2699" y="0"/>
                  </a:moveTo>
                  <a:arcTo wR="2699" hR="2699" stAng="16200000" swAng="-5400000"/>
                  <a:lnTo>
                    <a:pt x="0" y="42221"/>
                  </a:lnTo>
                  <a:arcTo wR="2699" hR="2699" stAng="10800000" swAng="-5400000"/>
                  <a:lnTo>
                    <a:pt x="18901" y="4492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13520" y="349740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11720" y="370512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11720" y="360360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13520" y="339408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Process Serveur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305240" y="2577960"/>
            <a:ext cx="97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27800" y="3652920"/>
            <a:ext cx="828720" cy="31896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387360" y="3122640"/>
            <a:ext cx="1890720" cy="326520"/>
            <a:chOff x="387360" y="3122640"/>
            <a:chExt cx="1890720" cy="326520"/>
          </a:xfrm>
        </p:grpSpPr>
        <p:sp>
          <p:nvSpPr>
            <p:cNvPr id="724" name=""/>
            <p:cNvSpPr/>
            <p:nvPr/>
          </p:nvSpPr>
          <p:spPr>
            <a:xfrm>
              <a:off x="907920" y="31226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7360" y="31226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B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800760" y="2603520"/>
            <a:ext cx="1890720" cy="331200"/>
            <a:chOff x="6800760" y="2603520"/>
            <a:chExt cx="1890720" cy="331200"/>
          </a:xfrm>
        </p:grpSpPr>
        <p:sp>
          <p:nvSpPr>
            <p:cNvPr id="727" name=""/>
            <p:cNvSpPr/>
            <p:nvPr/>
          </p:nvSpPr>
          <p:spPr>
            <a:xfrm>
              <a:off x="7324560" y="260352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00760" y="26082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K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41360" y="3740040"/>
            <a:ext cx="1890720" cy="328320"/>
            <a:chOff x="441360" y="3740040"/>
            <a:chExt cx="1890720" cy="328320"/>
          </a:xfrm>
        </p:grpSpPr>
        <p:sp>
          <p:nvSpPr>
            <p:cNvPr id="730" name=""/>
            <p:cNvSpPr/>
            <p:nvPr/>
          </p:nvSpPr>
          <p:spPr>
            <a:xfrm>
              <a:off x="947880" y="3740040"/>
              <a:ext cx="82836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1360" y="37418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G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6815160" y="3660840"/>
            <a:ext cx="1890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352680" y="4238640"/>
            <a:ext cx="0" cy="5144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03240" y="3695400"/>
            <a:ext cx="409680" cy="284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7020000" y="2790720"/>
            <a:ext cx="295200" cy="4381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00920" y="3505320"/>
            <a:ext cx="323640" cy="390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097600" y="4908600"/>
            <a:ext cx="127764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44960" y="475632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651200" y="4886280"/>
            <a:ext cx="1890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10040" y="5057640"/>
            <a:ext cx="93348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407880" y="2449440"/>
            <a:ext cx="1890720" cy="326520"/>
            <a:chOff x="407880" y="2449440"/>
            <a:chExt cx="1890720" cy="326520"/>
          </a:xfrm>
        </p:grpSpPr>
        <p:sp>
          <p:nvSpPr>
            <p:cNvPr id="742" name=""/>
            <p:cNvSpPr/>
            <p:nvPr/>
          </p:nvSpPr>
          <p:spPr>
            <a:xfrm>
              <a:off x="936720" y="245412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7880" y="24494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2482920" y="1611360"/>
            <a:ext cx="1890720" cy="326520"/>
            <a:chOff x="2482920" y="1611360"/>
            <a:chExt cx="1890720" cy="326520"/>
          </a:xfrm>
        </p:grpSpPr>
        <p:sp>
          <p:nvSpPr>
            <p:cNvPr id="745" name=""/>
            <p:cNvSpPr/>
            <p:nvPr/>
          </p:nvSpPr>
          <p:spPr>
            <a:xfrm>
              <a:off x="30225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482920" y="16113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LCK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571920" y="1616040"/>
            <a:ext cx="1890720" cy="331200"/>
            <a:chOff x="3571920" y="1616040"/>
            <a:chExt cx="1890720" cy="331200"/>
          </a:xfrm>
        </p:grpSpPr>
        <p:sp>
          <p:nvSpPr>
            <p:cNvPr id="748" name=""/>
            <p:cNvSpPr/>
            <p:nvPr/>
          </p:nvSpPr>
          <p:spPr>
            <a:xfrm>
              <a:off x="407988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71920" y="1620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44600" y="1611360"/>
            <a:ext cx="1890720" cy="326520"/>
            <a:chOff x="444600" y="1611360"/>
            <a:chExt cx="1890720" cy="326520"/>
          </a:xfrm>
        </p:grpSpPr>
        <p:sp>
          <p:nvSpPr>
            <p:cNvPr id="751" name=""/>
            <p:cNvSpPr/>
            <p:nvPr/>
          </p:nvSpPr>
          <p:spPr>
            <a:xfrm>
              <a:off x="9651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44600" y="16113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459080" y="1616040"/>
            <a:ext cx="1890720" cy="331200"/>
            <a:chOff x="1459080" y="1616040"/>
            <a:chExt cx="1890720" cy="331200"/>
          </a:xfrm>
        </p:grpSpPr>
        <p:sp>
          <p:nvSpPr>
            <p:cNvPr id="754" name=""/>
            <p:cNvSpPr/>
            <p:nvPr/>
          </p:nvSpPr>
          <p:spPr>
            <a:xfrm>
              <a:off x="19749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459080" y="1620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N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4548240" y="1609560"/>
            <a:ext cx="1890720" cy="333720"/>
            <a:chOff x="4548240" y="1609560"/>
            <a:chExt cx="1890720" cy="333720"/>
          </a:xfrm>
        </p:grpSpPr>
        <p:sp>
          <p:nvSpPr>
            <p:cNvPr id="757" name=""/>
            <p:cNvSpPr/>
            <p:nvPr/>
          </p:nvSpPr>
          <p:spPr>
            <a:xfrm>
              <a:off x="5079960" y="162396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48240" y="16095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49552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45744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24480" y="198900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600880" y="2006640"/>
            <a:ext cx="0" cy="5364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553080" y="1994040"/>
            <a:ext cx="0" cy="555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09760" y="2000160"/>
            <a:ext cx="799920" cy="5907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656400" y="1631880"/>
            <a:ext cx="1890720" cy="333360"/>
            <a:chOff x="6656400" y="1631880"/>
            <a:chExt cx="1890720" cy="333360"/>
          </a:xfrm>
        </p:grpSpPr>
        <p:sp>
          <p:nvSpPr>
            <p:cNvPr id="766" name=""/>
            <p:cNvSpPr/>
            <p:nvPr/>
          </p:nvSpPr>
          <p:spPr>
            <a:xfrm>
              <a:off x="7188120" y="164628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56400" y="16318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 flipH="1">
            <a:off x="6943320" y="1998720"/>
            <a:ext cx="600120" cy="582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33520" y="2967120"/>
            <a:ext cx="129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603600" y="2967120"/>
            <a:ext cx="227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867280" y="2784600"/>
            <a:ext cx="1123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Redo Log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943440" y="3343320"/>
            <a:ext cx="1560600" cy="695160"/>
            <a:chOff x="3943440" y="3343320"/>
            <a:chExt cx="1560600" cy="695160"/>
          </a:xfrm>
        </p:grpSpPr>
        <p:grpSp>
          <p:nvGrpSpPr>
            <p:cNvPr id="773" name=""/>
            <p:cNvGrpSpPr/>
            <p:nvPr/>
          </p:nvGrpSpPr>
          <p:grpSpPr>
            <a:xfrm>
              <a:off x="3943440" y="3343320"/>
              <a:ext cx="1560600" cy="695160"/>
              <a:chOff x="3943440" y="3343320"/>
              <a:chExt cx="1560600" cy="695160"/>
            </a:xfrm>
          </p:grpSpPr>
          <p:sp>
            <p:nvSpPr>
              <p:cNvPr id="774" name=""/>
              <p:cNvSpPr/>
              <p:nvPr/>
            </p:nvSpPr>
            <p:spPr>
              <a:xfrm>
                <a:off x="3949560" y="3349800"/>
                <a:ext cx="1548000" cy="68256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6708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9584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2928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943440" y="361944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943440" y="384192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37364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23548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046400" y="3346560"/>
                <a:ext cx="0" cy="682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4784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068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154400" y="3349800"/>
                <a:ext cx="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586400" y="3349800"/>
                <a:ext cx="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016600" y="3349800"/>
                <a:ext cx="0" cy="68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99160" y="334332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3412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24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943440" y="372420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943440" y="394956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943440" y="352260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943440" y="343224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3954600" y="3433680"/>
              <a:ext cx="9504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40280" y="3433680"/>
              <a:ext cx="10800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440320" y="3438360"/>
              <a:ext cx="5256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21280" y="3436920"/>
              <a:ext cx="10332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133960" y="3436920"/>
              <a:ext cx="10008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378320" y="3436920"/>
              <a:ext cx="1033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159080" y="3727440"/>
              <a:ext cx="108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255920" y="3730680"/>
              <a:ext cx="11304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705200" y="3355920"/>
              <a:ext cx="77760" cy="651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702320" y="3525840"/>
              <a:ext cx="8568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91080" y="3730680"/>
              <a:ext cx="96840" cy="1015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78320" y="3619440"/>
              <a:ext cx="9540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703760" y="3846600"/>
              <a:ext cx="84240" cy="93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018040" y="3727440"/>
              <a:ext cx="106560" cy="11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78320" y="3851280"/>
              <a:ext cx="88920" cy="87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483080" y="3949560"/>
              <a:ext cx="1000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021280" y="3844800"/>
              <a:ext cx="1094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32520" y="3843360"/>
              <a:ext cx="9828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57640" y="3952800"/>
              <a:ext cx="10332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52880" y="3959280"/>
              <a:ext cx="87480" cy="66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49880" y="3625920"/>
              <a:ext cx="74520" cy="871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11840" y="3624120"/>
              <a:ext cx="96840" cy="90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245200" y="3848040"/>
              <a:ext cx="79200" cy="90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702320" y="3624120"/>
              <a:ext cx="9180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03840" y="3525840"/>
              <a:ext cx="10008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08600" y="3949560"/>
              <a:ext cx="1029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 flipV="1">
            <a:off x="1739880" y="3085920"/>
            <a:ext cx="409680" cy="284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790640" y="2616120"/>
            <a:ext cx="343080" cy="279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5589720" y="1619280"/>
            <a:ext cx="1890720" cy="333360"/>
            <a:chOff x="5589720" y="1619280"/>
            <a:chExt cx="1890720" cy="333360"/>
          </a:xfrm>
        </p:grpSpPr>
        <p:sp>
          <p:nvSpPr>
            <p:cNvPr id="824" name=""/>
            <p:cNvSpPr/>
            <p:nvPr/>
          </p:nvSpPr>
          <p:spPr>
            <a:xfrm>
              <a:off x="6121440" y="163368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589720" y="16192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911160" y="1676520"/>
            <a:ext cx="7220160" cy="304776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’Instance Orac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084640" y="540396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32120" y="5407200"/>
            <a:ext cx="1311120" cy="6346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679840" y="5254560"/>
            <a:ext cx="131112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512640" y="2165400"/>
            <a:ext cx="1890720" cy="326520"/>
            <a:chOff x="512640" y="2165400"/>
            <a:chExt cx="1890720" cy="326520"/>
          </a:xfrm>
        </p:grpSpPr>
        <p:sp>
          <p:nvSpPr>
            <p:cNvPr id="834" name=""/>
            <p:cNvSpPr/>
            <p:nvPr/>
          </p:nvSpPr>
          <p:spPr>
            <a:xfrm>
              <a:off x="1085760" y="2174760"/>
              <a:ext cx="74160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12640" y="21654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2390760" y="5381640"/>
            <a:ext cx="1890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Serv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3114720" y="2165400"/>
            <a:ext cx="1890720" cy="326520"/>
            <a:chOff x="3114720" y="2165400"/>
            <a:chExt cx="1890720" cy="326520"/>
          </a:xfrm>
        </p:grpSpPr>
        <p:sp>
          <p:nvSpPr>
            <p:cNvPr id="838" name=""/>
            <p:cNvSpPr/>
            <p:nvPr/>
          </p:nvSpPr>
          <p:spPr>
            <a:xfrm>
              <a:off x="3697200" y="2174760"/>
              <a:ext cx="74160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114720" y="21654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LCK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4041720" y="2171880"/>
            <a:ext cx="1890720" cy="326520"/>
            <a:chOff x="4041720" y="2171880"/>
            <a:chExt cx="1890720" cy="326520"/>
          </a:xfrm>
        </p:grpSpPr>
        <p:sp>
          <p:nvSpPr>
            <p:cNvPr id="841" name=""/>
            <p:cNvSpPr/>
            <p:nvPr/>
          </p:nvSpPr>
          <p:spPr>
            <a:xfrm>
              <a:off x="4595760" y="2171880"/>
              <a:ext cx="74124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41720" y="21718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1374840" y="2165400"/>
            <a:ext cx="1890720" cy="326520"/>
            <a:chOff x="1374840" y="2165400"/>
            <a:chExt cx="1890720" cy="326520"/>
          </a:xfrm>
        </p:grpSpPr>
        <p:sp>
          <p:nvSpPr>
            <p:cNvPr id="844" name=""/>
            <p:cNvSpPr/>
            <p:nvPr/>
          </p:nvSpPr>
          <p:spPr>
            <a:xfrm>
              <a:off x="1940040" y="2174760"/>
              <a:ext cx="74124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74840" y="21654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2268360" y="2171880"/>
            <a:ext cx="1890720" cy="326520"/>
            <a:chOff x="2268360" y="2171880"/>
            <a:chExt cx="1890720" cy="326520"/>
          </a:xfrm>
        </p:grpSpPr>
        <p:sp>
          <p:nvSpPr>
            <p:cNvPr id="847" name=""/>
            <p:cNvSpPr/>
            <p:nvPr/>
          </p:nvSpPr>
          <p:spPr>
            <a:xfrm>
              <a:off x="2830680" y="2171880"/>
              <a:ext cx="73944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268360" y="21718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N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894200" y="2165400"/>
            <a:ext cx="1890720" cy="326520"/>
            <a:chOff x="4894200" y="2165400"/>
            <a:chExt cx="1890720" cy="326520"/>
          </a:xfrm>
        </p:grpSpPr>
        <p:sp>
          <p:nvSpPr>
            <p:cNvPr id="850" name=""/>
            <p:cNvSpPr/>
            <p:nvPr/>
          </p:nvSpPr>
          <p:spPr>
            <a:xfrm>
              <a:off x="5470560" y="2182680"/>
              <a:ext cx="73980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894200" y="21654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378160" y="3038400"/>
            <a:ext cx="4352760" cy="14828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625840" y="3827520"/>
            <a:ext cx="1036440" cy="609480"/>
            <a:chOff x="2625840" y="3827520"/>
            <a:chExt cx="1036440" cy="609480"/>
          </a:xfrm>
        </p:grpSpPr>
        <p:sp>
          <p:nvSpPr>
            <p:cNvPr id="854" name=""/>
            <p:cNvSpPr/>
            <p:nvPr/>
          </p:nvSpPr>
          <p:spPr>
            <a:xfrm>
              <a:off x="2625840" y="3827520"/>
              <a:ext cx="1036440" cy="60948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681280" y="4008600"/>
              <a:ext cx="403200" cy="3538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06880" y="4008600"/>
              <a:ext cx="403200" cy="3538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927760" y="3787920"/>
            <a:ext cx="554040" cy="650880"/>
            <a:chOff x="5927760" y="3787920"/>
            <a:chExt cx="554040" cy="650880"/>
          </a:xfrm>
        </p:grpSpPr>
        <p:sp>
          <p:nvSpPr>
            <p:cNvPr id="858" name=""/>
            <p:cNvSpPr/>
            <p:nvPr/>
          </p:nvSpPr>
          <p:spPr>
            <a:xfrm>
              <a:off x="5934240" y="3794040"/>
              <a:ext cx="541080" cy="639720"/>
            </a:xfrm>
            <a:custGeom>
              <a:avLst/>
              <a:gdLst>
                <a:gd name="textAreaLeft" fmla="*/ 19800 w 541080"/>
                <a:gd name="textAreaRight" fmla="*/ 521280 w 541080"/>
                <a:gd name="textAreaTop" fmla="*/ 19800 h 639720"/>
                <a:gd name="textAreaBottom" fmla="*/ 619920 h 639720"/>
              </a:gdLst>
              <a:ahLst/>
              <a:rect l="textAreaLeft" t="textAreaTop" r="textAreaRight" b="textAreaBottom"/>
              <a:pathLst>
                <a:path w="21600" h="25535">
                  <a:moveTo>
                    <a:pt x="2699" y="0"/>
                  </a:moveTo>
                  <a:arcTo wR="2699" hR="2699" stAng="16200000" swAng="-5400000"/>
                  <a:lnTo>
                    <a:pt x="0" y="22836"/>
                  </a:lnTo>
                  <a:arcTo wR="2699" hR="2699" stAng="10800000" swAng="-5400000"/>
                  <a:lnTo>
                    <a:pt x="18901" y="2553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208560" y="3787920"/>
              <a:ext cx="1800" cy="65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927760" y="435132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929200" y="4254480"/>
              <a:ext cx="54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927760" y="3787920"/>
              <a:ext cx="201600" cy="420480"/>
            </a:xfrm>
            <a:custGeom>
              <a:avLst/>
              <a:gdLst>
                <a:gd name="textAreaLeft" fmla="*/ 7200 w 201600"/>
                <a:gd name="textAreaRight" fmla="*/ 194400 w 201600"/>
                <a:gd name="textAreaTop" fmla="*/ 7200 h 420480"/>
                <a:gd name="textAreaBottom" fmla="*/ 413280 h 420480"/>
              </a:gdLst>
              <a:ahLst/>
              <a:rect l="textAreaLeft" t="textAreaTop" r="textAreaRight" b="textAreaBottom"/>
              <a:pathLst>
                <a:path w="21600" h="45010">
                  <a:moveTo>
                    <a:pt x="2699" y="0"/>
                  </a:moveTo>
                  <a:arcTo wR="2699" hR="2699" stAng="16200000" swAng="-5400000"/>
                  <a:lnTo>
                    <a:pt x="0" y="42311"/>
                  </a:lnTo>
                  <a:arcTo wR="2699" hR="2699" stAng="10800000" swAng="-5400000"/>
                  <a:lnTo>
                    <a:pt x="18901" y="4501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29200" y="3971880"/>
              <a:ext cx="55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927760" y="415764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927760" y="406728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929200" y="3878280"/>
              <a:ext cx="55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2111400" y="3495600"/>
            <a:ext cx="203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828960" y="3537000"/>
            <a:ext cx="2040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378320" y="3071880"/>
            <a:ext cx="87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170320" y="3317760"/>
            <a:ext cx="204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Redo Log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6627960" y="3073320"/>
            <a:ext cx="1890720" cy="326520"/>
            <a:chOff x="6627960" y="3073320"/>
            <a:chExt cx="1890720" cy="326520"/>
          </a:xfrm>
        </p:grpSpPr>
        <p:sp>
          <p:nvSpPr>
            <p:cNvPr id="872" name=""/>
            <p:cNvSpPr/>
            <p:nvPr/>
          </p:nvSpPr>
          <p:spPr>
            <a:xfrm>
              <a:off x="7196040" y="3073320"/>
              <a:ext cx="74160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627960" y="30733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K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6748560" y="4092480"/>
            <a:ext cx="1693800" cy="326520"/>
            <a:chOff x="6748560" y="4092480"/>
            <a:chExt cx="1693800" cy="326520"/>
          </a:xfrm>
        </p:grpSpPr>
        <p:sp>
          <p:nvSpPr>
            <p:cNvPr id="875" name=""/>
            <p:cNvSpPr/>
            <p:nvPr/>
          </p:nvSpPr>
          <p:spPr>
            <a:xfrm>
              <a:off x="7227720" y="4097160"/>
              <a:ext cx="74160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48560" y="4092480"/>
              <a:ext cx="16938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RC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3340080" y="4734000"/>
            <a:ext cx="0" cy="5144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397240" y="2500200"/>
            <a:ext cx="231840" cy="522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51160" y="2527200"/>
            <a:ext cx="0" cy="495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98680" y="2527200"/>
            <a:ext cx="876240" cy="571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6784560" y="3225960"/>
            <a:ext cx="390600" cy="2998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40640" y="4000680"/>
            <a:ext cx="485640" cy="2538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12640" y="2990880"/>
            <a:ext cx="1890720" cy="326520"/>
            <a:chOff x="512640" y="2990880"/>
            <a:chExt cx="1890720" cy="326520"/>
          </a:xfrm>
        </p:grpSpPr>
        <p:sp>
          <p:nvSpPr>
            <p:cNvPr id="884" name=""/>
            <p:cNvSpPr/>
            <p:nvPr/>
          </p:nvSpPr>
          <p:spPr>
            <a:xfrm>
              <a:off x="1077840" y="2995560"/>
              <a:ext cx="74160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12640" y="29908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B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12640" y="4054320"/>
            <a:ext cx="1890720" cy="326520"/>
            <a:chOff x="512640" y="4054320"/>
            <a:chExt cx="1890720" cy="326520"/>
          </a:xfrm>
        </p:grpSpPr>
        <p:sp>
          <p:nvSpPr>
            <p:cNvPr id="887" name=""/>
            <p:cNvSpPr/>
            <p:nvPr/>
          </p:nvSpPr>
          <p:spPr>
            <a:xfrm>
              <a:off x="1065240" y="4057560"/>
              <a:ext cx="74124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12640" y="40543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G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4932360" y="5251320"/>
            <a:ext cx="1278000" cy="6289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638600" y="5381640"/>
            <a:ext cx="1890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97440" y="5553000"/>
            <a:ext cx="93348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879560" y="3238560"/>
            <a:ext cx="514440" cy="3049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1841400" y="4038480"/>
            <a:ext cx="550800" cy="1908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5776920" y="2165400"/>
            <a:ext cx="1890720" cy="326520"/>
            <a:chOff x="5776920" y="2165400"/>
            <a:chExt cx="1890720" cy="326520"/>
          </a:xfrm>
        </p:grpSpPr>
        <p:sp>
          <p:nvSpPr>
            <p:cNvPr id="895" name=""/>
            <p:cNvSpPr/>
            <p:nvPr/>
          </p:nvSpPr>
          <p:spPr>
            <a:xfrm>
              <a:off x="6353280" y="2182680"/>
              <a:ext cx="73980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776920" y="21654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 flipH="1">
            <a:off x="6730920" y="2552760"/>
            <a:ext cx="914400" cy="5587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4083120" y="3838680"/>
            <a:ext cx="1377720" cy="612720"/>
            <a:chOff x="4083120" y="3838680"/>
            <a:chExt cx="1377720" cy="612720"/>
          </a:xfrm>
        </p:grpSpPr>
        <p:grpSp>
          <p:nvGrpSpPr>
            <p:cNvPr id="899" name=""/>
            <p:cNvGrpSpPr/>
            <p:nvPr/>
          </p:nvGrpSpPr>
          <p:grpSpPr>
            <a:xfrm>
              <a:off x="4083120" y="3838680"/>
              <a:ext cx="1377720" cy="612720"/>
              <a:chOff x="4083120" y="3838680"/>
              <a:chExt cx="1377720" cy="612720"/>
            </a:xfrm>
          </p:grpSpPr>
          <p:sp>
            <p:nvSpPr>
              <p:cNvPr id="900" name=""/>
              <p:cNvSpPr/>
              <p:nvPr/>
            </p:nvSpPr>
            <p:spPr>
              <a:xfrm>
                <a:off x="4089240" y="3844800"/>
                <a:ext cx="1365480" cy="6001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367160" y="3838680"/>
                <a:ext cx="0" cy="61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748040" y="3838680"/>
                <a:ext cx="0" cy="61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129280" y="3838680"/>
                <a:ext cx="0" cy="61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83120" y="408132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83120" y="427824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462560" y="3841920"/>
                <a:ext cx="0" cy="60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224320" y="3841920"/>
                <a:ext cx="0" cy="60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173480" y="3841920"/>
                <a:ext cx="0" cy="601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556160" y="3841920"/>
                <a:ext cx="0" cy="60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933800" y="3841920"/>
                <a:ext cx="0" cy="60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268880" y="3843360"/>
                <a:ext cx="0" cy="600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649760" y="3843360"/>
                <a:ext cx="0" cy="600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30640" y="3843360"/>
                <a:ext cx="0" cy="606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838760" y="3838680"/>
                <a:ext cx="0" cy="60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310360" y="3841920"/>
                <a:ext cx="0" cy="60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397480" y="3841920"/>
                <a:ext cx="0" cy="60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083120" y="417348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083120" y="437364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83120" y="399744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083120" y="391644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4092480" y="3917880"/>
              <a:ext cx="842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68800" y="3917880"/>
              <a:ext cx="9540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403960" y="3922560"/>
              <a:ext cx="47520" cy="669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033880" y="3921120"/>
              <a:ext cx="9216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33960" y="3921120"/>
              <a:ext cx="8892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467240" y="3921120"/>
              <a:ext cx="9036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5000" y="4178160"/>
              <a:ext cx="9216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357800" y="4181400"/>
              <a:ext cx="10152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756320" y="3849840"/>
              <a:ext cx="68040" cy="568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751280" y="3998880"/>
              <a:ext cx="77760" cy="716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654440" y="4181400"/>
              <a:ext cx="85680" cy="87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467240" y="4083120"/>
              <a:ext cx="84240" cy="8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53080" y="4282920"/>
              <a:ext cx="7596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30640" y="4176720"/>
              <a:ext cx="95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467240" y="4286160"/>
              <a:ext cx="77760" cy="777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559400" y="4373640"/>
              <a:ext cx="8892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33880" y="4281480"/>
              <a:ext cx="98640" cy="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133960" y="4280040"/>
              <a:ext cx="85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272120" y="4375080"/>
              <a:ext cx="9180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179960" y="4381560"/>
              <a:ext cx="75960" cy="58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37280" y="4087800"/>
              <a:ext cx="6480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937040" y="4086360"/>
              <a:ext cx="8568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232240" y="4282920"/>
              <a:ext cx="6984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751280" y="4086360"/>
              <a:ext cx="8280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43440" y="3998880"/>
              <a:ext cx="8748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935600" y="4373640"/>
              <a:ext cx="921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5854680" y="172548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ance 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6665760" y="2178000"/>
            <a:ext cx="1890720" cy="326520"/>
            <a:chOff x="6665760" y="2178000"/>
            <a:chExt cx="1890720" cy="326520"/>
          </a:xfrm>
        </p:grpSpPr>
        <p:sp>
          <p:nvSpPr>
            <p:cNvPr id="949" name=""/>
            <p:cNvSpPr/>
            <p:nvPr/>
          </p:nvSpPr>
          <p:spPr>
            <a:xfrm>
              <a:off x="7242120" y="2195640"/>
              <a:ext cx="73980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65760" y="21780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 flipH="1">
            <a:off x="6514920" y="2527200"/>
            <a:ext cx="253800" cy="5209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102200" y="2527200"/>
            <a:ext cx="0" cy="495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016600" y="2527200"/>
            <a:ext cx="0" cy="495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867280" y="2527200"/>
            <a:ext cx="0" cy="495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27000" y="4978440"/>
            <a:ext cx="7340760" cy="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988920" y="1981080"/>
            <a:ext cx="1571760" cy="944640"/>
            <a:chOff x="988920" y="1981080"/>
            <a:chExt cx="1571760" cy="944640"/>
          </a:xfrm>
        </p:grpSpPr>
        <p:grpSp>
          <p:nvGrpSpPr>
            <p:cNvPr id="959" name=""/>
            <p:cNvGrpSpPr/>
            <p:nvPr/>
          </p:nvGrpSpPr>
          <p:grpSpPr>
            <a:xfrm>
              <a:off x="988920" y="1981080"/>
              <a:ext cx="1571760" cy="944640"/>
              <a:chOff x="988920" y="1981080"/>
              <a:chExt cx="1571760" cy="944640"/>
            </a:xfrm>
          </p:grpSpPr>
          <p:sp>
            <p:nvSpPr>
              <p:cNvPr id="960" name=""/>
              <p:cNvSpPr/>
              <p:nvPr/>
            </p:nvSpPr>
            <p:spPr>
              <a:xfrm>
                <a:off x="988920" y="2178000"/>
                <a:ext cx="1571760" cy="5605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988920" y="1981080"/>
                <a:ext cx="1571760" cy="360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988920" y="2565360"/>
                <a:ext cx="1571760" cy="3603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1066680" y="2373480"/>
              <a:ext cx="19872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522440" y="2468520"/>
              <a:ext cx="315720" cy="14148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324080" y="2676600"/>
              <a:ext cx="196920" cy="13500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913040" y="2590920"/>
              <a:ext cx="20160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09680" y="2457360"/>
              <a:ext cx="219240" cy="18108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417680" y="2505240"/>
            <a:ext cx="1571760" cy="944280"/>
            <a:chOff x="1417680" y="2505240"/>
            <a:chExt cx="1571760" cy="944280"/>
          </a:xfrm>
        </p:grpSpPr>
        <p:grpSp>
          <p:nvGrpSpPr>
            <p:cNvPr id="969" name=""/>
            <p:cNvGrpSpPr/>
            <p:nvPr/>
          </p:nvGrpSpPr>
          <p:grpSpPr>
            <a:xfrm>
              <a:off x="1417680" y="2505240"/>
              <a:ext cx="1571760" cy="944280"/>
              <a:chOff x="1417680" y="2505240"/>
              <a:chExt cx="1571760" cy="944280"/>
            </a:xfrm>
          </p:grpSpPr>
          <p:sp>
            <p:nvSpPr>
              <p:cNvPr id="970" name=""/>
              <p:cNvSpPr/>
              <p:nvPr/>
            </p:nvSpPr>
            <p:spPr>
              <a:xfrm>
                <a:off x="1417680" y="2701800"/>
                <a:ext cx="1571760" cy="5605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417680" y="2505240"/>
                <a:ext cx="1571760" cy="360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417680" y="3089160"/>
                <a:ext cx="1571760" cy="3603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1495440" y="2897280"/>
              <a:ext cx="1983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951200" y="2992320"/>
              <a:ext cx="315720" cy="14148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752480" y="3200400"/>
              <a:ext cx="196920" cy="13500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41440" y="3114720"/>
              <a:ext cx="20160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638440" y="2981160"/>
              <a:ext cx="219240" cy="18108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a Base de Données Orac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63560" y="4273560"/>
            <a:ext cx="1890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chier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780000" y="3038400"/>
            <a:ext cx="1315800" cy="596880"/>
            <a:chOff x="3780000" y="3038400"/>
            <a:chExt cx="1315800" cy="596880"/>
          </a:xfrm>
        </p:grpSpPr>
        <p:sp>
          <p:nvSpPr>
            <p:cNvPr id="981" name=""/>
            <p:cNvSpPr/>
            <p:nvPr/>
          </p:nvSpPr>
          <p:spPr>
            <a:xfrm>
              <a:off x="3780000" y="3160800"/>
              <a:ext cx="1315800" cy="3556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780000" y="3038400"/>
              <a:ext cx="1315800" cy="2271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780000" y="3408480"/>
              <a:ext cx="1315800" cy="2268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6165720" y="2900520"/>
            <a:ext cx="1140120" cy="517320"/>
            <a:chOff x="6165720" y="2900520"/>
            <a:chExt cx="1140120" cy="517320"/>
          </a:xfrm>
        </p:grpSpPr>
        <p:sp>
          <p:nvSpPr>
            <p:cNvPr id="985" name=""/>
            <p:cNvSpPr/>
            <p:nvPr/>
          </p:nvSpPr>
          <p:spPr>
            <a:xfrm>
              <a:off x="6165720" y="3006720"/>
              <a:ext cx="1140120" cy="3081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65720" y="2900520"/>
              <a:ext cx="1140120" cy="1983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165720" y="3219480"/>
              <a:ext cx="1140120" cy="1983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983280" y="3156120"/>
            <a:ext cx="1140120" cy="519120"/>
            <a:chOff x="6983280" y="3156120"/>
            <a:chExt cx="1140120" cy="519120"/>
          </a:xfrm>
        </p:grpSpPr>
        <p:sp>
          <p:nvSpPr>
            <p:cNvPr id="989" name=""/>
            <p:cNvSpPr/>
            <p:nvPr/>
          </p:nvSpPr>
          <p:spPr>
            <a:xfrm>
              <a:off x="6983280" y="3263760"/>
              <a:ext cx="1140120" cy="3081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983280" y="3156120"/>
              <a:ext cx="1140120" cy="1983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983280" y="3476520"/>
              <a:ext cx="1140120" cy="19872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5834160" y="3230640"/>
            <a:ext cx="1139760" cy="517320"/>
            <a:chOff x="5834160" y="3230640"/>
            <a:chExt cx="1139760" cy="517320"/>
          </a:xfrm>
        </p:grpSpPr>
        <p:sp>
          <p:nvSpPr>
            <p:cNvPr id="993" name=""/>
            <p:cNvSpPr/>
            <p:nvPr/>
          </p:nvSpPr>
          <p:spPr>
            <a:xfrm>
              <a:off x="5834160" y="3338640"/>
              <a:ext cx="1139760" cy="3078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834160" y="3230640"/>
              <a:ext cx="1139760" cy="1983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834160" y="3551400"/>
              <a:ext cx="1139760" cy="1965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6583320" y="3465360"/>
            <a:ext cx="1141560" cy="517680"/>
            <a:chOff x="6583320" y="3465360"/>
            <a:chExt cx="1141560" cy="517680"/>
          </a:xfrm>
        </p:grpSpPr>
        <p:sp>
          <p:nvSpPr>
            <p:cNvPr id="997" name=""/>
            <p:cNvSpPr/>
            <p:nvPr/>
          </p:nvSpPr>
          <p:spPr>
            <a:xfrm>
              <a:off x="6583320" y="3571920"/>
              <a:ext cx="1141560" cy="3078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583320" y="3465360"/>
              <a:ext cx="1141560" cy="19872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583320" y="3784680"/>
              <a:ext cx="1141560" cy="1983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3722760" y="4245120"/>
            <a:ext cx="1890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chier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ô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149880" y="4286160"/>
            <a:ext cx="189072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Fich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Redo Lo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040280" y="3386160"/>
            <a:ext cx="1315800" cy="596880"/>
            <a:chOff x="4040280" y="3386160"/>
            <a:chExt cx="1315800" cy="596880"/>
          </a:xfrm>
        </p:grpSpPr>
        <p:sp>
          <p:nvSpPr>
            <p:cNvPr id="1003" name=""/>
            <p:cNvSpPr/>
            <p:nvPr/>
          </p:nvSpPr>
          <p:spPr>
            <a:xfrm>
              <a:off x="4040280" y="3508200"/>
              <a:ext cx="1315800" cy="3556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40280" y="3386160"/>
              <a:ext cx="1315800" cy="2271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40280" y="3755880"/>
              <a:ext cx="1315800" cy="2271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1865160" y="3038400"/>
            <a:ext cx="1571760" cy="944640"/>
            <a:chOff x="1865160" y="3038400"/>
            <a:chExt cx="1571760" cy="944640"/>
          </a:xfrm>
        </p:grpSpPr>
        <p:grpSp>
          <p:nvGrpSpPr>
            <p:cNvPr id="1007" name=""/>
            <p:cNvGrpSpPr/>
            <p:nvPr/>
          </p:nvGrpSpPr>
          <p:grpSpPr>
            <a:xfrm>
              <a:off x="1865160" y="3038400"/>
              <a:ext cx="1571760" cy="944640"/>
              <a:chOff x="1865160" y="3038400"/>
              <a:chExt cx="1571760" cy="944640"/>
            </a:xfrm>
          </p:grpSpPr>
          <p:sp>
            <p:nvSpPr>
              <p:cNvPr id="1008" name=""/>
              <p:cNvSpPr/>
              <p:nvPr/>
            </p:nvSpPr>
            <p:spPr>
              <a:xfrm>
                <a:off x="1865160" y="3235320"/>
                <a:ext cx="1571760" cy="5605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865160" y="3038400"/>
                <a:ext cx="1571760" cy="360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865160" y="3622680"/>
                <a:ext cx="1571760" cy="3603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>
              <a:off x="1943280" y="3430440"/>
              <a:ext cx="19836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98680" y="3525840"/>
              <a:ext cx="316080" cy="14112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200320" y="3733920"/>
              <a:ext cx="196920" cy="1346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89280" y="3648240"/>
              <a:ext cx="201600" cy="22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086280" y="3514680"/>
              <a:ext cx="218880" cy="18108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912960" y="2847960"/>
            <a:ext cx="1887480" cy="1461960"/>
            <a:chOff x="912960" y="2847960"/>
            <a:chExt cx="1887480" cy="1461960"/>
          </a:xfrm>
        </p:grpSpPr>
        <p:sp>
          <p:nvSpPr>
            <p:cNvPr id="1019" name=""/>
            <p:cNvSpPr/>
            <p:nvPr/>
          </p:nvSpPr>
          <p:spPr>
            <a:xfrm>
              <a:off x="912960" y="3144960"/>
              <a:ext cx="1887480" cy="8744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912960" y="2847960"/>
              <a:ext cx="1887480" cy="5619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912960" y="3747960"/>
              <a:ext cx="1887480" cy="5619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6345360" y="2847960"/>
            <a:ext cx="1887480" cy="1461960"/>
            <a:chOff x="6345360" y="2847960"/>
            <a:chExt cx="1887480" cy="1461960"/>
          </a:xfrm>
        </p:grpSpPr>
        <p:sp>
          <p:nvSpPr>
            <p:cNvPr id="1023" name=""/>
            <p:cNvSpPr/>
            <p:nvPr/>
          </p:nvSpPr>
          <p:spPr>
            <a:xfrm>
              <a:off x="6345360" y="3144960"/>
              <a:ext cx="1887480" cy="8744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345360" y="2847960"/>
              <a:ext cx="1887480" cy="5619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345360" y="3747960"/>
              <a:ext cx="1887480" cy="5619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3625920" y="2847960"/>
            <a:ext cx="1887480" cy="1461960"/>
            <a:chOff x="3625920" y="2847960"/>
            <a:chExt cx="1887480" cy="1461960"/>
          </a:xfrm>
        </p:grpSpPr>
        <p:sp>
          <p:nvSpPr>
            <p:cNvPr id="1027" name=""/>
            <p:cNvSpPr/>
            <p:nvPr/>
          </p:nvSpPr>
          <p:spPr>
            <a:xfrm>
              <a:off x="3625920" y="3144960"/>
              <a:ext cx="1887480" cy="8744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625920" y="2847960"/>
              <a:ext cx="1887480" cy="5619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625920" y="3747960"/>
              <a:ext cx="1887480" cy="5619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Fichiers Redo Log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1649520" y="2424240"/>
            <a:ext cx="2942640" cy="840600"/>
            <a:chOff x="1649520" y="2424240"/>
            <a:chExt cx="2942640" cy="840600"/>
          </a:xfrm>
        </p:grpSpPr>
        <p:sp>
          <p:nvSpPr>
            <p:cNvPr id="1032" name=""/>
            <p:cNvSpPr/>
            <p:nvPr/>
          </p:nvSpPr>
          <p:spPr>
            <a:xfrm>
              <a:off x="1739880" y="2424240"/>
              <a:ext cx="2762280" cy="84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04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047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49520" y="2424240"/>
              <a:ext cx="2942640" cy="84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706" swAng="54037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706" swAng="5403706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4389480" y="2378160"/>
            <a:ext cx="2971440" cy="929880"/>
            <a:chOff x="4389480" y="2378160"/>
            <a:chExt cx="2971440" cy="929880"/>
          </a:xfrm>
        </p:grpSpPr>
        <p:sp>
          <p:nvSpPr>
            <p:cNvPr id="1035" name=""/>
            <p:cNvSpPr/>
            <p:nvPr/>
          </p:nvSpPr>
          <p:spPr>
            <a:xfrm>
              <a:off x="4573440" y="2378160"/>
              <a:ext cx="2787480" cy="92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08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084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89480" y="2378160"/>
              <a:ext cx="2971440" cy="92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671" swAng="54036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671" swAng="5403671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1865160" y="3884400"/>
            <a:ext cx="5899320" cy="879480"/>
            <a:chOff x="1865160" y="3884400"/>
            <a:chExt cx="5899320" cy="879480"/>
          </a:xfrm>
        </p:grpSpPr>
        <p:sp>
          <p:nvSpPr>
            <p:cNvPr id="1038" name=""/>
            <p:cNvSpPr/>
            <p:nvPr/>
          </p:nvSpPr>
          <p:spPr>
            <a:xfrm>
              <a:off x="2130480" y="3884400"/>
              <a:ext cx="5365440" cy="87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0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035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65160" y="3884400"/>
              <a:ext cx="5899320" cy="87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21600"/>
                  </a:moveTo>
                  <a:arcTo wR="10800" hR="10800" stAng="5401850" swAng="53981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21600"/>
                  </a:moveTo>
                  <a:arcTo wR="10800" hR="10800" stAng="5401850" swAng="5398150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1019160" y="2949480"/>
            <a:ext cx="160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ichier Log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90800" y="2949480"/>
            <a:ext cx="160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ichier Log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513480" y="2949480"/>
            <a:ext cx="160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ichier Log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Reconnaître les composants de l’architecture d’Oracle7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dentifier le but de chacun des types de composant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383160" y="1555920"/>
            <a:ext cx="1744920" cy="370512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011480" y="1569960"/>
            <a:ext cx="1801800" cy="3662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44480" y="1574640"/>
            <a:ext cx="1768680" cy="361980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Fichiers Redo Log Multiplex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135920" y="3419640"/>
            <a:ext cx="304560" cy="64908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714920" y="3349800"/>
            <a:ext cx="304920" cy="5904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346480" y="3340080"/>
            <a:ext cx="304560" cy="5904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4192560" y="2316240"/>
            <a:ext cx="1441440" cy="1116000"/>
            <a:chOff x="4192560" y="2316240"/>
            <a:chExt cx="1441440" cy="1116000"/>
          </a:xfrm>
        </p:grpSpPr>
        <p:sp>
          <p:nvSpPr>
            <p:cNvPr id="1053" name=""/>
            <p:cNvSpPr/>
            <p:nvPr/>
          </p:nvSpPr>
          <p:spPr>
            <a:xfrm>
              <a:off x="4192560" y="2543040"/>
              <a:ext cx="1441440" cy="6667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192560" y="2316240"/>
              <a:ext cx="1441440" cy="4284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92560" y="3003480"/>
              <a:ext cx="1441440" cy="4287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6551640" y="2336760"/>
            <a:ext cx="1441440" cy="1116000"/>
            <a:chOff x="6551640" y="2336760"/>
            <a:chExt cx="1441440" cy="1116000"/>
          </a:xfrm>
        </p:grpSpPr>
        <p:sp>
          <p:nvSpPr>
            <p:cNvPr id="1057" name=""/>
            <p:cNvSpPr/>
            <p:nvPr/>
          </p:nvSpPr>
          <p:spPr>
            <a:xfrm>
              <a:off x="6551640" y="2563920"/>
              <a:ext cx="1441440" cy="6667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51640" y="2336760"/>
              <a:ext cx="1441440" cy="4287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551640" y="3024360"/>
              <a:ext cx="1441440" cy="4284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1808280" y="3927600"/>
            <a:ext cx="1441440" cy="1116000"/>
            <a:chOff x="1808280" y="3927600"/>
            <a:chExt cx="1441440" cy="1116000"/>
          </a:xfrm>
        </p:grpSpPr>
        <p:sp>
          <p:nvSpPr>
            <p:cNvPr id="1061" name=""/>
            <p:cNvSpPr/>
            <p:nvPr/>
          </p:nvSpPr>
          <p:spPr>
            <a:xfrm>
              <a:off x="1808280" y="4154400"/>
              <a:ext cx="1441440" cy="6667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808280" y="3927600"/>
              <a:ext cx="1441440" cy="4284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808280" y="4614840"/>
              <a:ext cx="1441440" cy="4287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4168800" y="3927600"/>
            <a:ext cx="1441440" cy="1116000"/>
            <a:chOff x="4168800" y="3927600"/>
            <a:chExt cx="1441440" cy="1116000"/>
          </a:xfrm>
        </p:grpSpPr>
        <p:sp>
          <p:nvSpPr>
            <p:cNvPr id="1065" name=""/>
            <p:cNvSpPr/>
            <p:nvPr/>
          </p:nvSpPr>
          <p:spPr>
            <a:xfrm>
              <a:off x="4168800" y="4154400"/>
              <a:ext cx="1441440" cy="6667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68800" y="3927600"/>
              <a:ext cx="1441440" cy="4284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68800" y="4614840"/>
              <a:ext cx="1441440" cy="4287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6539040" y="3925800"/>
            <a:ext cx="1441440" cy="1116000"/>
            <a:chOff x="6539040" y="3925800"/>
            <a:chExt cx="1441440" cy="1116000"/>
          </a:xfrm>
        </p:grpSpPr>
        <p:sp>
          <p:nvSpPr>
            <p:cNvPr id="1069" name=""/>
            <p:cNvSpPr/>
            <p:nvPr/>
          </p:nvSpPr>
          <p:spPr>
            <a:xfrm>
              <a:off x="6539040" y="4152960"/>
              <a:ext cx="1441440" cy="6667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539040" y="3925800"/>
              <a:ext cx="1441440" cy="4287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539040" y="4613400"/>
              <a:ext cx="1441440" cy="4284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2381400" y="1932120"/>
            <a:ext cx="2390400" cy="777240"/>
            <a:chOff x="2381400" y="1932120"/>
            <a:chExt cx="2390400" cy="777240"/>
          </a:xfrm>
        </p:grpSpPr>
        <p:sp>
          <p:nvSpPr>
            <p:cNvPr id="1073" name=""/>
            <p:cNvSpPr/>
            <p:nvPr/>
          </p:nvSpPr>
          <p:spPr>
            <a:xfrm>
              <a:off x="2457360" y="1932120"/>
              <a:ext cx="2241720" cy="77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130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381400" y="1932120"/>
              <a:ext cx="2390400" cy="77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4897080" y="1836720"/>
            <a:ext cx="2362320" cy="977400"/>
            <a:chOff x="4897080" y="1836720"/>
            <a:chExt cx="2362320" cy="977400"/>
          </a:xfrm>
        </p:grpSpPr>
        <p:sp>
          <p:nvSpPr>
            <p:cNvPr id="1076" name=""/>
            <p:cNvSpPr/>
            <p:nvPr/>
          </p:nvSpPr>
          <p:spPr>
            <a:xfrm>
              <a:off x="5043600" y="1836720"/>
              <a:ext cx="2215440" cy="97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0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074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97080" y="1836720"/>
              <a:ext cx="2362320" cy="97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5" y="0"/>
                  </a:moveTo>
                  <a:arcTo wR="10800" hR="10800" stAng="-5404618" swAng="54046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5" y="0"/>
                  </a:moveTo>
                  <a:arcTo wR="10800" hR="10800" stAng="-5404618" swAng="5404618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2352600" y="4502160"/>
            <a:ext cx="5241960" cy="1047240"/>
            <a:chOff x="2352600" y="4502160"/>
            <a:chExt cx="5241960" cy="1047240"/>
          </a:xfrm>
        </p:grpSpPr>
        <p:sp>
          <p:nvSpPr>
            <p:cNvPr id="1079" name=""/>
            <p:cNvSpPr/>
            <p:nvPr/>
          </p:nvSpPr>
          <p:spPr>
            <a:xfrm>
              <a:off x="2592360" y="4502160"/>
              <a:ext cx="4762080" cy="104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2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291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352600" y="4502160"/>
              <a:ext cx="5241960" cy="104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3" y="21600"/>
                  </a:moveTo>
                  <a:arcTo wR="10800" hR="10800" stAng="5402083" swAng="53979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3" y="21600"/>
                  </a:moveTo>
                  <a:arcTo wR="10800" hR="10800" stAng="5402083" swAng="5397917"/>
                </a:path>
              </a:pathLst>
            </a:custGeom>
            <a:noFill/>
            <a:ln cap="rnd" w="12600">
              <a:solidFill>
                <a:srgbClr val="081d5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1923120" y="1636560"/>
            <a:ext cx="11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up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365720" y="164772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up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91400" y="164448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up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06160" y="2664000"/>
            <a:ext cx="10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Disqu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06160" y="4340160"/>
            <a:ext cx="10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Disqu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1808280" y="2328840"/>
            <a:ext cx="1441440" cy="1116000"/>
            <a:chOff x="1808280" y="2328840"/>
            <a:chExt cx="1441440" cy="1116000"/>
          </a:xfrm>
        </p:grpSpPr>
        <p:sp>
          <p:nvSpPr>
            <p:cNvPr id="1087" name=""/>
            <p:cNvSpPr/>
            <p:nvPr/>
          </p:nvSpPr>
          <p:spPr>
            <a:xfrm>
              <a:off x="1808280" y="2556000"/>
              <a:ext cx="1441440" cy="6667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808280" y="2328840"/>
              <a:ext cx="1441440" cy="4287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808280" y="3016080"/>
              <a:ext cx="1441440" cy="4287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1937520" y="2427120"/>
            <a:ext cx="1164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bre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323600" y="2427120"/>
            <a:ext cx="1164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bre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661800" y="2427120"/>
            <a:ext cx="1164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bre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971000" y="4021200"/>
            <a:ext cx="1164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bre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338000" y="4008600"/>
            <a:ext cx="1164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bre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696720" y="4008600"/>
            <a:ext cx="1164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bre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952200" y="3638520"/>
            <a:ext cx="7467480" cy="9720"/>
          </a:xfrm>
          <a:prstGeom prst="line">
            <a:avLst/>
          </a:prstGeom>
          <a:ln w="2556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s Fichiers de Contrô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75880" y="1725480"/>
            <a:ext cx="7296120" cy="412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Tous les fichiers de données et les fichiers log de la base de données sont identifiés dans le fichier de contrô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nom de la base de données est répertorié dans le fichier de contrô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fichier de contrôle est requis pour monter, ouvrir, et accéder à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’information de synchronisation nécessaire à la restauration est stockée à l’intérieur du fichier de contrô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a configuration recommandée est un minimum de deux fichiers de contrôle sur des disques différent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aramètre CONTROL_FILES identifie les fichiers de contrô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530440" y="5187960"/>
            <a:ext cx="1473120" cy="90180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Fichier Paramètres : init.ora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276720" y="4800600"/>
            <a:ext cx="0" cy="3808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2792520" y="5364000"/>
            <a:ext cx="950760" cy="430200"/>
            <a:chOff x="2792520" y="5364000"/>
            <a:chExt cx="950760" cy="430200"/>
          </a:xfrm>
        </p:grpSpPr>
        <p:sp>
          <p:nvSpPr>
            <p:cNvPr id="1107" name=""/>
            <p:cNvSpPr/>
            <p:nvPr/>
          </p:nvSpPr>
          <p:spPr>
            <a:xfrm>
              <a:off x="2792520" y="5451480"/>
              <a:ext cx="950760" cy="2570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92520" y="5364000"/>
              <a:ext cx="950760" cy="1638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792520" y="5630760"/>
              <a:ext cx="950760" cy="1634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2133720" y="566748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 Fichier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mèt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911160" y="1663560"/>
            <a:ext cx="7220160" cy="304812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3114720" y="2152800"/>
            <a:ext cx="1890720" cy="326520"/>
            <a:chOff x="3114720" y="2152800"/>
            <a:chExt cx="1890720" cy="326520"/>
          </a:xfrm>
        </p:grpSpPr>
        <p:sp>
          <p:nvSpPr>
            <p:cNvPr id="1113" name=""/>
            <p:cNvSpPr/>
            <p:nvPr/>
          </p:nvSpPr>
          <p:spPr>
            <a:xfrm>
              <a:off x="3697200" y="2162160"/>
              <a:ext cx="74160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14720" y="21528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LCK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4041720" y="2158920"/>
            <a:ext cx="1890720" cy="326520"/>
            <a:chOff x="4041720" y="2158920"/>
            <a:chExt cx="1890720" cy="326520"/>
          </a:xfrm>
        </p:grpSpPr>
        <p:sp>
          <p:nvSpPr>
            <p:cNvPr id="1116" name=""/>
            <p:cNvSpPr/>
            <p:nvPr/>
          </p:nvSpPr>
          <p:spPr>
            <a:xfrm>
              <a:off x="4595760" y="2158920"/>
              <a:ext cx="74124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041720" y="21589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1374840" y="2152800"/>
            <a:ext cx="1890720" cy="326520"/>
            <a:chOff x="1374840" y="2152800"/>
            <a:chExt cx="1890720" cy="326520"/>
          </a:xfrm>
        </p:grpSpPr>
        <p:sp>
          <p:nvSpPr>
            <p:cNvPr id="1119" name=""/>
            <p:cNvSpPr/>
            <p:nvPr/>
          </p:nvSpPr>
          <p:spPr>
            <a:xfrm>
              <a:off x="1940040" y="2162160"/>
              <a:ext cx="74124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74840" y="21528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268360" y="2158920"/>
            <a:ext cx="1890720" cy="326520"/>
            <a:chOff x="2268360" y="2158920"/>
            <a:chExt cx="1890720" cy="326520"/>
          </a:xfrm>
        </p:grpSpPr>
        <p:sp>
          <p:nvSpPr>
            <p:cNvPr id="1122" name=""/>
            <p:cNvSpPr/>
            <p:nvPr/>
          </p:nvSpPr>
          <p:spPr>
            <a:xfrm>
              <a:off x="2830680" y="2158920"/>
              <a:ext cx="73944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268360" y="21589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N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4894200" y="2152800"/>
            <a:ext cx="1890720" cy="326520"/>
            <a:chOff x="4894200" y="2152800"/>
            <a:chExt cx="1890720" cy="326520"/>
          </a:xfrm>
        </p:grpSpPr>
        <p:sp>
          <p:nvSpPr>
            <p:cNvPr id="1125" name=""/>
            <p:cNvSpPr/>
            <p:nvPr/>
          </p:nvSpPr>
          <p:spPr>
            <a:xfrm>
              <a:off x="5470560" y="2170080"/>
              <a:ext cx="73980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894200" y="21528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2378160" y="3025800"/>
            <a:ext cx="4352760" cy="14828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2625840" y="3814920"/>
            <a:ext cx="1036440" cy="609480"/>
            <a:chOff x="2625840" y="3814920"/>
            <a:chExt cx="1036440" cy="609480"/>
          </a:xfrm>
        </p:grpSpPr>
        <p:sp>
          <p:nvSpPr>
            <p:cNvPr id="1129" name=""/>
            <p:cNvSpPr/>
            <p:nvPr/>
          </p:nvSpPr>
          <p:spPr>
            <a:xfrm>
              <a:off x="2625840" y="3814920"/>
              <a:ext cx="1036440" cy="60948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81280" y="3995640"/>
              <a:ext cx="403200" cy="35424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206880" y="3995640"/>
              <a:ext cx="403200" cy="35424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5927760" y="3774960"/>
            <a:ext cx="554040" cy="650880"/>
            <a:chOff x="5927760" y="3774960"/>
            <a:chExt cx="554040" cy="650880"/>
          </a:xfrm>
        </p:grpSpPr>
        <p:sp>
          <p:nvSpPr>
            <p:cNvPr id="1133" name=""/>
            <p:cNvSpPr/>
            <p:nvPr/>
          </p:nvSpPr>
          <p:spPr>
            <a:xfrm>
              <a:off x="5934240" y="3781440"/>
              <a:ext cx="541080" cy="639720"/>
            </a:xfrm>
            <a:custGeom>
              <a:avLst/>
              <a:gdLst>
                <a:gd name="textAreaLeft" fmla="*/ 19800 w 541080"/>
                <a:gd name="textAreaRight" fmla="*/ 521280 w 541080"/>
                <a:gd name="textAreaTop" fmla="*/ 19800 h 639720"/>
                <a:gd name="textAreaBottom" fmla="*/ 619920 h 639720"/>
              </a:gdLst>
              <a:ahLst/>
              <a:rect l="textAreaLeft" t="textAreaTop" r="textAreaRight" b="textAreaBottom"/>
              <a:pathLst>
                <a:path w="21600" h="25535">
                  <a:moveTo>
                    <a:pt x="2699" y="0"/>
                  </a:moveTo>
                  <a:arcTo wR="2699" hR="2699" stAng="16200000" swAng="-5400000"/>
                  <a:lnTo>
                    <a:pt x="0" y="22836"/>
                  </a:lnTo>
                  <a:arcTo wR="2699" hR="2699" stAng="10800000" swAng="-5400000"/>
                  <a:lnTo>
                    <a:pt x="18901" y="2553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208560" y="3774960"/>
              <a:ext cx="1800" cy="65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927760" y="433872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29200" y="4241880"/>
              <a:ext cx="54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27760" y="3774960"/>
              <a:ext cx="201600" cy="420840"/>
            </a:xfrm>
            <a:custGeom>
              <a:avLst/>
              <a:gdLst>
                <a:gd name="textAreaLeft" fmla="*/ 7200 w 201600"/>
                <a:gd name="textAreaRight" fmla="*/ 194400 w 201600"/>
                <a:gd name="textAreaTop" fmla="*/ 7200 h 420840"/>
                <a:gd name="textAreaBottom" fmla="*/ 413640 h 420840"/>
              </a:gdLst>
              <a:ahLst/>
              <a:rect l="textAreaLeft" t="textAreaTop" r="textAreaRight" b="textAreaBottom"/>
              <a:pathLst>
                <a:path w="21600" h="45048">
                  <a:moveTo>
                    <a:pt x="2699" y="0"/>
                  </a:moveTo>
                  <a:arcTo wR="2699" hR="2699" stAng="16200000" swAng="-5400000"/>
                  <a:lnTo>
                    <a:pt x="0" y="42349"/>
                  </a:lnTo>
                  <a:arcTo wR="2699" hR="2699" stAng="10800000" swAng="-5400000"/>
                  <a:lnTo>
                    <a:pt x="18901" y="45048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29200" y="3959280"/>
              <a:ext cx="55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927760" y="414504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27760" y="405432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29200" y="3865680"/>
              <a:ext cx="55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2111400" y="3483000"/>
            <a:ext cx="203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828960" y="3524400"/>
            <a:ext cx="2040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378320" y="3059280"/>
            <a:ext cx="87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70320" y="3305160"/>
            <a:ext cx="204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Redo Log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6627960" y="3060720"/>
            <a:ext cx="1890720" cy="326520"/>
            <a:chOff x="6627960" y="3060720"/>
            <a:chExt cx="1890720" cy="326520"/>
          </a:xfrm>
        </p:grpSpPr>
        <p:sp>
          <p:nvSpPr>
            <p:cNvPr id="1147" name=""/>
            <p:cNvSpPr/>
            <p:nvPr/>
          </p:nvSpPr>
          <p:spPr>
            <a:xfrm>
              <a:off x="7196040" y="3060720"/>
              <a:ext cx="74160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627960" y="3060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K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6748560" y="4079880"/>
            <a:ext cx="1693800" cy="326520"/>
            <a:chOff x="6748560" y="4079880"/>
            <a:chExt cx="1693800" cy="326520"/>
          </a:xfrm>
        </p:grpSpPr>
        <p:sp>
          <p:nvSpPr>
            <p:cNvPr id="1150" name=""/>
            <p:cNvSpPr/>
            <p:nvPr/>
          </p:nvSpPr>
          <p:spPr>
            <a:xfrm>
              <a:off x="7227720" y="4084560"/>
              <a:ext cx="74160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748560" y="4079880"/>
              <a:ext cx="16938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RC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2397240" y="2487600"/>
            <a:ext cx="231840" cy="522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251160" y="2514600"/>
            <a:ext cx="0" cy="495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498680" y="2514600"/>
            <a:ext cx="876240" cy="571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784560" y="3213000"/>
            <a:ext cx="390600" cy="300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740640" y="3987720"/>
            <a:ext cx="485640" cy="2541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879560" y="3225960"/>
            <a:ext cx="514440" cy="3045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1841400" y="4025520"/>
            <a:ext cx="550800" cy="1904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5776920" y="2152800"/>
            <a:ext cx="1890720" cy="326520"/>
            <a:chOff x="5776920" y="2152800"/>
            <a:chExt cx="1890720" cy="326520"/>
          </a:xfrm>
        </p:grpSpPr>
        <p:sp>
          <p:nvSpPr>
            <p:cNvPr id="1160" name=""/>
            <p:cNvSpPr/>
            <p:nvPr/>
          </p:nvSpPr>
          <p:spPr>
            <a:xfrm>
              <a:off x="6353280" y="2170080"/>
              <a:ext cx="73980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776920" y="21528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 flipH="1">
            <a:off x="6730920" y="2540160"/>
            <a:ext cx="914400" cy="5587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4083120" y="3825720"/>
            <a:ext cx="1377720" cy="613080"/>
            <a:chOff x="4083120" y="3825720"/>
            <a:chExt cx="1377720" cy="613080"/>
          </a:xfrm>
        </p:grpSpPr>
        <p:grpSp>
          <p:nvGrpSpPr>
            <p:cNvPr id="1164" name=""/>
            <p:cNvGrpSpPr/>
            <p:nvPr/>
          </p:nvGrpSpPr>
          <p:grpSpPr>
            <a:xfrm>
              <a:off x="4083120" y="3825720"/>
              <a:ext cx="1377720" cy="613080"/>
              <a:chOff x="4083120" y="3825720"/>
              <a:chExt cx="1377720" cy="613080"/>
            </a:xfrm>
          </p:grpSpPr>
          <p:sp>
            <p:nvSpPr>
              <p:cNvPr id="1165" name=""/>
              <p:cNvSpPr/>
              <p:nvPr/>
            </p:nvSpPr>
            <p:spPr>
              <a:xfrm>
                <a:off x="4089240" y="3832200"/>
                <a:ext cx="1365480" cy="6001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367160" y="3825720"/>
                <a:ext cx="0" cy="61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748040" y="3825720"/>
                <a:ext cx="0" cy="61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129280" y="3825720"/>
                <a:ext cx="0" cy="61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083120" y="406872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083120" y="426564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462560" y="3828960"/>
                <a:ext cx="0" cy="60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224320" y="3828960"/>
                <a:ext cx="0" cy="60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173480" y="3828960"/>
                <a:ext cx="0" cy="60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556160" y="3828960"/>
                <a:ext cx="0" cy="60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933800" y="3828960"/>
                <a:ext cx="0" cy="60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268880" y="3830760"/>
                <a:ext cx="0" cy="600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649760" y="3830760"/>
                <a:ext cx="0" cy="600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030640" y="3830760"/>
                <a:ext cx="0" cy="606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838760" y="3825720"/>
                <a:ext cx="0" cy="60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10360" y="3828960"/>
                <a:ext cx="0" cy="60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397480" y="3828960"/>
                <a:ext cx="0" cy="60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3120" y="416088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083120" y="436104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083120" y="398448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083120" y="3903840"/>
                <a:ext cx="137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4092480" y="3905280"/>
              <a:ext cx="842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68800" y="3905280"/>
              <a:ext cx="9540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03960" y="3909960"/>
              <a:ext cx="47520" cy="66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033880" y="3908520"/>
              <a:ext cx="921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133960" y="3908520"/>
              <a:ext cx="8892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467240" y="3908520"/>
              <a:ext cx="9036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275000" y="4165560"/>
              <a:ext cx="9216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357800" y="4168800"/>
              <a:ext cx="10152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56320" y="3836880"/>
              <a:ext cx="68040" cy="572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751280" y="3986280"/>
              <a:ext cx="77760" cy="712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654440" y="4168800"/>
              <a:ext cx="85680" cy="871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467240" y="4070520"/>
              <a:ext cx="84240" cy="8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753080" y="4270320"/>
              <a:ext cx="7596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030640" y="4164120"/>
              <a:ext cx="95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467240" y="4273560"/>
              <a:ext cx="77760" cy="777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559400" y="4361040"/>
              <a:ext cx="8892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33880" y="4268880"/>
              <a:ext cx="98640" cy="8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33960" y="4267080"/>
              <a:ext cx="8568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72120" y="4362480"/>
              <a:ext cx="9180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179960" y="4368960"/>
              <a:ext cx="75960" cy="58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37280" y="4075200"/>
              <a:ext cx="64800" cy="759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937040" y="4073400"/>
              <a:ext cx="8568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32240" y="4270320"/>
              <a:ext cx="6984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751280" y="4073400"/>
              <a:ext cx="8280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843440" y="3986280"/>
              <a:ext cx="874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935600" y="4361040"/>
              <a:ext cx="921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5854680" y="171288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ance 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6665760" y="2165400"/>
            <a:ext cx="1890720" cy="326520"/>
            <a:chOff x="6665760" y="2165400"/>
            <a:chExt cx="1890720" cy="326520"/>
          </a:xfrm>
        </p:grpSpPr>
        <p:sp>
          <p:nvSpPr>
            <p:cNvPr id="1214" name=""/>
            <p:cNvSpPr/>
            <p:nvPr/>
          </p:nvSpPr>
          <p:spPr>
            <a:xfrm>
              <a:off x="7242120" y="2182680"/>
              <a:ext cx="739800" cy="284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665760" y="21654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 flipH="1">
            <a:off x="6514920" y="2514600"/>
            <a:ext cx="253800" cy="5205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02200" y="2514600"/>
            <a:ext cx="0" cy="495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016600" y="2514600"/>
            <a:ext cx="0" cy="495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867280" y="2514600"/>
            <a:ext cx="0" cy="495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538200" y="3016080"/>
            <a:ext cx="1890720" cy="326520"/>
            <a:chOff x="538200" y="3016080"/>
            <a:chExt cx="1890720" cy="326520"/>
          </a:xfrm>
        </p:grpSpPr>
        <p:sp>
          <p:nvSpPr>
            <p:cNvPr id="1221" name=""/>
            <p:cNvSpPr/>
            <p:nvPr/>
          </p:nvSpPr>
          <p:spPr>
            <a:xfrm>
              <a:off x="1103400" y="3021120"/>
              <a:ext cx="74124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38200" y="30160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B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538200" y="4079880"/>
            <a:ext cx="1890720" cy="326520"/>
            <a:chOff x="538200" y="4079880"/>
            <a:chExt cx="1890720" cy="326520"/>
          </a:xfrm>
        </p:grpSpPr>
        <p:sp>
          <p:nvSpPr>
            <p:cNvPr id="1224" name=""/>
            <p:cNvSpPr/>
            <p:nvPr/>
          </p:nvSpPr>
          <p:spPr>
            <a:xfrm>
              <a:off x="1090440" y="4083120"/>
              <a:ext cx="74160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8200" y="40798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G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512640" y="2152800"/>
            <a:ext cx="1890720" cy="326520"/>
            <a:chOff x="512640" y="2152800"/>
            <a:chExt cx="1890720" cy="326520"/>
          </a:xfrm>
        </p:grpSpPr>
        <p:sp>
          <p:nvSpPr>
            <p:cNvPr id="1227" name=""/>
            <p:cNvSpPr/>
            <p:nvPr/>
          </p:nvSpPr>
          <p:spPr>
            <a:xfrm>
              <a:off x="1085760" y="2162160"/>
              <a:ext cx="741600" cy="284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12640" y="21528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71360" y="1673280"/>
            <a:ext cx="3450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81d58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81d58"/>
                </a:solidFill>
                <a:latin typeface="Arial"/>
              </a:rPr>
              <a:t>System Global Area (SG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160640" y="2089080"/>
            <a:ext cx="6845040" cy="19623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1343160" y="2619360"/>
            <a:ext cx="1858680" cy="1096920"/>
            <a:chOff x="1343160" y="2619360"/>
            <a:chExt cx="1858680" cy="1096920"/>
          </a:xfrm>
        </p:grpSpPr>
        <p:sp>
          <p:nvSpPr>
            <p:cNvPr id="1234" name=""/>
            <p:cNvSpPr/>
            <p:nvPr/>
          </p:nvSpPr>
          <p:spPr>
            <a:xfrm>
              <a:off x="1343160" y="2619360"/>
              <a:ext cx="1858680" cy="1096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444680" y="2949480"/>
              <a:ext cx="722160" cy="630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381400" y="2949480"/>
              <a:ext cx="723600" cy="630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847800" y="215280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526000" y="217476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edo Log Buf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270240" y="217476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Fichier Paramètres : init.ora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651120" y="2606760"/>
            <a:ext cx="2257560" cy="10922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03630"/>
              </a:gs>
              <a:gs pos="50000">
                <a:srgbClr val="00b7a5"/>
              </a:gs>
              <a:gs pos="100000">
                <a:srgbClr val="00363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374840" y="2668680"/>
            <a:ext cx="177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ARED_POOL_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832200" y="3097080"/>
            <a:ext cx="183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_BLOCK_BUFF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451560" y="2549520"/>
            <a:ext cx="1190520" cy="1203480"/>
          </a:xfrm>
          <a:custGeom>
            <a:avLst/>
            <a:gdLst>
              <a:gd name="textAreaLeft" fmla="*/ 43560 w 1190520"/>
              <a:gd name="textAreaRight" fmla="*/ 1146960 w 1190520"/>
              <a:gd name="textAreaTop" fmla="*/ 43560 h 1203480"/>
              <a:gd name="textAreaBottom" fmla="*/ 1159920 h 1203480"/>
            </a:gdLst>
            <a:ahLst/>
            <a:rect l="textAreaLeft" t="textAreaTop" r="textAreaRight" b="textAreaBottom"/>
            <a:pathLst>
              <a:path w="21600" h="21835">
                <a:moveTo>
                  <a:pt x="2699" y="0"/>
                </a:moveTo>
                <a:arcTo wR="2699" hR="2699" stAng="16200000" swAng="-5400000"/>
                <a:lnTo>
                  <a:pt x="0" y="19136"/>
                </a:lnTo>
                <a:arcTo wR="2699" hR="2699" stAng="10800000" swAng="-5400000"/>
                <a:lnTo>
                  <a:pt x="18901" y="2183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832920" y="2754360"/>
            <a:ext cx="145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B_BLOCK_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470280" y="2678040"/>
            <a:ext cx="121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_BUF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 Fichier Alert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34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Toutes les erreurs internes (ORA-600), erreurs de corruption de bloc (ORA-1578), et les erreurs d’interblocage (ORA-60)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opérations d’administration (DDL), et les commandes de Server Manager (STARTUP, SHUTDOWN, ARCHIVE LOG, et RECOVER)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valeurs de tous les paramètres d’initialisation au moment où la base de données et l’instance sont démarr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s Fichiers Tr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16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tiennent l'information sur les erreurs internes detectées par un process serveur ou un process détaché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ont situés dans BACKGROUND_DUMP_DEST ou USER_DUMP_DES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ont créés si SQL_TRACE = TRU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ont créés si SQL_TRACE est activé pour une sess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347840" y="3919680"/>
            <a:ext cx="6108480" cy="43524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TER SESSION SET SQL_TRACE TRU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735520" y="4403880"/>
            <a:ext cx="839880" cy="34920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30640" y="4460760"/>
            <a:ext cx="939960" cy="31140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Résumé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47800" y="1663560"/>
            <a:ext cx="7181640" cy="224820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968640" y="4336920"/>
            <a:ext cx="939960" cy="31140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388800" y="2090880"/>
            <a:ext cx="1890720" cy="274320"/>
            <a:chOff x="388800" y="2090880"/>
            <a:chExt cx="1890720" cy="274320"/>
          </a:xfrm>
        </p:grpSpPr>
        <p:sp>
          <p:nvSpPr>
            <p:cNvPr id="1264" name=""/>
            <p:cNvSpPr/>
            <p:nvPr/>
          </p:nvSpPr>
          <p:spPr>
            <a:xfrm>
              <a:off x="988920" y="2103480"/>
              <a:ext cx="687600" cy="2617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88800" y="209088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M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3508200" y="43592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rocess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erveu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3044880" y="1936800"/>
            <a:ext cx="1890720" cy="274680"/>
            <a:chOff x="3044880" y="1936800"/>
            <a:chExt cx="1890720" cy="274680"/>
          </a:xfrm>
        </p:grpSpPr>
        <p:sp>
          <p:nvSpPr>
            <p:cNvPr id="1268" name=""/>
            <p:cNvSpPr/>
            <p:nvPr/>
          </p:nvSpPr>
          <p:spPr>
            <a:xfrm>
              <a:off x="3652920" y="1949400"/>
              <a:ext cx="687240" cy="26208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044880" y="193680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LCK</a:t>
              </a:r>
              <a:r>
                <a:rPr b="1" i="1" lang="fr-FR" sz="1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3940200" y="1940040"/>
            <a:ext cx="1890720" cy="266760"/>
            <a:chOff x="3940200" y="1940040"/>
            <a:chExt cx="1890720" cy="266760"/>
          </a:xfrm>
        </p:grpSpPr>
        <p:sp>
          <p:nvSpPr>
            <p:cNvPr id="1271" name=""/>
            <p:cNvSpPr/>
            <p:nvPr/>
          </p:nvSpPr>
          <p:spPr>
            <a:xfrm>
              <a:off x="4521240" y="1943280"/>
              <a:ext cx="687240" cy="2635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940200" y="194004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E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1311120" y="1936800"/>
            <a:ext cx="1890720" cy="274680"/>
            <a:chOff x="1311120" y="1936800"/>
            <a:chExt cx="1890720" cy="274680"/>
          </a:xfrm>
        </p:grpSpPr>
        <p:sp>
          <p:nvSpPr>
            <p:cNvPr id="1274" name=""/>
            <p:cNvSpPr/>
            <p:nvPr/>
          </p:nvSpPr>
          <p:spPr>
            <a:xfrm>
              <a:off x="1903320" y="1949400"/>
              <a:ext cx="687600" cy="26208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311120" y="193680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M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2230560" y="1940040"/>
            <a:ext cx="1890720" cy="266760"/>
            <a:chOff x="2230560" y="1940040"/>
            <a:chExt cx="1890720" cy="266760"/>
          </a:xfrm>
        </p:grpSpPr>
        <p:sp>
          <p:nvSpPr>
            <p:cNvPr id="1277" name=""/>
            <p:cNvSpPr/>
            <p:nvPr/>
          </p:nvSpPr>
          <p:spPr>
            <a:xfrm>
              <a:off x="2819520" y="1943280"/>
              <a:ext cx="685800" cy="2635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230560" y="194004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SNP</a:t>
              </a:r>
              <a:r>
                <a:rPr b="1" i="1" lang="fr-FR" sz="1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4843440" y="1936800"/>
            <a:ext cx="1890720" cy="282600"/>
            <a:chOff x="4843440" y="1936800"/>
            <a:chExt cx="1890720" cy="282600"/>
          </a:xfrm>
        </p:grpSpPr>
        <p:sp>
          <p:nvSpPr>
            <p:cNvPr id="1280" name=""/>
            <p:cNvSpPr/>
            <p:nvPr/>
          </p:nvSpPr>
          <p:spPr>
            <a:xfrm>
              <a:off x="5445000" y="1955880"/>
              <a:ext cx="687600" cy="2635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843440" y="193680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i="1" lang="fr-FR" sz="12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2324160" y="2506680"/>
            <a:ext cx="4257720" cy="12049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2562120" y="2971800"/>
            <a:ext cx="962280" cy="565200"/>
            <a:chOff x="2562120" y="2971800"/>
            <a:chExt cx="962280" cy="565200"/>
          </a:xfrm>
        </p:grpSpPr>
        <p:sp>
          <p:nvSpPr>
            <p:cNvPr id="1284" name=""/>
            <p:cNvSpPr/>
            <p:nvPr/>
          </p:nvSpPr>
          <p:spPr>
            <a:xfrm>
              <a:off x="2562120" y="2971800"/>
              <a:ext cx="962280" cy="565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2880" y="3139920"/>
              <a:ext cx="374760" cy="3286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102120" y="3139920"/>
              <a:ext cx="374400" cy="3286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5835600" y="2970360"/>
            <a:ext cx="514440" cy="603000"/>
            <a:chOff x="5835600" y="2970360"/>
            <a:chExt cx="514440" cy="603000"/>
          </a:xfrm>
        </p:grpSpPr>
        <p:sp>
          <p:nvSpPr>
            <p:cNvPr id="1288" name=""/>
            <p:cNvSpPr/>
            <p:nvPr/>
          </p:nvSpPr>
          <p:spPr>
            <a:xfrm>
              <a:off x="5842080" y="2976480"/>
              <a:ext cx="501480" cy="592200"/>
            </a:xfrm>
            <a:custGeom>
              <a:avLst/>
              <a:gdLst>
                <a:gd name="textAreaLeft" fmla="*/ 18360 w 501480"/>
                <a:gd name="textAreaRight" fmla="*/ 483120 w 501480"/>
                <a:gd name="textAreaTop" fmla="*/ 18360 h 592200"/>
                <a:gd name="textAreaBottom" fmla="*/ 573840 h 592200"/>
              </a:gdLst>
              <a:ahLst/>
              <a:rect l="textAreaLeft" t="textAreaTop" r="textAreaRight" b="textAreaBottom"/>
              <a:pathLst>
                <a:path w="21600" h="25505">
                  <a:moveTo>
                    <a:pt x="2699" y="0"/>
                  </a:moveTo>
                  <a:arcTo wR="2699" hR="2699" stAng="16200000" swAng="-5400000"/>
                  <a:lnTo>
                    <a:pt x="0" y="22806"/>
                  </a:lnTo>
                  <a:arcTo wR="2699" hR="2699" stAng="10800000" swAng="-5400000"/>
                  <a:lnTo>
                    <a:pt x="18901" y="2550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095880" y="2970360"/>
              <a:ext cx="1800" cy="60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835600" y="3492360"/>
              <a:ext cx="51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837400" y="3403440"/>
              <a:ext cx="50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835600" y="2970360"/>
              <a:ext cx="187200" cy="390240"/>
            </a:xfrm>
            <a:custGeom>
              <a:avLst/>
              <a:gdLst>
                <a:gd name="textAreaLeft" fmla="*/ 6840 w 187200"/>
                <a:gd name="textAreaRight" fmla="*/ 180360 w 187200"/>
                <a:gd name="textAreaTop" fmla="*/ 6840 h 390240"/>
                <a:gd name="textAreaBottom" fmla="*/ 383400 h 390240"/>
              </a:gdLst>
              <a:ahLst/>
              <a:rect l="textAreaLeft" t="textAreaTop" r="textAreaRight" b="textAreaBottom"/>
              <a:pathLst>
                <a:path w="21600" h="44983">
                  <a:moveTo>
                    <a:pt x="2699" y="0"/>
                  </a:moveTo>
                  <a:arcTo wR="2699" hR="2699" stAng="16200000" swAng="-5400000"/>
                  <a:lnTo>
                    <a:pt x="0" y="42284"/>
                  </a:lnTo>
                  <a:arcTo wR="2699" hR="2699" stAng="10800000" swAng="-5400000"/>
                  <a:lnTo>
                    <a:pt x="18901" y="4498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37400" y="3141720"/>
              <a:ext cx="51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835600" y="3313080"/>
              <a:ext cx="51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35600" y="3228840"/>
              <a:ext cx="51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37400" y="3054240"/>
              <a:ext cx="51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066760" y="2773440"/>
            <a:ext cx="189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670200" y="2814480"/>
            <a:ext cx="189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219560" y="2492280"/>
            <a:ext cx="81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126040" y="2595600"/>
            <a:ext cx="189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Redo Log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Buff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118280" y="3425760"/>
            <a:ext cx="6876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6492960" y="2868480"/>
            <a:ext cx="1890720" cy="266760"/>
            <a:chOff x="6492960" y="2868480"/>
            <a:chExt cx="1890720" cy="266760"/>
          </a:xfrm>
        </p:grpSpPr>
        <p:sp>
          <p:nvSpPr>
            <p:cNvPr id="1303" name=""/>
            <p:cNvSpPr/>
            <p:nvPr/>
          </p:nvSpPr>
          <p:spPr>
            <a:xfrm>
              <a:off x="7088040" y="2871720"/>
              <a:ext cx="687600" cy="2635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492960" y="286848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KP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6829560" y="3443400"/>
            <a:ext cx="12952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4543560" y="3911760"/>
            <a:ext cx="2880" cy="390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209680" y="2241720"/>
            <a:ext cx="352440" cy="2649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112920" y="2228760"/>
            <a:ext cx="352440" cy="2653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921120" y="2239920"/>
            <a:ext cx="347760" cy="2667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5600520" y="2252520"/>
            <a:ext cx="323640" cy="2714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6413040" y="2298600"/>
            <a:ext cx="381240" cy="1904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620040" y="3549600"/>
            <a:ext cx="495000" cy="190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3" name=""/>
          <p:cNvGrpSpPr/>
          <p:nvPr/>
        </p:nvGrpSpPr>
        <p:grpSpPr>
          <a:xfrm>
            <a:off x="368280" y="2805120"/>
            <a:ext cx="1890720" cy="270000"/>
            <a:chOff x="368280" y="2805120"/>
            <a:chExt cx="1890720" cy="270000"/>
          </a:xfrm>
        </p:grpSpPr>
        <p:sp>
          <p:nvSpPr>
            <p:cNvPr id="1314" name=""/>
            <p:cNvSpPr/>
            <p:nvPr/>
          </p:nvSpPr>
          <p:spPr>
            <a:xfrm>
              <a:off x="960480" y="2813040"/>
              <a:ext cx="687240" cy="26208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68280" y="280512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BW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384120" y="3421080"/>
            <a:ext cx="1890720" cy="270000"/>
            <a:chOff x="384120" y="3421080"/>
            <a:chExt cx="1890720" cy="270000"/>
          </a:xfrm>
        </p:grpSpPr>
        <p:sp>
          <p:nvSpPr>
            <p:cNvPr id="1317" name=""/>
            <p:cNvSpPr/>
            <p:nvPr/>
          </p:nvSpPr>
          <p:spPr>
            <a:xfrm>
              <a:off x="963720" y="3427560"/>
              <a:ext cx="689040" cy="2635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4120" y="342108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GW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5573880" y="4280040"/>
            <a:ext cx="839520" cy="34920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070600" y="431172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Process 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915080" y="4540320"/>
            <a:ext cx="6667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647720" y="3568680"/>
            <a:ext cx="67176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676520" y="2340000"/>
            <a:ext cx="637920" cy="333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92880" y="1681200"/>
            <a:ext cx="17557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tance Ora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996840" y="4883040"/>
            <a:ext cx="1473480" cy="12067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727280" y="4013280"/>
            <a:ext cx="6120" cy="8445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17560" y="5753160"/>
            <a:ext cx="18907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chier Paramèt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1258920" y="5164200"/>
            <a:ext cx="950760" cy="430200"/>
            <a:chOff x="1258920" y="5164200"/>
            <a:chExt cx="950760" cy="430200"/>
          </a:xfrm>
        </p:grpSpPr>
        <p:sp>
          <p:nvSpPr>
            <p:cNvPr id="1329" name=""/>
            <p:cNvSpPr/>
            <p:nvPr/>
          </p:nvSpPr>
          <p:spPr>
            <a:xfrm>
              <a:off x="1258920" y="5251320"/>
              <a:ext cx="950760" cy="2574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258920" y="5164200"/>
              <a:ext cx="950760" cy="1634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258920" y="5430960"/>
              <a:ext cx="950760" cy="1634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3216240" y="4883040"/>
            <a:ext cx="4816440" cy="120996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19680" y="5835600"/>
            <a:ext cx="17366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chiers de Donné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236760" y="5827680"/>
            <a:ext cx="16783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chiers de Contrô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1600" y="5904000"/>
            <a:ext cx="18604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Fichiers Redo Lo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435720" y="4976640"/>
            <a:ext cx="1380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ase de Données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Oracl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4897440" y="5018040"/>
            <a:ext cx="752400" cy="401760"/>
            <a:chOff x="4897440" y="5018040"/>
            <a:chExt cx="752400" cy="401760"/>
          </a:xfrm>
        </p:grpSpPr>
        <p:grpSp>
          <p:nvGrpSpPr>
            <p:cNvPr id="1338" name=""/>
            <p:cNvGrpSpPr/>
            <p:nvPr/>
          </p:nvGrpSpPr>
          <p:grpSpPr>
            <a:xfrm>
              <a:off x="4897440" y="5018040"/>
              <a:ext cx="752400" cy="401760"/>
              <a:chOff x="4897440" y="5018040"/>
              <a:chExt cx="752400" cy="401760"/>
            </a:xfrm>
          </p:grpSpPr>
          <p:sp>
            <p:nvSpPr>
              <p:cNvPr id="1339" name=""/>
              <p:cNvSpPr/>
              <p:nvPr/>
            </p:nvSpPr>
            <p:spPr>
              <a:xfrm>
                <a:off x="4897440" y="5100480"/>
                <a:ext cx="752400" cy="2397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897440" y="5018040"/>
                <a:ext cx="752400" cy="1522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897440" y="5267160"/>
                <a:ext cx="752400" cy="15264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4933800" y="5184720"/>
              <a:ext cx="9684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153040" y="5226120"/>
              <a:ext cx="150840" cy="5868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59440" y="5315040"/>
              <a:ext cx="92160" cy="57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37000" y="5275440"/>
              <a:ext cx="9864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83160" y="5219640"/>
              <a:ext cx="103320" cy="7776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5097600" y="5246640"/>
            <a:ext cx="752400" cy="401760"/>
            <a:chOff x="5097600" y="5246640"/>
            <a:chExt cx="752400" cy="401760"/>
          </a:xfrm>
        </p:grpSpPr>
        <p:grpSp>
          <p:nvGrpSpPr>
            <p:cNvPr id="1348" name=""/>
            <p:cNvGrpSpPr/>
            <p:nvPr/>
          </p:nvGrpSpPr>
          <p:grpSpPr>
            <a:xfrm>
              <a:off x="5097600" y="5246640"/>
              <a:ext cx="752400" cy="401760"/>
              <a:chOff x="5097600" y="5246640"/>
              <a:chExt cx="752400" cy="401760"/>
            </a:xfrm>
          </p:grpSpPr>
          <p:sp>
            <p:nvSpPr>
              <p:cNvPr id="1349" name=""/>
              <p:cNvSpPr/>
              <p:nvPr/>
            </p:nvSpPr>
            <p:spPr>
              <a:xfrm>
                <a:off x="5097600" y="5329080"/>
                <a:ext cx="752400" cy="2397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097600" y="5246640"/>
                <a:ext cx="752400" cy="1522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097600" y="5495760"/>
                <a:ext cx="752400" cy="15264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5133960" y="5413320"/>
              <a:ext cx="9684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53200" y="5454720"/>
              <a:ext cx="150840" cy="5868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259240" y="5543640"/>
              <a:ext cx="92160" cy="57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537160" y="5504040"/>
              <a:ext cx="9864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683320" y="5448240"/>
              <a:ext cx="102960" cy="7776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3541680" y="5353200"/>
            <a:ext cx="628560" cy="252360"/>
            <a:chOff x="3541680" y="5353200"/>
            <a:chExt cx="628560" cy="252360"/>
          </a:xfrm>
        </p:grpSpPr>
        <p:sp>
          <p:nvSpPr>
            <p:cNvPr id="1358" name=""/>
            <p:cNvSpPr/>
            <p:nvPr/>
          </p:nvSpPr>
          <p:spPr>
            <a:xfrm>
              <a:off x="3541680" y="5405400"/>
              <a:ext cx="628560" cy="1494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41680" y="5353200"/>
              <a:ext cx="628560" cy="950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541680" y="5510160"/>
              <a:ext cx="628560" cy="954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6615000" y="5300640"/>
            <a:ext cx="1055880" cy="496800"/>
            <a:chOff x="6615000" y="5300640"/>
            <a:chExt cx="1055880" cy="496800"/>
          </a:xfrm>
        </p:grpSpPr>
        <p:grpSp>
          <p:nvGrpSpPr>
            <p:cNvPr id="1362" name=""/>
            <p:cNvGrpSpPr/>
            <p:nvPr/>
          </p:nvGrpSpPr>
          <p:grpSpPr>
            <a:xfrm>
              <a:off x="6735600" y="5300640"/>
              <a:ext cx="546120" cy="220680"/>
              <a:chOff x="6735600" y="5300640"/>
              <a:chExt cx="546120" cy="220680"/>
            </a:xfrm>
          </p:grpSpPr>
          <p:sp>
            <p:nvSpPr>
              <p:cNvPr id="1363" name=""/>
              <p:cNvSpPr/>
              <p:nvPr/>
            </p:nvSpPr>
            <p:spPr>
              <a:xfrm>
                <a:off x="6735600" y="5346720"/>
                <a:ext cx="546120" cy="1285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735600" y="5300640"/>
                <a:ext cx="546120" cy="8424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735600" y="5437080"/>
                <a:ext cx="546120" cy="8424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7128000" y="5445000"/>
              <a:ext cx="542880" cy="222480"/>
              <a:chOff x="7128000" y="5445000"/>
              <a:chExt cx="542880" cy="222480"/>
            </a:xfrm>
          </p:grpSpPr>
          <p:sp>
            <p:nvSpPr>
              <p:cNvPr id="1367" name=""/>
              <p:cNvSpPr/>
              <p:nvPr/>
            </p:nvSpPr>
            <p:spPr>
              <a:xfrm>
                <a:off x="7128000" y="5491080"/>
                <a:ext cx="542880" cy="1317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128000" y="5445000"/>
                <a:ext cx="542880" cy="856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128000" y="5583240"/>
                <a:ext cx="542880" cy="8424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6615000" y="5483160"/>
              <a:ext cx="542880" cy="217440"/>
              <a:chOff x="6615000" y="5483160"/>
              <a:chExt cx="542880" cy="217440"/>
            </a:xfrm>
          </p:grpSpPr>
          <p:sp>
            <p:nvSpPr>
              <p:cNvPr id="1371" name=""/>
              <p:cNvSpPr/>
              <p:nvPr/>
            </p:nvSpPr>
            <p:spPr>
              <a:xfrm>
                <a:off x="6615000" y="5527800"/>
                <a:ext cx="542880" cy="1299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615000" y="5483160"/>
                <a:ext cx="542880" cy="8244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615000" y="5616720"/>
                <a:ext cx="542880" cy="838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6935760" y="5576760"/>
              <a:ext cx="544680" cy="220680"/>
              <a:chOff x="6935760" y="5576760"/>
              <a:chExt cx="544680" cy="220680"/>
            </a:xfrm>
          </p:grpSpPr>
          <p:sp>
            <p:nvSpPr>
              <p:cNvPr id="1375" name=""/>
              <p:cNvSpPr/>
              <p:nvPr/>
            </p:nvSpPr>
            <p:spPr>
              <a:xfrm>
                <a:off x="6935760" y="5622840"/>
                <a:ext cx="544680" cy="1303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935760" y="5576760"/>
                <a:ext cx="544680" cy="8424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935760" y="5713560"/>
                <a:ext cx="544680" cy="838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8" name=""/>
          <p:cNvGrpSpPr/>
          <p:nvPr/>
        </p:nvGrpSpPr>
        <p:grpSpPr>
          <a:xfrm>
            <a:off x="3773520" y="5529240"/>
            <a:ext cx="628560" cy="252360"/>
            <a:chOff x="3773520" y="5529240"/>
            <a:chExt cx="628560" cy="252360"/>
          </a:xfrm>
        </p:grpSpPr>
        <p:sp>
          <p:nvSpPr>
            <p:cNvPr id="1379" name=""/>
            <p:cNvSpPr/>
            <p:nvPr/>
          </p:nvSpPr>
          <p:spPr>
            <a:xfrm>
              <a:off x="3773520" y="5581800"/>
              <a:ext cx="628560" cy="1490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773520" y="5529240"/>
              <a:ext cx="628560" cy="954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773520" y="5686560"/>
              <a:ext cx="628560" cy="950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5288040" y="5446800"/>
            <a:ext cx="752400" cy="401400"/>
            <a:chOff x="5288040" y="5446800"/>
            <a:chExt cx="752400" cy="401400"/>
          </a:xfrm>
        </p:grpSpPr>
        <p:grpSp>
          <p:nvGrpSpPr>
            <p:cNvPr id="1383" name=""/>
            <p:cNvGrpSpPr/>
            <p:nvPr/>
          </p:nvGrpSpPr>
          <p:grpSpPr>
            <a:xfrm>
              <a:off x="5288040" y="5446800"/>
              <a:ext cx="752400" cy="401400"/>
              <a:chOff x="5288040" y="5446800"/>
              <a:chExt cx="752400" cy="401400"/>
            </a:xfrm>
          </p:grpSpPr>
          <p:sp>
            <p:nvSpPr>
              <p:cNvPr id="1384" name=""/>
              <p:cNvSpPr/>
              <p:nvPr/>
            </p:nvSpPr>
            <p:spPr>
              <a:xfrm>
                <a:off x="5288040" y="5529240"/>
                <a:ext cx="752400" cy="2397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288040" y="5446800"/>
                <a:ext cx="752400" cy="1522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288040" y="5695920"/>
                <a:ext cx="752400" cy="1522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87" name=""/>
            <p:cNvSpPr/>
            <p:nvPr/>
          </p:nvSpPr>
          <p:spPr>
            <a:xfrm>
              <a:off x="5324400" y="5613480"/>
              <a:ext cx="9684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43640" y="5654520"/>
              <a:ext cx="150840" cy="590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450040" y="5743440"/>
              <a:ext cx="91800" cy="57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27600" y="5703840"/>
              <a:ext cx="9864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873760" y="5648400"/>
              <a:ext cx="103320" cy="7776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1657440" y="2949480"/>
            <a:ext cx="6667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6481800" y="2313000"/>
            <a:ext cx="1890720" cy="282600"/>
            <a:chOff x="6481800" y="2313000"/>
            <a:chExt cx="1890720" cy="282600"/>
          </a:xfrm>
        </p:grpSpPr>
        <p:sp>
          <p:nvSpPr>
            <p:cNvPr id="1394" name=""/>
            <p:cNvSpPr/>
            <p:nvPr/>
          </p:nvSpPr>
          <p:spPr>
            <a:xfrm>
              <a:off x="7083360" y="2332080"/>
              <a:ext cx="687600" cy="2635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481800" y="231300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i="1" lang="fr-FR" sz="12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 flipH="1">
            <a:off x="6609960" y="2454120"/>
            <a:ext cx="466920" cy="1717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6615000" y="2997360"/>
            <a:ext cx="471600" cy="9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3943440" y="3079800"/>
            <a:ext cx="1301760" cy="579240"/>
            <a:chOff x="3943440" y="3079800"/>
            <a:chExt cx="1301760" cy="579240"/>
          </a:xfrm>
        </p:grpSpPr>
        <p:grpSp>
          <p:nvGrpSpPr>
            <p:cNvPr id="1399" name=""/>
            <p:cNvGrpSpPr/>
            <p:nvPr/>
          </p:nvGrpSpPr>
          <p:grpSpPr>
            <a:xfrm>
              <a:off x="3943440" y="3079800"/>
              <a:ext cx="1301760" cy="579240"/>
              <a:chOff x="3943440" y="3079800"/>
              <a:chExt cx="1301760" cy="579240"/>
            </a:xfrm>
          </p:grpSpPr>
          <p:sp>
            <p:nvSpPr>
              <p:cNvPr id="1400" name=""/>
              <p:cNvSpPr/>
              <p:nvPr/>
            </p:nvSpPr>
            <p:spPr>
              <a:xfrm>
                <a:off x="3949560" y="3086280"/>
                <a:ext cx="1289160" cy="56664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213080" y="3079800"/>
                <a:ext cx="0" cy="57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572000" y="3079800"/>
                <a:ext cx="0" cy="57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932360" y="3079800"/>
                <a:ext cx="0" cy="57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943440" y="330984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943440" y="349560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302000" y="308304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021280" y="308304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029120" y="3083040"/>
                <a:ext cx="0" cy="56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389480" y="308304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746600" y="308304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119480" y="3086280"/>
                <a:ext cx="0" cy="56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479840" y="3086280"/>
                <a:ext cx="0" cy="56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838760" y="3086280"/>
                <a:ext cx="0" cy="57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656240" y="307980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102280" y="308304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184720" y="308304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943440" y="339732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943440" y="358452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943440" y="322884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943440" y="315432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1" name=""/>
            <p:cNvSpPr/>
            <p:nvPr/>
          </p:nvSpPr>
          <p:spPr>
            <a:xfrm>
              <a:off x="3951360" y="3156120"/>
              <a:ext cx="8100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024440" y="3156120"/>
              <a:ext cx="8892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192640" y="3159000"/>
              <a:ext cx="44640" cy="63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42000" y="3157560"/>
              <a:ext cx="8712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935600" y="3157560"/>
              <a:ext cx="8424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07040" y="3157560"/>
              <a:ext cx="856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124160" y="340056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03720" y="3403440"/>
              <a:ext cx="95400" cy="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578480" y="3090960"/>
              <a:ext cx="64800" cy="54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575240" y="3232080"/>
              <a:ext cx="73080" cy="66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83080" y="3403440"/>
              <a:ext cx="81000" cy="82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307040" y="3309840"/>
              <a:ext cx="7920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576680" y="3500280"/>
              <a:ext cx="7164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838760" y="3400560"/>
              <a:ext cx="9036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307040" y="3503520"/>
              <a:ext cx="74520" cy="716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392720" y="3584520"/>
              <a:ext cx="8388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842000" y="3497400"/>
              <a:ext cx="9180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935600" y="3497400"/>
              <a:ext cx="8100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121280" y="3587760"/>
              <a:ext cx="871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033800" y="3594240"/>
              <a:ext cx="73080" cy="54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32440" y="3316320"/>
              <a:ext cx="63360" cy="712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749840" y="3313080"/>
              <a:ext cx="8244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29200" y="3500280"/>
              <a:ext cx="66600" cy="748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575240" y="3313080"/>
              <a:ext cx="777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60920" y="3232080"/>
              <a:ext cx="842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48040" y="3584520"/>
              <a:ext cx="874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7" name=""/>
          <p:cNvGrpSpPr/>
          <p:nvPr/>
        </p:nvGrpSpPr>
        <p:grpSpPr>
          <a:xfrm>
            <a:off x="5770440" y="1936800"/>
            <a:ext cx="1890720" cy="282600"/>
            <a:chOff x="5770440" y="1936800"/>
            <a:chExt cx="1890720" cy="282600"/>
          </a:xfrm>
        </p:grpSpPr>
        <p:sp>
          <p:nvSpPr>
            <p:cNvPr id="1448" name=""/>
            <p:cNvSpPr/>
            <p:nvPr/>
          </p:nvSpPr>
          <p:spPr>
            <a:xfrm>
              <a:off x="6372360" y="1955880"/>
              <a:ext cx="687240" cy="2635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770440" y="193680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i="1" lang="fr-FR" sz="12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0" name=""/>
          <p:cNvSpPr/>
          <p:nvPr/>
        </p:nvSpPr>
        <p:spPr>
          <a:xfrm flipH="1">
            <a:off x="4673520" y="2214720"/>
            <a:ext cx="324000" cy="2714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568600" y="5524560"/>
            <a:ext cx="673200" cy="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5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 administrateur de la base de données (DBA) doit comprendre l’architecture du serveur Oracle pour pouvoir effectivement gérer une base de données Orac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DBA doit comprendre les composants suivants: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proces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structures mémoir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fichier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73520" y="1511280"/>
            <a:ext cx="6876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5000" y="1511280"/>
            <a:ext cx="6858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25680" y="2367000"/>
            <a:ext cx="4257720" cy="12049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664000" y="2832120"/>
            <a:ext cx="961920" cy="565200"/>
            <a:chOff x="2664000" y="2832120"/>
            <a:chExt cx="961920" cy="565200"/>
          </a:xfrm>
        </p:grpSpPr>
        <p:sp>
          <p:nvSpPr>
            <p:cNvPr id="95" name=""/>
            <p:cNvSpPr/>
            <p:nvPr/>
          </p:nvSpPr>
          <p:spPr>
            <a:xfrm>
              <a:off x="2664000" y="2832120"/>
              <a:ext cx="961920" cy="565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14760" y="3000240"/>
              <a:ext cx="374400" cy="3286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03640" y="3000240"/>
              <a:ext cx="374760" cy="3286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937120" y="2830680"/>
            <a:ext cx="514440" cy="603000"/>
            <a:chOff x="5937120" y="2830680"/>
            <a:chExt cx="514440" cy="603000"/>
          </a:xfrm>
        </p:grpSpPr>
        <p:sp>
          <p:nvSpPr>
            <p:cNvPr id="99" name=""/>
            <p:cNvSpPr/>
            <p:nvPr/>
          </p:nvSpPr>
          <p:spPr>
            <a:xfrm>
              <a:off x="5943600" y="2836800"/>
              <a:ext cx="501480" cy="592200"/>
            </a:xfrm>
            <a:custGeom>
              <a:avLst/>
              <a:gdLst>
                <a:gd name="textAreaLeft" fmla="*/ 18360 w 501480"/>
                <a:gd name="textAreaRight" fmla="*/ 483120 w 501480"/>
                <a:gd name="textAreaTop" fmla="*/ 18360 h 592200"/>
                <a:gd name="textAreaBottom" fmla="*/ 573840 h 592200"/>
              </a:gdLst>
              <a:ahLst/>
              <a:rect l="textAreaLeft" t="textAreaTop" r="textAreaRight" b="textAreaBottom"/>
              <a:pathLst>
                <a:path w="21600" h="25505">
                  <a:moveTo>
                    <a:pt x="2699" y="0"/>
                  </a:moveTo>
                  <a:arcTo wR="2699" hR="2699" stAng="16200000" swAng="-5400000"/>
                  <a:lnTo>
                    <a:pt x="0" y="22806"/>
                  </a:lnTo>
                  <a:arcTo wR="2699" hR="2699" stAng="10800000" swAng="-5400000"/>
                  <a:lnTo>
                    <a:pt x="18901" y="2550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97760" y="2830680"/>
              <a:ext cx="1440" cy="60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37120" y="3352680"/>
              <a:ext cx="51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38920" y="3263760"/>
              <a:ext cx="50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37120" y="2830680"/>
              <a:ext cx="187560" cy="390240"/>
            </a:xfrm>
            <a:custGeom>
              <a:avLst/>
              <a:gdLst>
                <a:gd name="textAreaLeft" fmla="*/ 6840 w 187560"/>
                <a:gd name="textAreaRight" fmla="*/ 180720 w 187560"/>
                <a:gd name="textAreaTop" fmla="*/ 6840 h 390240"/>
                <a:gd name="textAreaBottom" fmla="*/ 383400 h 390240"/>
              </a:gdLst>
              <a:ahLst/>
              <a:rect l="textAreaLeft" t="textAreaTop" r="textAreaRight" b="textAreaBottom"/>
              <a:pathLst>
                <a:path w="21600" h="44897">
                  <a:moveTo>
                    <a:pt x="2699" y="0"/>
                  </a:moveTo>
                  <a:arcTo wR="2699" hR="2699" stAng="16200000" swAng="-5400000"/>
                  <a:lnTo>
                    <a:pt x="0" y="42198"/>
                  </a:lnTo>
                  <a:arcTo wR="2699" hR="2699" stAng="10800000" swAng="-5400000"/>
                  <a:lnTo>
                    <a:pt x="18901" y="4489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38920" y="3002040"/>
              <a:ext cx="51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37120" y="3173400"/>
              <a:ext cx="51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37120" y="3089160"/>
              <a:ext cx="51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38920" y="2914560"/>
              <a:ext cx="51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413160" y="2341440"/>
            <a:ext cx="247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ctures Mémo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81160" y="1866960"/>
            <a:ext cx="320760" cy="5079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13280" y="1854360"/>
            <a:ext cx="0" cy="5079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816520" y="1841400"/>
            <a:ext cx="279360" cy="5050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49600" y="3429000"/>
            <a:ext cx="67140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906560" y="4910040"/>
            <a:ext cx="951120" cy="430200"/>
            <a:chOff x="1906560" y="4910040"/>
            <a:chExt cx="951120" cy="430200"/>
          </a:xfrm>
        </p:grpSpPr>
        <p:sp>
          <p:nvSpPr>
            <p:cNvPr id="114" name=""/>
            <p:cNvSpPr/>
            <p:nvPr/>
          </p:nvSpPr>
          <p:spPr>
            <a:xfrm>
              <a:off x="1906560" y="4997520"/>
              <a:ext cx="951120" cy="2570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6560" y="4910040"/>
              <a:ext cx="951120" cy="1634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6560" y="5176800"/>
              <a:ext cx="951120" cy="1634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694400" y="4560840"/>
            <a:ext cx="752400" cy="401760"/>
            <a:chOff x="4694400" y="4560840"/>
            <a:chExt cx="752400" cy="401760"/>
          </a:xfrm>
        </p:grpSpPr>
        <p:grpSp>
          <p:nvGrpSpPr>
            <p:cNvPr id="118" name=""/>
            <p:cNvGrpSpPr/>
            <p:nvPr/>
          </p:nvGrpSpPr>
          <p:grpSpPr>
            <a:xfrm>
              <a:off x="4694400" y="4560840"/>
              <a:ext cx="752400" cy="401760"/>
              <a:chOff x="4694400" y="4560840"/>
              <a:chExt cx="752400" cy="401760"/>
            </a:xfrm>
          </p:grpSpPr>
          <p:sp>
            <p:nvSpPr>
              <p:cNvPr id="119" name=""/>
              <p:cNvSpPr/>
              <p:nvPr/>
            </p:nvSpPr>
            <p:spPr>
              <a:xfrm>
                <a:off x="4694400" y="4643280"/>
                <a:ext cx="752400" cy="2397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94400" y="4560840"/>
                <a:ext cx="752400" cy="1522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694400" y="4809960"/>
                <a:ext cx="752400" cy="15264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4730760" y="4727520"/>
              <a:ext cx="9684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50000" y="4768920"/>
              <a:ext cx="150480" cy="5868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56040" y="4857840"/>
              <a:ext cx="92160" cy="57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33960" y="4818240"/>
              <a:ext cx="9828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80120" y="4762440"/>
              <a:ext cx="102960" cy="7776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894200" y="4789440"/>
            <a:ext cx="752400" cy="401760"/>
            <a:chOff x="4894200" y="4789440"/>
            <a:chExt cx="752400" cy="401760"/>
          </a:xfrm>
        </p:grpSpPr>
        <p:grpSp>
          <p:nvGrpSpPr>
            <p:cNvPr id="128" name=""/>
            <p:cNvGrpSpPr/>
            <p:nvPr/>
          </p:nvGrpSpPr>
          <p:grpSpPr>
            <a:xfrm>
              <a:off x="4894200" y="4789440"/>
              <a:ext cx="752400" cy="401760"/>
              <a:chOff x="4894200" y="4789440"/>
              <a:chExt cx="752400" cy="401760"/>
            </a:xfrm>
          </p:grpSpPr>
          <p:sp>
            <p:nvSpPr>
              <p:cNvPr id="129" name=""/>
              <p:cNvSpPr/>
              <p:nvPr/>
            </p:nvSpPr>
            <p:spPr>
              <a:xfrm>
                <a:off x="4894200" y="4871880"/>
                <a:ext cx="752400" cy="2397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94200" y="4789440"/>
                <a:ext cx="752400" cy="1522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894200" y="5038560"/>
                <a:ext cx="752400" cy="15264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4930920" y="4956120"/>
              <a:ext cx="9684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49800" y="4997520"/>
              <a:ext cx="150840" cy="5868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56200" y="5086440"/>
              <a:ext cx="92160" cy="57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4120" y="5046840"/>
              <a:ext cx="9828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79920" y="4991040"/>
              <a:ext cx="103320" cy="7776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338640" y="4896000"/>
            <a:ext cx="628560" cy="252360"/>
            <a:chOff x="3338640" y="4896000"/>
            <a:chExt cx="628560" cy="252360"/>
          </a:xfrm>
        </p:grpSpPr>
        <p:sp>
          <p:nvSpPr>
            <p:cNvPr id="138" name=""/>
            <p:cNvSpPr/>
            <p:nvPr/>
          </p:nvSpPr>
          <p:spPr>
            <a:xfrm>
              <a:off x="3338640" y="4948200"/>
              <a:ext cx="628560" cy="1494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38640" y="4896000"/>
              <a:ext cx="628560" cy="950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38640" y="5052960"/>
              <a:ext cx="628560" cy="954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11960" y="4843440"/>
            <a:ext cx="1055520" cy="496800"/>
            <a:chOff x="6411960" y="4843440"/>
            <a:chExt cx="1055520" cy="496800"/>
          </a:xfrm>
        </p:grpSpPr>
        <p:grpSp>
          <p:nvGrpSpPr>
            <p:cNvPr id="142" name=""/>
            <p:cNvGrpSpPr/>
            <p:nvPr/>
          </p:nvGrpSpPr>
          <p:grpSpPr>
            <a:xfrm>
              <a:off x="6532560" y="4843440"/>
              <a:ext cx="546120" cy="220680"/>
              <a:chOff x="6532560" y="4843440"/>
              <a:chExt cx="546120" cy="220680"/>
            </a:xfrm>
          </p:grpSpPr>
          <p:sp>
            <p:nvSpPr>
              <p:cNvPr id="143" name=""/>
              <p:cNvSpPr/>
              <p:nvPr/>
            </p:nvSpPr>
            <p:spPr>
              <a:xfrm>
                <a:off x="6532560" y="4889520"/>
                <a:ext cx="546120" cy="1285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532560" y="4843440"/>
                <a:ext cx="546120" cy="8424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32560" y="4979880"/>
                <a:ext cx="546120" cy="8424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24600" y="4987800"/>
              <a:ext cx="542880" cy="222480"/>
              <a:chOff x="6924600" y="4987800"/>
              <a:chExt cx="542880" cy="222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24600" y="5033880"/>
                <a:ext cx="542880" cy="1317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24600" y="4987800"/>
                <a:ext cx="542880" cy="856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24600" y="5126040"/>
                <a:ext cx="542880" cy="8424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411960" y="5025960"/>
              <a:ext cx="542880" cy="217440"/>
              <a:chOff x="6411960" y="5025960"/>
              <a:chExt cx="542880" cy="217440"/>
            </a:xfrm>
          </p:grpSpPr>
          <p:sp>
            <p:nvSpPr>
              <p:cNvPr id="151" name=""/>
              <p:cNvSpPr/>
              <p:nvPr/>
            </p:nvSpPr>
            <p:spPr>
              <a:xfrm>
                <a:off x="6411960" y="5070600"/>
                <a:ext cx="542880" cy="1299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11960" y="5025960"/>
                <a:ext cx="542880" cy="8244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11960" y="5159520"/>
                <a:ext cx="542880" cy="838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732720" y="5119560"/>
              <a:ext cx="544320" cy="220680"/>
              <a:chOff x="6732720" y="5119560"/>
              <a:chExt cx="544320" cy="220680"/>
            </a:xfrm>
          </p:grpSpPr>
          <p:sp>
            <p:nvSpPr>
              <p:cNvPr id="155" name=""/>
              <p:cNvSpPr/>
              <p:nvPr/>
            </p:nvSpPr>
            <p:spPr>
              <a:xfrm>
                <a:off x="6732720" y="5165640"/>
                <a:ext cx="544320" cy="1303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32720" y="5119560"/>
                <a:ext cx="544320" cy="8424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32720" y="5256360"/>
                <a:ext cx="544320" cy="838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3570120" y="5072040"/>
            <a:ext cx="628920" cy="252360"/>
            <a:chOff x="3570120" y="5072040"/>
            <a:chExt cx="628920" cy="252360"/>
          </a:xfrm>
        </p:grpSpPr>
        <p:sp>
          <p:nvSpPr>
            <p:cNvPr id="159" name=""/>
            <p:cNvSpPr/>
            <p:nvPr/>
          </p:nvSpPr>
          <p:spPr>
            <a:xfrm>
              <a:off x="3570120" y="5124600"/>
              <a:ext cx="628920" cy="1490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0120" y="5072040"/>
              <a:ext cx="628920" cy="954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70120" y="5229360"/>
              <a:ext cx="628920" cy="950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084640" y="4989600"/>
            <a:ext cx="752760" cy="401400"/>
            <a:chOff x="5084640" y="4989600"/>
            <a:chExt cx="752760" cy="401400"/>
          </a:xfrm>
        </p:grpSpPr>
        <p:grpSp>
          <p:nvGrpSpPr>
            <p:cNvPr id="163" name=""/>
            <p:cNvGrpSpPr/>
            <p:nvPr/>
          </p:nvGrpSpPr>
          <p:grpSpPr>
            <a:xfrm>
              <a:off x="5084640" y="4989600"/>
              <a:ext cx="752760" cy="401400"/>
              <a:chOff x="5084640" y="4989600"/>
              <a:chExt cx="752760" cy="401400"/>
            </a:xfrm>
          </p:grpSpPr>
          <p:sp>
            <p:nvSpPr>
              <p:cNvPr id="164" name=""/>
              <p:cNvSpPr/>
              <p:nvPr/>
            </p:nvSpPr>
            <p:spPr>
              <a:xfrm>
                <a:off x="5084640" y="5072040"/>
                <a:ext cx="752760" cy="2397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84640" y="4989600"/>
                <a:ext cx="752760" cy="1522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84640" y="5238720"/>
                <a:ext cx="752760" cy="1522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5121360" y="5156280"/>
              <a:ext cx="9684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40240" y="5197320"/>
              <a:ext cx="150840" cy="590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46640" y="5286240"/>
              <a:ext cx="92160" cy="57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24560" y="5246640"/>
              <a:ext cx="9828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70720" y="5191200"/>
              <a:ext cx="102960" cy="7776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758960" y="2809800"/>
            <a:ext cx="6667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044960" y="2940120"/>
            <a:ext cx="1301760" cy="579240"/>
            <a:chOff x="4044960" y="2940120"/>
            <a:chExt cx="1301760" cy="579240"/>
          </a:xfrm>
        </p:grpSpPr>
        <p:grpSp>
          <p:nvGrpSpPr>
            <p:cNvPr id="174" name=""/>
            <p:cNvGrpSpPr/>
            <p:nvPr/>
          </p:nvGrpSpPr>
          <p:grpSpPr>
            <a:xfrm>
              <a:off x="4044960" y="2940120"/>
              <a:ext cx="1301760" cy="579240"/>
              <a:chOff x="4044960" y="2940120"/>
              <a:chExt cx="1301760" cy="579240"/>
            </a:xfrm>
          </p:grpSpPr>
          <p:sp>
            <p:nvSpPr>
              <p:cNvPr id="175" name=""/>
              <p:cNvSpPr/>
              <p:nvPr/>
            </p:nvSpPr>
            <p:spPr>
              <a:xfrm>
                <a:off x="4051440" y="2946240"/>
                <a:ext cx="1288800" cy="56700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314960" y="2940120"/>
                <a:ext cx="0" cy="57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73520" y="2940120"/>
                <a:ext cx="0" cy="57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033880" y="2940120"/>
                <a:ext cx="0" cy="57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44960" y="317016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44960" y="335592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03880" y="294336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22800" y="294336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130640" y="2943360"/>
                <a:ext cx="0" cy="56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91000" y="294336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48120" y="294336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21000" y="2946240"/>
                <a:ext cx="0" cy="56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581360" y="2946240"/>
                <a:ext cx="0" cy="56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40280" y="2946240"/>
                <a:ext cx="0" cy="571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57760" y="294012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203800" y="294336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286240" y="2943360"/>
                <a:ext cx="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44960" y="325764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44960" y="344484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44960" y="308916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44960" y="3014640"/>
                <a:ext cx="130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052880" y="3016080"/>
              <a:ext cx="81000" cy="7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25960" y="3016080"/>
              <a:ext cx="8892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94160" y="3019320"/>
              <a:ext cx="44640" cy="63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43520" y="3017880"/>
              <a:ext cx="8712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37120" y="3017880"/>
              <a:ext cx="8424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08560" y="3017880"/>
              <a:ext cx="8568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6040" y="326088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05240" y="3263760"/>
              <a:ext cx="95400" cy="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80000" y="2951280"/>
              <a:ext cx="65160" cy="54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76760" y="3092400"/>
              <a:ext cx="73080" cy="66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4600" y="3263760"/>
              <a:ext cx="81000" cy="82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08560" y="3170160"/>
              <a:ext cx="7920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78200" y="3360600"/>
              <a:ext cx="7164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40280" y="3260880"/>
              <a:ext cx="9036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08560" y="3363840"/>
              <a:ext cx="74520" cy="716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94240" y="3444840"/>
              <a:ext cx="842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43520" y="3357720"/>
              <a:ext cx="9216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37120" y="3357720"/>
              <a:ext cx="8100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22800" y="3448080"/>
              <a:ext cx="871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35320" y="3454560"/>
              <a:ext cx="73080" cy="536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3960" y="3176640"/>
              <a:ext cx="63360" cy="712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51360" y="3173400"/>
              <a:ext cx="8244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0720" y="3360600"/>
              <a:ext cx="66600" cy="748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76760" y="3173400"/>
              <a:ext cx="777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62440" y="3092400"/>
              <a:ext cx="842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49920" y="3444840"/>
              <a:ext cx="87120" cy="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600280" y="1511280"/>
            <a:ext cx="6858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50840" y="2666880"/>
            <a:ext cx="6858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3800" y="3289320"/>
            <a:ext cx="6858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75680" y="2629080"/>
            <a:ext cx="6858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88280" y="3251160"/>
            <a:ext cx="6858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2480" y="3378240"/>
            <a:ext cx="67140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11840" y="2759040"/>
            <a:ext cx="6667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24360" y="1511280"/>
            <a:ext cx="685800" cy="2635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88920" y="1528920"/>
            <a:ext cx="145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65680" y="3978360"/>
            <a:ext cx="102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ch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67360" y="1854360"/>
            <a:ext cx="0" cy="5079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s Structures Mémoir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69560" y="1673280"/>
            <a:ext cx="3549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a System Global Area (SG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50920" y="2089080"/>
            <a:ext cx="6845400" cy="19623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394978"/>
              </a:gs>
              <a:gs pos="50000">
                <a:srgbClr val="081d58"/>
              </a:gs>
              <a:gs pos="100000">
                <a:srgbClr val="394978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60640" y="2041560"/>
            <a:ext cx="6845040" cy="19620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43160" y="2571840"/>
            <a:ext cx="1858680" cy="10969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4680" y="2901960"/>
            <a:ext cx="722160" cy="630360"/>
          </a:xfrm>
          <a:prstGeom prst="roundRect">
            <a:avLst>
              <a:gd name="adj" fmla="val 30500"/>
            </a:avLst>
          </a:prstGeom>
          <a:gradFill rotWithShape="0">
            <a:gsLst>
              <a:gs pos="0">
                <a:srgbClr val="007f72"/>
              </a:gs>
              <a:gs pos="50000">
                <a:srgbClr val="00b7a5"/>
              </a:gs>
              <a:gs pos="100000">
                <a:srgbClr val="007f72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16320" y="2830680"/>
            <a:ext cx="2601720" cy="2373120"/>
          </a:xfrm>
          <a:prstGeom prst="roundRect">
            <a:avLst>
              <a:gd name="adj" fmla="val 30500"/>
            </a:avLst>
          </a:prstGeom>
          <a:gradFill rotWithShape="0">
            <a:gsLst>
              <a:gs pos="0">
                <a:srgbClr val="007f72"/>
              </a:gs>
              <a:gs pos="50000">
                <a:srgbClr val="00b7a5"/>
              </a:gs>
              <a:gs pos="100000">
                <a:srgbClr val="007f72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47800" y="212724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a Shared Pool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57760" y="3065400"/>
            <a:ext cx="838080" cy="1828800"/>
          </a:xfrm>
          <a:custGeom>
            <a:avLst/>
            <a:gdLst>
              <a:gd name="textAreaLeft" fmla="*/ 30600 w 838080"/>
              <a:gd name="textAreaRight" fmla="*/ 807480 w 838080"/>
              <a:gd name="textAreaTop" fmla="*/ 30600 h 1828800"/>
              <a:gd name="textAreaBottom" fmla="*/ 1798200 h 1828800"/>
            </a:gdLst>
            <a:ahLst/>
            <a:rect l="textAreaLeft" t="textAreaTop" r="textAreaRight" b="textAreaBottom"/>
            <a:pathLst>
              <a:path w="21600" h="47123">
                <a:moveTo>
                  <a:pt x="2699" y="0"/>
                </a:moveTo>
                <a:arcTo wR="2699" hR="2699" stAng="16200000" swAng="-5400000"/>
                <a:lnTo>
                  <a:pt x="0" y="44424"/>
                </a:lnTo>
                <a:arcTo wR="2699" hR="2699" stAng="10800000" swAng="-5400000"/>
                <a:lnTo>
                  <a:pt x="18901" y="4712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13720" y="5319720"/>
            <a:ext cx="317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he du Dictionnaire de Donné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79560" y="3363840"/>
            <a:ext cx="15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84480" y="3668760"/>
            <a:ext cx="152280" cy="152280"/>
          </a:xfrm>
          <a:prstGeom prst="rect">
            <a:avLst/>
          </a:prstGeom>
          <a:solidFill>
            <a:srgbClr val="8f1ee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20880" y="3897360"/>
            <a:ext cx="152640" cy="152280"/>
          </a:xfrm>
          <a:prstGeom prst="rect">
            <a:avLst/>
          </a:prstGeom>
          <a:solidFill>
            <a:srgbClr val="8cf4ea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0800" y="4125960"/>
            <a:ext cx="152280" cy="152280"/>
          </a:xfrm>
          <a:prstGeom prst="rect">
            <a:avLst/>
          </a:prstGeom>
          <a:solidFill>
            <a:srgbClr val="8cf4ea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55880" y="4354560"/>
            <a:ext cx="152280" cy="152280"/>
          </a:xfrm>
          <a:prstGeom prst="rect">
            <a:avLst/>
          </a:prstGeom>
          <a:solidFill>
            <a:srgbClr val="8f1ee1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65360" y="3897360"/>
            <a:ext cx="152640" cy="15228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65360" y="3363840"/>
            <a:ext cx="152640" cy="152640"/>
          </a:xfrm>
          <a:prstGeom prst="rect">
            <a:avLst/>
          </a:prstGeom>
          <a:solidFill>
            <a:srgbClr val="8cf4ea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02960" y="5319720"/>
            <a:ext cx="1789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ones de requêt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QL partagé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87480" y="1684440"/>
            <a:ext cx="318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ystem Global Area (SG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49480" y="4559400"/>
            <a:ext cx="290520" cy="954000"/>
          </a:xfrm>
          <a:custGeom>
            <a:avLst/>
            <a:gdLst/>
            <a:ahLst/>
            <a:rect l="l" t="t" r="r" b="b"/>
            <a:pathLst>
              <a:path w="183" h="601">
                <a:moveTo>
                  <a:pt x="182" y="0"/>
                </a:moveTo>
                <a:lnTo>
                  <a:pt x="182" y="600"/>
                </a:lnTo>
                <a:lnTo>
                  <a:pt x="0" y="600"/>
                </a:lnTo>
              </a:path>
            </a:pathLst>
          </a:custGeom>
          <a:noFill/>
          <a:ln cap="rnd" w="12600">
            <a:solidFill>
              <a:srgbClr val="ffba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09920" y="4923000"/>
            <a:ext cx="663840" cy="588960"/>
          </a:xfrm>
          <a:custGeom>
            <a:avLst/>
            <a:gdLst/>
            <a:ahLst/>
            <a:rect l="l" t="t" r="r" b="b"/>
            <a:pathLst>
              <a:path w="418" h="371">
                <a:moveTo>
                  <a:pt x="0" y="0"/>
                </a:moveTo>
                <a:lnTo>
                  <a:pt x="0" y="370"/>
                </a:lnTo>
                <a:lnTo>
                  <a:pt x="417" y="370"/>
                </a:lnTo>
              </a:path>
            </a:pathLst>
          </a:custGeom>
          <a:noFill/>
          <a:ln cap="rnd" w="12600">
            <a:solidFill>
              <a:srgbClr val="ffba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69920" y="1673280"/>
            <a:ext cx="318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ystem Global Area (SG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2089080"/>
            <a:ext cx="6845040" cy="19623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343160" y="2619360"/>
            <a:ext cx="1858680" cy="1096920"/>
            <a:chOff x="1343160" y="2619360"/>
            <a:chExt cx="1858680" cy="1096920"/>
          </a:xfrm>
        </p:grpSpPr>
        <p:sp>
          <p:nvSpPr>
            <p:cNvPr id="263" name=""/>
            <p:cNvSpPr/>
            <p:nvPr/>
          </p:nvSpPr>
          <p:spPr>
            <a:xfrm>
              <a:off x="1343160" y="2619360"/>
              <a:ext cx="1858680" cy="1096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44680" y="2949480"/>
              <a:ext cx="722160" cy="630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81400" y="2949480"/>
              <a:ext cx="723600" cy="630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613320" y="2616120"/>
            <a:ext cx="2205000" cy="1079640"/>
          </a:xfrm>
          <a:prstGeom prst="roundRect">
            <a:avLst>
              <a:gd name="adj" fmla="val 12495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7800" y="215280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70240" y="217476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Database Buffer Cach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146480" y="3102120"/>
            <a:ext cx="3326040" cy="1482480"/>
            <a:chOff x="4146480" y="3102120"/>
            <a:chExt cx="3326040" cy="1482480"/>
          </a:xfrm>
        </p:grpSpPr>
        <p:sp>
          <p:nvSpPr>
            <p:cNvPr id="271" name=""/>
            <p:cNvSpPr/>
            <p:nvPr/>
          </p:nvSpPr>
          <p:spPr>
            <a:xfrm>
              <a:off x="4152960" y="3108240"/>
              <a:ext cx="3313080" cy="1470240"/>
            </a:xfrm>
            <a:prstGeom prst="roundRect">
              <a:avLst>
                <a:gd name="adj" fmla="val 12495"/>
              </a:avLst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35520" y="3102120"/>
              <a:ext cx="0" cy="148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51360" y="3102120"/>
              <a:ext cx="0" cy="148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72240" y="3102120"/>
              <a:ext cx="0" cy="148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46480" y="3689280"/>
              <a:ext cx="3326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6480" y="4165560"/>
              <a:ext cx="3326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64120" y="3110040"/>
              <a:ext cx="0" cy="146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00840" y="3110040"/>
              <a:ext cx="0" cy="146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67160" y="3110040"/>
              <a:ext cx="0" cy="14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88040" y="3110040"/>
              <a:ext cx="0" cy="146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00640" y="3110040"/>
              <a:ext cx="0" cy="146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95760" y="3116160"/>
              <a:ext cx="0" cy="144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16640" y="3116160"/>
              <a:ext cx="0" cy="144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32480" y="3116160"/>
              <a:ext cx="0" cy="146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69160" y="3102120"/>
              <a:ext cx="0" cy="14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08920" y="3110040"/>
              <a:ext cx="0" cy="146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19880" y="3110040"/>
              <a:ext cx="0" cy="146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46480" y="3914640"/>
              <a:ext cx="3326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46480" y="4394160"/>
              <a:ext cx="3326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46480" y="3483000"/>
              <a:ext cx="3326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46480" y="3292560"/>
              <a:ext cx="3326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68800" y="3295800"/>
              <a:ext cx="2030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52760" y="3295800"/>
              <a:ext cx="22860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37520" y="3303720"/>
              <a:ext cx="112680" cy="1648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43640" y="3300480"/>
              <a:ext cx="22068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83400" y="3300480"/>
              <a:ext cx="212760" cy="17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73480" y="3300480"/>
              <a:ext cx="22068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06920" y="3922560"/>
              <a:ext cx="22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11760" y="3929040"/>
              <a:ext cx="243000" cy="23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70440" y="3129120"/>
              <a:ext cx="165240" cy="1378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62520" y="3490920"/>
              <a:ext cx="184320" cy="1731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26000" y="3929040"/>
              <a:ext cx="206640" cy="214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73480" y="3692520"/>
              <a:ext cx="20340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65760" y="4176720"/>
              <a:ext cx="181080" cy="1983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35720" y="3921120"/>
              <a:ext cx="22860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73480" y="4184640"/>
              <a:ext cx="190800" cy="1857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95960" y="4394160"/>
              <a:ext cx="21276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43640" y="4172040"/>
              <a:ext cx="23508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80160" y="4168800"/>
              <a:ext cx="209520" cy="22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02240" y="4402080"/>
              <a:ext cx="2221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8320" y="4416480"/>
              <a:ext cx="187200" cy="1411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29280" y="3705120"/>
              <a:ext cx="160560" cy="1857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08560" y="3700440"/>
              <a:ext cx="208080" cy="1951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21360" y="4179960"/>
              <a:ext cx="168480" cy="1904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62520" y="3700440"/>
              <a:ext cx="19872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79960" y="3490920"/>
              <a:ext cx="21276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03880" y="4394160"/>
              <a:ext cx="22068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Redo Log Buff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69920" y="1673280"/>
            <a:ext cx="318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ystem Global Area (SG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60640" y="2089080"/>
            <a:ext cx="6845040" cy="19623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43160" y="2619360"/>
            <a:ext cx="1858680" cy="1096920"/>
            <a:chOff x="1343160" y="2619360"/>
            <a:chExt cx="1858680" cy="1096920"/>
          </a:xfrm>
        </p:grpSpPr>
        <p:sp>
          <p:nvSpPr>
            <p:cNvPr id="324" name=""/>
            <p:cNvSpPr/>
            <p:nvPr/>
          </p:nvSpPr>
          <p:spPr>
            <a:xfrm>
              <a:off x="1343160" y="2619360"/>
              <a:ext cx="1858680" cy="1096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44680" y="2949480"/>
              <a:ext cx="722160" cy="630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81400" y="2949480"/>
              <a:ext cx="723600" cy="630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847800" y="215280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26000" y="217476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edo Log Buf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70240" y="217476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13320" y="2616120"/>
            <a:ext cx="2205000" cy="10796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03630"/>
              </a:gs>
              <a:gs pos="50000">
                <a:srgbClr val="00b7a5"/>
              </a:gs>
              <a:gs pos="100000">
                <a:srgbClr val="00363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51560" y="2602080"/>
            <a:ext cx="973080" cy="1150920"/>
          </a:xfrm>
          <a:custGeom>
            <a:avLst/>
            <a:gdLst>
              <a:gd name="textAreaLeft" fmla="*/ 35280 w 973080"/>
              <a:gd name="textAreaRight" fmla="*/ 937800 w 973080"/>
              <a:gd name="textAreaTop" fmla="*/ 35280 h 1150920"/>
              <a:gd name="textAreaBottom" fmla="*/ 1115640 h 1150920"/>
            </a:gdLst>
            <a:ahLst/>
            <a:rect l="textAreaLeft" t="textAreaTop" r="textAreaRight" b="textAreaBottom"/>
            <a:pathLst>
              <a:path w="21600" h="25546">
                <a:moveTo>
                  <a:pt x="2699" y="0"/>
                </a:moveTo>
                <a:arcTo wR="2699" hR="2699" stAng="16200000" swAng="-5400000"/>
                <a:lnTo>
                  <a:pt x="0" y="22847"/>
                </a:lnTo>
                <a:arcTo wR="2699" hR="2699" stAng="10800000" swAng="-5400000"/>
                <a:lnTo>
                  <a:pt x="18901" y="2554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448240" y="3040200"/>
            <a:ext cx="1716120" cy="2017440"/>
            <a:chOff x="5448240" y="3040200"/>
            <a:chExt cx="1716120" cy="2017440"/>
          </a:xfrm>
        </p:grpSpPr>
        <p:sp>
          <p:nvSpPr>
            <p:cNvPr id="333" name=""/>
            <p:cNvSpPr/>
            <p:nvPr/>
          </p:nvSpPr>
          <p:spPr>
            <a:xfrm>
              <a:off x="5454720" y="3040200"/>
              <a:ext cx="1703160" cy="2008080"/>
            </a:xfrm>
            <a:custGeom>
              <a:avLst/>
              <a:gdLst>
                <a:gd name="textAreaLeft" fmla="*/ 62280 w 1703160"/>
                <a:gd name="textAreaRight" fmla="*/ 1640880 w 1703160"/>
                <a:gd name="textAreaTop" fmla="*/ 62280 h 2008080"/>
                <a:gd name="textAreaBottom" fmla="*/ 1945800 h 2008080"/>
              </a:gdLst>
              <a:ahLst/>
              <a:rect l="textAreaLeft" t="textAreaTop" r="textAreaRight" b="textAreaBottom"/>
              <a:pathLst>
                <a:path w="21600" h="25466">
                  <a:moveTo>
                    <a:pt x="2699" y="0"/>
                  </a:moveTo>
                  <a:arcTo wR="2699" hR="2699" stAng="16200000" swAng="-5400000"/>
                  <a:lnTo>
                    <a:pt x="0" y="22767"/>
                  </a:lnTo>
                  <a:arcTo wR="2699" hR="2699" stAng="10800000" swAng="-5400000"/>
                  <a:lnTo>
                    <a:pt x="18901" y="2546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15120" y="3043080"/>
              <a:ext cx="0" cy="201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48240" y="4781520"/>
              <a:ext cx="171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50040" y="4478400"/>
              <a:ext cx="1706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57960" y="3052800"/>
              <a:ext cx="630000" cy="1301760"/>
            </a:xfrm>
            <a:custGeom>
              <a:avLst/>
              <a:gdLst>
                <a:gd name="textAreaLeft" fmla="*/ 23040 w 630000"/>
                <a:gd name="textAreaRight" fmla="*/ 606960 w 630000"/>
                <a:gd name="textAreaTop" fmla="*/ 23040 h 1301760"/>
                <a:gd name="textAreaBottom" fmla="*/ 1278720 h 1301760"/>
              </a:gdLst>
              <a:ahLst/>
              <a:rect l="textAreaLeft" t="textAreaTop" r="textAreaRight" b="textAreaBottom"/>
              <a:pathLst>
                <a:path w="21600" h="44619">
                  <a:moveTo>
                    <a:pt x="2699" y="0"/>
                  </a:moveTo>
                  <a:arcTo wR="2699" hR="2699" stAng="16200000" swAng="-5400000"/>
                  <a:lnTo>
                    <a:pt x="0" y="41920"/>
                  </a:lnTo>
                  <a:arcTo wR="2699" hR="2699" stAng="10800000" swAng="-5400000"/>
                  <a:lnTo>
                    <a:pt x="18901" y="44619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50040" y="3598920"/>
              <a:ext cx="17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48240" y="4179960"/>
              <a:ext cx="171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48240" y="3898800"/>
              <a:ext cx="171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50040" y="3314880"/>
              <a:ext cx="17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Process Background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52800" y="2543040"/>
            <a:ext cx="4857480" cy="1657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400480" y="3332160"/>
            <a:ext cx="1158840" cy="682560"/>
            <a:chOff x="2400480" y="3332160"/>
            <a:chExt cx="1158840" cy="682560"/>
          </a:xfrm>
        </p:grpSpPr>
        <p:sp>
          <p:nvSpPr>
            <p:cNvPr id="347" name=""/>
            <p:cNvSpPr/>
            <p:nvPr/>
          </p:nvSpPr>
          <p:spPr>
            <a:xfrm>
              <a:off x="2400480" y="3332160"/>
              <a:ext cx="1158840" cy="68256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462040" y="3535200"/>
              <a:ext cx="451080" cy="3952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49560" y="3535200"/>
              <a:ext cx="450720" cy="3952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111720" y="3292560"/>
            <a:ext cx="617760" cy="726840"/>
            <a:chOff x="6111720" y="3292560"/>
            <a:chExt cx="617760" cy="726840"/>
          </a:xfrm>
        </p:grpSpPr>
        <p:sp>
          <p:nvSpPr>
            <p:cNvPr id="351" name=""/>
            <p:cNvSpPr/>
            <p:nvPr/>
          </p:nvSpPr>
          <p:spPr>
            <a:xfrm>
              <a:off x="6118200" y="3298680"/>
              <a:ext cx="604800" cy="716040"/>
            </a:xfrm>
            <a:custGeom>
              <a:avLst/>
              <a:gdLst>
                <a:gd name="textAreaLeft" fmla="*/ 21960 w 604800"/>
                <a:gd name="textAreaRight" fmla="*/ 582840 w 604800"/>
                <a:gd name="textAreaTop" fmla="*/ 21960 h 716040"/>
                <a:gd name="textAreaBottom" fmla="*/ 694080 h 716040"/>
              </a:gdLst>
              <a:ahLst/>
              <a:rect l="textAreaLeft" t="textAreaTop" r="textAreaRight" b="textAreaBottom"/>
              <a:pathLst>
                <a:path w="21600" h="25570">
                  <a:moveTo>
                    <a:pt x="2699" y="0"/>
                  </a:moveTo>
                  <a:arcTo wR="2699" hR="2699" stAng="16200000" swAng="-5400000"/>
                  <a:lnTo>
                    <a:pt x="0" y="22871"/>
                  </a:lnTo>
                  <a:arcTo wR="2699" hR="2699" stAng="10800000" swAng="-5400000"/>
                  <a:lnTo>
                    <a:pt x="18901" y="2557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24560" y="3292560"/>
              <a:ext cx="1800" cy="72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11720" y="392256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3520" y="3813120"/>
              <a:ext cx="61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11720" y="3292560"/>
              <a:ext cx="225720" cy="469800"/>
            </a:xfrm>
            <a:custGeom>
              <a:avLst/>
              <a:gdLst>
                <a:gd name="textAreaLeft" fmla="*/ 7920 w 225720"/>
                <a:gd name="textAreaRight" fmla="*/ 217800 w 225720"/>
                <a:gd name="textAreaTop" fmla="*/ 7920 h 469800"/>
                <a:gd name="textAreaBottom" fmla="*/ 461880 h 469800"/>
              </a:gdLst>
              <a:ahLst/>
              <a:rect l="textAreaLeft" t="textAreaTop" r="textAreaRight" b="textAreaBottom"/>
              <a:pathLst>
                <a:path w="21600" h="44920">
                  <a:moveTo>
                    <a:pt x="2699" y="0"/>
                  </a:moveTo>
                  <a:arcTo wR="2699" hR="2699" stAng="16200000" swAng="-5400000"/>
                  <a:lnTo>
                    <a:pt x="0" y="42221"/>
                  </a:lnTo>
                  <a:arcTo wR="2699" hR="2699" stAng="10800000" swAng="-5400000"/>
                  <a:lnTo>
                    <a:pt x="18901" y="4492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13520" y="349740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370512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11720" y="3603600"/>
              <a:ext cx="61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13520" y="339408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305240" y="2577960"/>
            <a:ext cx="97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27800" y="3652920"/>
            <a:ext cx="828720" cy="31896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87360" y="3122640"/>
            <a:ext cx="1890720" cy="326520"/>
            <a:chOff x="387360" y="3122640"/>
            <a:chExt cx="1890720" cy="326520"/>
          </a:xfrm>
        </p:grpSpPr>
        <p:sp>
          <p:nvSpPr>
            <p:cNvPr id="363" name=""/>
            <p:cNvSpPr/>
            <p:nvPr/>
          </p:nvSpPr>
          <p:spPr>
            <a:xfrm>
              <a:off x="907920" y="31226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7360" y="31226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B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800760" y="2603520"/>
            <a:ext cx="1890720" cy="331200"/>
            <a:chOff x="6800760" y="2603520"/>
            <a:chExt cx="1890720" cy="331200"/>
          </a:xfrm>
        </p:grpSpPr>
        <p:sp>
          <p:nvSpPr>
            <p:cNvPr id="366" name=""/>
            <p:cNvSpPr/>
            <p:nvPr/>
          </p:nvSpPr>
          <p:spPr>
            <a:xfrm>
              <a:off x="7324560" y="260352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00760" y="260820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KP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41360" y="3740040"/>
            <a:ext cx="1890720" cy="328320"/>
            <a:chOff x="441360" y="3740040"/>
            <a:chExt cx="1890720" cy="328320"/>
          </a:xfrm>
        </p:grpSpPr>
        <p:sp>
          <p:nvSpPr>
            <p:cNvPr id="369" name=""/>
            <p:cNvSpPr/>
            <p:nvPr/>
          </p:nvSpPr>
          <p:spPr>
            <a:xfrm>
              <a:off x="947880" y="3740040"/>
              <a:ext cx="82836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1360" y="37418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GW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15160" y="3660840"/>
            <a:ext cx="1890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803240" y="3695400"/>
            <a:ext cx="409680" cy="284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020000" y="2790720"/>
            <a:ext cx="295200" cy="4381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00920" y="3505320"/>
            <a:ext cx="323640" cy="390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07880" y="2449440"/>
            <a:ext cx="1890720" cy="326520"/>
            <a:chOff x="407880" y="2449440"/>
            <a:chExt cx="1890720" cy="326520"/>
          </a:xfrm>
        </p:grpSpPr>
        <p:sp>
          <p:nvSpPr>
            <p:cNvPr id="376" name=""/>
            <p:cNvSpPr/>
            <p:nvPr/>
          </p:nvSpPr>
          <p:spPr>
            <a:xfrm>
              <a:off x="936720" y="245412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7880" y="244944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482920" y="1611360"/>
            <a:ext cx="1890720" cy="326520"/>
            <a:chOff x="2482920" y="1611360"/>
            <a:chExt cx="1890720" cy="326520"/>
          </a:xfrm>
        </p:grpSpPr>
        <p:sp>
          <p:nvSpPr>
            <p:cNvPr id="379" name=""/>
            <p:cNvSpPr/>
            <p:nvPr/>
          </p:nvSpPr>
          <p:spPr>
            <a:xfrm>
              <a:off x="30225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82920" y="16113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LCK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571920" y="1616040"/>
            <a:ext cx="1890720" cy="331200"/>
            <a:chOff x="3571920" y="1616040"/>
            <a:chExt cx="1890720" cy="331200"/>
          </a:xfrm>
        </p:grpSpPr>
        <p:sp>
          <p:nvSpPr>
            <p:cNvPr id="382" name=""/>
            <p:cNvSpPr/>
            <p:nvPr/>
          </p:nvSpPr>
          <p:spPr>
            <a:xfrm>
              <a:off x="407988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71920" y="1620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44600" y="1611360"/>
            <a:ext cx="1890720" cy="326520"/>
            <a:chOff x="444600" y="1611360"/>
            <a:chExt cx="1890720" cy="326520"/>
          </a:xfrm>
        </p:grpSpPr>
        <p:sp>
          <p:nvSpPr>
            <p:cNvPr id="385" name=""/>
            <p:cNvSpPr/>
            <p:nvPr/>
          </p:nvSpPr>
          <p:spPr>
            <a:xfrm>
              <a:off x="9651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4600" y="16113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M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1459080" y="1616040"/>
            <a:ext cx="1890720" cy="331200"/>
            <a:chOff x="1459080" y="1616040"/>
            <a:chExt cx="1890720" cy="331200"/>
          </a:xfrm>
        </p:grpSpPr>
        <p:sp>
          <p:nvSpPr>
            <p:cNvPr id="388" name=""/>
            <p:cNvSpPr/>
            <p:nvPr/>
          </p:nvSpPr>
          <p:spPr>
            <a:xfrm>
              <a:off x="1974960" y="161604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59080" y="162072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N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548240" y="1609560"/>
            <a:ext cx="1890720" cy="333720"/>
            <a:chOff x="4548240" y="1609560"/>
            <a:chExt cx="1890720" cy="333720"/>
          </a:xfrm>
        </p:grpSpPr>
        <p:sp>
          <p:nvSpPr>
            <p:cNvPr id="391" name=""/>
            <p:cNvSpPr/>
            <p:nvPr/>
          </p:nvSpPr>
          <p:spPr>
            <a:xfrm>
              <a:off x="5079960" y="1623960"/>
              <a:ext cx="828720" cy="3193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48240" y="160956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249552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57440" y="200808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24480" y="1989000"/>
            <a:ext cx="19080" cy="544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00880" y="2006640"/>
            <a:ext cx="0" cy="5364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53080" y="1994040"/>
            <a:ext cx="0" cy="555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409760" y="2000160"/>
            <a:ext cx="799920" cy="5907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656400" y="1631880"/>
            <a:ext cx="1890720" cy="333360"/>
            <a:chOff x="6656400" y="1631880"/>
            <a:chExt cx="1890720" cy="333360"/>
          </a:xfrm>
        </p:grpSpPr>
        <p:sp>
          <p:nvSpPr>
            <p:cNvPr id="400" name=""/>
            <p:cNvSpPr/>
            <p:nvPr/>
          </p:nvSpPr>
          <p:spPr>
            <a:xfrm>
              <a:off x="7188120" y="164628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56400" y="16318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 flipH="1">
            <a:off x="6943320" y="1998720"/>
            <a:ext cx="600120" cy="582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33520" y="2967120"/>
            <a:ext cx="129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03600" y="2967120"/>
            <a:ext cx="227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67280" y="2784600"/>
            <a:ext cx="1123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Redo Log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943440" y="3343320"/>
            <a:ext cx="1560600" cy="695160"/>
            <a:chOff x="3943440" y="3343320"/>
            <a:chExt cx="1560600" cy="695160"/>
          </a:xfrm>
        </p:grpSpPr>
        <p:grpSp>
          <p:nvGrpSpPr>
            <p:cNvPr id="407" name=""/>
            <p:cNvGrpSpPr/>
            <p:nvPr/>
          </p:nvGrpSpPr>
          <p:grpSpPr>
            <a:xfrm>
              <a:off x="3943440" y="3343320"/>
              <a:ext cx="1560600" cy="695160"/>
              <a:chOff x="3943440" y="3343320"/>
              <a:chExt cx="1560600" cy="695160"/>
            </a:xfrm>
          </p:grpSpPr>
          <p:sp>
            <p:nvSpPr>
              <p:cNvPr id="408" name=""/>
              <p:cNvSpPr/>
              <p:nvPr/>
            </p:nvSpPr>
            <p:spPr>
              <a:xfrm>
                <a:off x="3949560" y="3349800"/>
                <a:ext cx="1548000" cy="68256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708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9584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129280" y="3343320"/>
                <a:ext cx="0" cy="69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43440" y="361944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43440" y="384192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7364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23548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046400" y="3346560"/>
                <a:ext cx="0" cy="682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4784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9068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54400" y="3349800"/>
                <a:ext cx="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86400" y="3349800"/>
                <a:ext cx="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016600" y="3349800"/>
                <a:ext cx="0" cy="68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99160" y="334332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33412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32400" y="3346560"/>
                <a:ext cx="0" cy="69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943440" y="372420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943440" y="394956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943440" y="352260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43440" y="3432240"/>
                <a:ext cx="1560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3954600" y="3433680"/>
              <a:ext cx="9504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40280" y="3433680"/>
              <a:ext cx="10800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40320" y="3438360"/>
              <a:ext cx="5256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21280" y="3436920"/>
              <a:ext cx="10332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33960" y="3436920"/>
              <a:ext cx="10008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78320" y="3436920"/>
              <a:ext cx="1033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59080" y="3727440"/>
              <a:ext cx="108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55920" y="3730680"/>
              <a:ext cx="11304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05200" y="3355920"/>
              <a:ext cx="77760" cy="651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02320" y="3525840"/>
              <a:ext cx="8568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91080" y="3730680"/>
              <a:ext cx="96840" cy="1015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78320" y="3619440"/>
              <a:ext cx="9540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03760" y="3846600"/>
              <a:ext cx="84240" cy="93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18040" y="3727440"/>
              <a:ext cx="106560" cy="11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78320" y="3851280"/>
              <a:ext cx="88920" cy="87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3080" y="3949560"/>
              <a:ext cx="1000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21280" y="3844800"/>
              <a:ext cx="1094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32520" y="3843360"/>
              <a:ext cx="9828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57640" y="3952800"/>
              <a:ext cx="10332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52880" y="3959280"/>
              <a:ext cx="87480" cy="66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49880" y="3625920"/>
              <a:ext cx="74520" cy="871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11840" y="3624120"/>
              <a:ext cx="96840" cy="90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45200" y="3848040"/>
              <a:ext cx="79200" cy="90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02320" y="3624120"/>
              <a:ext cx="91800" cy="9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03840" y="3525840"/>
              <a:ext cx="10008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08600" y="3949560"/>
              <a:ext cx="10296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 flipV="1">
            <a:off x="1739880" y="3085920"/>
            <a:ext cx="409680" cy="284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790640" y="2616120"/>
            <a:ext cx="343080" cy="279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5589720" y="1619280"/>
            <a:ext cx="1890720" cy="333360"/>
            <a:chOff x="5589720" y="1619280"/>
            <a:chExt cx="1890720" cy="333360"/>
          </a:xfrm>
        </p:grpSpPr>
        <p:sp>
          <p:nvSpPr>
            <p:cNvPr id="458" name=""/>
            <p:cNvSpPr/>
            <p:nvPr/>
          </p:nvSpPr>
          <p:spPr>
            <a:xfrm>
              <a:off x="6121440" y="1633680"/>
              <a:ext cx="828720" cy="318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89720" y="1619280"/>
              <a:ext cx="18907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n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1T14:49:14Z</dcterms:created>
  <dc:creator>Hanne Rue Rasmussen</dc:creator>
  <dc:description/>
  <dc:language>en-US</dc:language>
  <cp:lastModifiedBy>MEDI TELECOM</cp:lastModifiedBy>
  <cp:lastPrinted>1996-09-05T14:38:36Z</cp:lastPrinted>
  <dcterms:modified xsi:type="dcterms:W3CDTF">2001-04-11T14:55:57Z</dcterms:modified>
  <cp:revision>43</cp:revision>
  <dc:subject>Oracle7: Administration</dc:subject>
  <dc:title>Lesson 1</dc:title>
</cp:coreProperties>
</file>