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BB5C23-0FC3-4376-B48C-5CEF50BF9A54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2960" y="4497480"/>
            <a:ext cx="502920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84760" y="-3240"/>
            <a:ext cx="297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884760" y="8685360"/>
            <a:ext cx="29746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-3240" y="868536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-3240" y="-3240"/>
            <a:ext cx="297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11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2B0-82EE-494A-9735-677642F5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120-512A-4DE7-BDA6-CF2FD9BD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4ED-894C-4527-9E24-9D04278A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CEF-6BFD-4B7F-9140-5F7B1513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04F-04B4-4C2B-986A-590E074E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A1B-C8FA-4465-82D9-96C5D726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393-29BF-4CAE-966A-E8D6D021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374-4272-4A2F-8A45-8FA711D1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3AB-325B-43B4-9848-EBF0CF05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13D-CA08-4491-838E-83D8E9A6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EDA-6942-4182-88A4-557CBFF7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AC2-3D91-4AED-B1BC-5384B7CE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48231A-40EB-46EC-9068-EED200F593F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16440" y="6434280"/>
            <a:ext cx="135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10 - </a:t>
            </a:r>
            <a:fld id="{826A92DF-05E8-4F7C-8EAA-A75EE4D3E00D}" type="slidenum">
              <a:rPr b="0" lang="fr-F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3200" y="646416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fr-FR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2766600"/>
            <a:ext cx="6375240" cy="24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Chapitre 10: Gestion des</a:t>
            </a:r>
            <a:br>
              <a:rPr sz="5400"/>
            </a:br>
            <a:r>
              <a:rPr b="1" i="1" lang="en-US" sz="5400" spc="-1" strike="noStrike">
                <a:solidFill>
                  <a:srgbClr val="3365fb"/>
                </a:solidFill>
                <a:latin typeface="Times New Roman"/>
              </a:rPr>
              <a:t>Segments Cluster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5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6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96240" y="330660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DBA7_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185480" y="3664080"/>
            <a:ext cx="51735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16080" y="219852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006720" y="2203560"/>
            <a:ext cx="2743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48480" y="221940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9640" y="2487600"/>
            <a:ext cx="0" cy="282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70760" y="266400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5960" y="2486160"/>
            <a:ext cx="0" cy="295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125600" y="2782800"/>
            <a:ext cx="174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121000" y="2771640"/>
            <a:ext cx="352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17760" y="2971800"/>
            <a:ext cx="109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INSTA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230720" y="307512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120840" y="307512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81160" y="2001960"/>
            <a:ext cx="0" cy="1662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65880" y="2013120"/>
            <a:ext cx="0" cy="1650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2640" y="2486160"/>
            <a:ext cx="0" cy="588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11680" y="2498760"/>
            <a:ext cx="0" cy="576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933120" y="19303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8051760" y="192672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7903800" y="19285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41920" y="2014560"/>
            <a:ext cx="0" cy="333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51880" y="2013120"/>
            <a:ext cx="0" cy="334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46960" y="2166840"/>
            <a:ext cx="1193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46960" y="2352600"/>
            <a:ext cx="1198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3880" y="2963880"/>
            <a:ext cx="52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102280" y="3076560"/>
            <a:ext cx="504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45000" y="3086280"/>
            <a:ext cx="0" cy="27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31320" y="32511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63920" y="3073320"/>
            <a:ext cx="0" cy="295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354200" y="3370320"/>
            <a:ext cx="18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276520" y="3359160"/>
            <a:ext cx="16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190520" y="2482920"/>
            <a:ext cx="5168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42800" y="2068560"/>
            <a:ext cx="63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42800" y="225432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NO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09480" y="2381400"/>
            <a:ext cx="71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DEG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7920" y="237960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2920" y="238140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66800" y="2379600"/>
            <a:ext cx="52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98680" y="237348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PARALL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3440" y="3546360"/>
            <a:ext cx="1050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NOPARALL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1981080"/>
            <a:ext cx="6782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e l’Index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93636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105372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8080200" y="17920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37840" y="1757520"/>
            <a:ext cx="132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REATE 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108080" y="186516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4560" y="1749600"/>
            <a:ext cx="58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3000240" y="2039400"/>
            <a:ext cx="1190880" cy="176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7640" y="1870200"/>
            <a:ext cx="1800" cy="169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8067600" y="24206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936720" y="240192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018800" y="2475000"/>
            <a:ext cx="7056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876400" y="2658960"/>
            <a:ext cx="1130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13280" y="2486160"/>
            <a:ext cx="0" cy="164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8056800" y="320040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7908840" y="32018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03240" y="299088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51560" y="2994120"/>
            <a:ext cx="0" cy="272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950760" y="320328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018800" y="3274920"/>
            <a:ext cx="6985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09880" y="3287880"/>
            <a:ext cx="0" cy="1344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009880" y="3440160"/>
            <a:ext cx="2962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68720" y="3287880"/>
            <a:ext cx="0" cy="1344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009880" y="3656160"/>
            <a:ext cx="2962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009880" y="3859200"/>
            <a:ext cx="2962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022120" y="4049640"/>
            <a:ext cx="294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009880" y="4633920"/>
            <a:ext cx="2962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793880" y="2995560"/>
            <a:ext cx="4648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022120" y="4265640"/>
            <a:ext cx="2949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009880" y="4443480"/>
            <a:ext cx="2962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63600" y="4640400"/>
            <a:ext cx="0" cy="164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57720" y="4624560"/>
            <a:ext cx="0" cy="1918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160720" y="4821120"/>
            <a:ext cx="2093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941040" y="49305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996840" y="5002200"/>
            <a:ext cx="7112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95600" y="500544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8038800" y="49291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90560" y="5202360"/>
            <a:ext cx="3302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440" y="2379600"/>
            <a:ext cx="117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ON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80360" y="236844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3080" y="254808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66920" y="192888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867040" y="2476080"/>
            <a:ext cx="0" cy="189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16280" y="5092560"/>
            <a:ext cx="2206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PARALLEL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param_parallè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995720" y="5005080"/>
            <a:ext cx="0" cy="199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56120" y="4137120"/>
            <a:ext cx="135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57200" y="4327560"/>
            <a:ext cx="83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NOS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56120" y="3313080"/>
            <a:ext cx="136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56840" y="351648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32800" y="4506840"/>
            <a:ext cx="135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54680" y="3719520"/>
            <a:ext cx="205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54680" y="3922560"/>
            <a:ext cx="1925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param_st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63840" y="4714920"/>
            <a:ext cx="157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UNRECOVER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1828800"/>
            <a:ext cx="1981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1828800"/>
            <a:ext cx="0" cy="2286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1828800"/>
            <a:ext cx="266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49320" y="1730520"/>
            <a:ext cx="7201080" cy="16135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CLUSTER cluster_t1_t2 (dept NUMBER(3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IZE 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tbs_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ORAGE ( INITIAL 30K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36720" y="3619440"/>
            <a:ext cx="7200720" cy="13093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INDEX i_clu_t1_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ON CLUSTER cluster_t1_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tbs_index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Index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49320" y="1862280"/>
            <a:ext cx="7201080" cy="13093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TABLE t1 (name VARCHAR2(20), hire_date DA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eptno NUMBER(3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cluster_t1_t2 (deptn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34920" y="3441600"/>
            <a:ext cx="7201080" cy="13093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4128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TABLE t2 (deptno NUMBER(3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4128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eptname VARCHAR2 (15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4128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cluster_t1_t2 ( deptno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4128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5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odifier un cluster  pour changer l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aramètres de stockag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aramètres de gestion de l’espace des blocs de données (PCTFREE et PCTUSED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aille moyenne par clé du cluster  (SIZE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aramètres de configuration de l’écriture des transactions  (INITRANS and MAXTRANS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37200" y="1832040"/>
            <a:ext cx="3071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93492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105228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8089560" y="17492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2880" y="1725480"/>
            <a:ext cx="145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LTER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1106640" y="183348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79640" y="1841400"/>
            <a:ext cx="1481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760" y="171756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92840" y="1895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133440" y="203976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9120" y="185112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2039760"/>
            <a:ext cx="201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13080" y="184788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33600" y="2476440"/>
            <a:ext cx="0" cy="1893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26200" y="2575080"/>
            <a:ext cx="115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987280" y="2676600"/>
            <a:ext cx="4452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539360" y="26766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19360" y="2805120"/>
            <a:ext cx="116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PCTUSED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000240" y="2906640"/>
            <a:ext cx="4440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1539360" y="29066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38440" y="3573360"/>
            <a:ext cx="116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962080" y="3678120"/>
            <a:ext cx="446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539360" y="36781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35560" y="3792600"/>
            <a:ext cx="1280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088800" y="3897360"/>
            <a:ext cx="4351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537920" y="3897360"/>
            <a:ext cx="2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89480" y="4030560"/>
            <a:ext cx="162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param_st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457440" y="4135320"/>
            <a:ext cx="3983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1539360" y="41353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42200" y="3038400"/>
            <a:ext cx="84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19480" y="3144960"/>
            <a:ext cx="0" cy="304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93240" y="33465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87480" y="315900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511440" y="346716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6760" y="3132000"/>
            <a:ext cx="0" cy="330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498840" y="327672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962160" y="3276720"/>
            <a:ext cx="152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924000" y="345456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882880" y="3139920"/>
            <a:ext cx="4557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1536840" y="3139920"/>
            <a:ext cx="444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5400000">
            <a:off x="990720" y="23907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044360" y="2473200"/>
            <a:ext cx="7019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8048520" y="24001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44600" y="218916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338120" y="2193840"/>
            <a:ext cx="6338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77000" y="220968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53920" y="4265640"/>
            <a:ext cx="1408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ALLOCATE EXT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117600" y="4370400"/>
            <a:ext cx="4311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542600" y="43704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60800" y="448164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057200" y="4475160"/>
            <a:ext cx="2737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99320" y="4464000"/>
            <a:ext cx="0" cy="293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03440" y="4648320"/>
            <a:ext cx="84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62720" y="4770360"/>
            <a:ext cx="0" cy="297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26040" y="49593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26040" y="476892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854680" y="508176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852880" y="4890960"/>
            <a:ext cx="18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254280" y="4890960"/>
            <a:ext cx="203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267240" y="506880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225760" y="4754520"/>
            <a:ext cx="173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00560" y="464832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879360" y="4754520"/>
            <a:ext cx="444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67880" y="5219640"/>
            <a:ext cx="153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ATAFILE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‘spec_fich’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797080" y="5326200"/>
            <a:ext cx="863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171680" y="532620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67520" y="5429160"/>
            <a:ext cx="121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INSTANCE </a:t>
            </a:r>
            <a:r>
              <a:rPr b="1" i="1" lang="en-US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657400" y="5535720"/>
            <a:ext cx="1003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171680" y="553572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73560" y="4370400"/>
            <a:ext cx="0" cy="387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371400" y="47545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25560" y="464976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39040" y="2487600"/>
            <a:ext cx="0" cy="2259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7232400" y="475128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73480" y="4757760"/>
            <a:ext cx="0" cy="776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62880" y="4770360"/>
            <a:ext cx="0" cy="763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851440" y="4757760"/>
            <a:ext cx="0" cy="324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Modific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36720" y="1684440"/>
            <a:ext cx="720072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CLUSTER clu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ORAGE (NEXT 200K PCTINCREASE 3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23760" y="296388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CLUSTER clu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IZE 51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49320" y="4272120"/>
            <a:ext cx="720108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CLUSTER clu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PCTFREE 40 PCTUSED 1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82560" y="2989440"/>
            <a:ext cx="2080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ASCAD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ppress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37200" y="1832040"/>
            <a:ext cx="3071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93492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5400000">
            <a:off x="105228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8089560" y="17492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29560" y="1725480"/>
            <a:ext cx="138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DROP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106640" y="183348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79640" y="1841400"/>
            <a:ext cx="1481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43760" y="171756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92840" y="1895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133440" y="203976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29120" y="185112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5360" y="2039760"/>
            <a:ext cx="201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13080" y="184788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5400000">
            <a:off x="955440" y="24145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8067600" y="23997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033200" y="2486160"/>
            <a:ext cx="7124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7919640" y="2401560"/>
            <a:ext cx="12672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28960" y="2876400"/>
            <a:ext cx="0" cy="241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31080" y="2874960"/>
            <a:ext cx="0" cy="236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651120" y="2871720"/>
            <a:ext cx="3602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832200" y="3121200"/>
            <a:ext cx="45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65880" y="3110040"/>
            <a:ext cx="558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572840" y="2859120"/>
            <a:ext cx="29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920" y="2728800"/>
            <a:ext cx="168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CLUDING T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77880" y="2490840"/>
            <a:ext cx="0" cy="361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54720" y="2490840"/>
            <a:ext cx="0" cy="374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Suppress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36720" y="1684440"/>
            <a:ext cx="7200720" cy="7009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ROP CLUSTER cluster_t1_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CLUDING T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36720" y="2712960"/>
            <a:ext cx="720072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ROP TABLE t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ROP TABLE t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ROP CLUSTER cluster_t1_t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Avantages et Inconvénients des Clusters Index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25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Accès plus rapide aux diverses lignes ayant la même valeur de clé de cluste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interrogations, mises à jour, et suppressions sont plus rapid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e simple insertion est légèrement plus lente qu’avec une table norma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chargement de tables est plus lent et de façon significativ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’index du cluster doit être lu pour chaque ligne afin de trouver dans quel bloc la ligne doit être inséré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l n’est pas possible de charger des tables clusterisées sans 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es avantages et les inconvénients de l’utilisation des cluster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des cluster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e  hashing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des clusters  hash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6960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Avantages et Inconvénients des Clusters Index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5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’index du cluster doit être mis à jour davantage aussi, des données rollback et redo sont généré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blocs ne peuvent potentiellement pas rester dans la SGA et doivent être lus plusieurs foi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clusters indexés nécessitent probablement plus de place qu’une table norma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conomisent potentiellement de l’espace 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conomisent potentiellement de la  place si la clé du cluster est relativement grand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chargement direct n’est pas possib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luster Hash Contenant la Table TRIAL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1674720"/>
            <a:ext cx="2751120" cy="3355920"/>
          </a:xfrm>
          <a:custGeom>
            <a:avLst/>
            <a:gdLst/>
            <a:ahLst/>
            <a:rect l="l" t="t" r="r" b="b"/>
            <a:pathLst>
              <a:path w="1733" h="2114">
                <a:moveTo>
                  <a:pt x="2" y="2052"/>
                </a:moveTo>
                <a:lnTo>
                  <a:pt x="2" y="0"/>
                </a:lnTo>
                <a:lnTo>
                  <a:pt x="1732" y="0"/>
                </a:lnTo>
                <a:lnTo>
                  <a:pt x="1732" y="2113"/>
                </a:lnTo>
                <a:lnTo>
                  <a:pt x="1691" y="2113"/>
                </a:lnTo>
                <a:lnTo>
                  <a:pt x="1666" y="2100"/>
                </a:lnTo>
                <a:lnTo>
                  <a:pt x="1641" y="2064"/>
                </a:lnTo>
                <a:lnTo>
                  <a:pt x="1617" y="2039"/>
                </a:lnTo>
                <a:lnTo>
                  <a:pt x="1583" y="2016"/>
                </a:lnTo>
                <a:lnTo>
                  <a:pt x="1550" y="2003"/>
                </a:lnTo>
                <a:lnTo>
                  <a:pt x="1525" y="1992"/>
                </a:lnTo>
                <a:lnTo>
                  <a:pt x="1500" y="1992"/>
                </a:lnTo>
                <a:lnTo>
                  <a:pt x="1467" y="1992"/>
                </a:lnTo>
                <a:lnTo>
                  <a:pt x="1442" y="2003"/>
                </a:lnTo>
                <a:lnTo>
                  <a:pt x="1418" y="2028"/>
                </a:lnTo>
                <a:lnTo>
                  <a:pt x="1393" y="2052"/>
                </a:lnTo>
                <a:lnTo>
                  <a:pt x="1367" y="2076"/>
                </a:lnTo>
                <a:lnTo>
                  <a:pt x="1335" y="2100"/>
                </a:lnTo>
                <a:lnTo>
                  <a:pt x="1301" y="2100"/>
                </a:lnTo>
                <a:lnTo>
                  <a:pt x="1277" y="2100"/>
                </a:lnTo>
                <a:lnTo>
                  <a:pt x="1252" y="2100"/>
                </a:lnTo>
                <a:lnTo>
                  <a:pt x="1218" y="2088"/>
                </a:lnTo>
                <a:lnTo>
                  <a:pt x="1194" y="2076"/>
                </a:lnTo>
                <a:lnTo>
                  <a:pt x="1160" y="2064"/>
                </a:lnTo>
                <a:lnTo>
                  <a:pt x="1136" y="2039"/>
                </a:lnTo>
                <a:lnTo>
                  <a:pt x="1102" y="2028"/>
                </a:lnTo>
                <a:lnTo>
                  <a:pt x="1077" y="2003"/>
                </a:lnTo>
                <a:lnTo>
                  <a:pt x="1053" y="1992"/>
                </a:lnTo>
                <a:lnTo>
                  <a:pt x="1003" y="1979"/>
                </a:lnTo>
                <a:lnTo>
                  <a:pt x="978" y="1967"/>
                </a:lnTo>
                <a:lnTo>
                  <a:pt x="953" y="1967"/>
                </a:lnTo>
                <a:lnTo>
                  <a:pt x="929" y="1967"/>
                </a:lnTo>
                <a:lnTo>
                  <a:pt x="903" y="1967"/>
                </a:lnTo>
                <a:lnTo>
                  <a:pt x="878" y="1979"/>
                </a:lnTo>
                <a:lnTo>
                  <a:pt x="846" y="2003"/>
                </a:lnTo>
                <a:lnTo>
                  <a:pt x="820" y="2003"/>
                </a:lnTo>
                <a:lnTo>
                  <a:pt x="788" y="2028"/>
                </a:lnTo>
                <a:lnTo>
                  <a:pt x="763" y="2039"/>
                </a:lnTo>
                <a:lnTo>
                  <a:pt x="737" y="2064"/>
                </a:lnTo>
                <a:lnTo>
                  <a:pt x="713" y="2076"/>
                </a:lnTo>
                <a:lnTo>
                  <a:pt x="679" y="2076"/>
                </a:lnTo>
                <a:lnTo>
                  <a:pt x="630" y="2076"/>
                </a:lnTo>
                <a:lnTo>
                  <a:pt x="605" y="2076"/>
                </a:lnTo>
                <a:lnTo>
                  <a:pt x="539" y="2076"/>
                </a:lnTo>
                <a:lnTo>
                  <a:pt x="514" y="2076"/>
                </a:lnTo>
                <a:lnTo>
                  <a:pt x="481" y="2064"/>
                </a:lnTo>
                <a:lnTo>
                  <a:pt x="455" y="2052"/>
                </a:lnTo>
                <a:lnTo>
                  <a:pt x="431" y="2028"/>
                </a:lnTo>
                <a:lnTo>
                  <a:pt x="406" y="2016"/>
                </a:lnTo>
                <a:lnTo>
                  <a:pt x="340" y="1992"/>
                </a:lnTo>
                <a:lnTo>
                  <a:pt x="307" y="1979"/>
                </a:lnTo>
                <a:lnTo>
                  <a:pt x="274" y="1979"/>
                </a:lnTo>
                <a:lnTo>
                  <a:pt x="248" y="1979"/>
                </a:lnTo>
                <a:lnTo>
                  <a:pt x="182" y="1979"/>
                </a:lnTo>
                <a:lnTo>
                  <a:pt x="149" y="1979"/>
                </a:lnTo>
                <a:lnTo>
                  <a:pt x="116" y="2003"/>
                </a:lnTo>
                <a:lnTo>
                  <a:pt x="92" y="2003"/>
                </a:lnTo>
                <a:lnTo>
                  <a:pt x="83" y="2039"/>
                </a:lnTo>
                <a:lnTo>
                  <a:pt x="58" y="2052"/>
                </a:lnTo>
                <a:lnTo>
                  <a:pt x="25" y="2088"/>
                </a:lnTo>
                <a:lnTo>
                  <a:pt x="0" y="2113"/>
                </a:lnTo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07080" y="1827360"/>
            <a:ext cx="272880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l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luster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RIALN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lonnes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2917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3021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2981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1028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1021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r" pos="917640"/>
                <a:tab algn="l" pos="114156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1103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443040" y="4562640"/>
            <a:ext cx="1292040" cy="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19440" y="1666800"/>
            <a:ext cx="1587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Généralement u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entrée/sortie</a:t>
            </a:r>
            <a:br>
              <a:rPr sz="1400"/>
            </a:b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avec Cluster 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294000"/>
            <a:ext cx="2390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SELECT...FROM 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WHERE     trialno = 111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2720" y="4421160"/>
            <a:ext cx="130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Fonction 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82600" y="441792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27080" y="3552840"/>
            <a:ext cx="1419480" cy="174600"/>
          </a:xfrm>
          <a:prstGeom prst="rect">
            <a:avLst/>
          </a:prstGeom>
          <a:noFill/>
          <a:ln w="12600">
            <a:solidFill>
              <a:srgbClr val="ff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a Fonction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27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Fonction hash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t être appliquée sur une colonne ou une clé composé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oit fournir une distribution maximum des lignes entre les valeurs hash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Tente de minimiser le nombre de collisions non désir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t être définie par l’utilisate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805880" y="2077920"/>
            <a:ext cx="379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5400000">
            <a:off x="91152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102888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806616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15160" y="1971720"/>
            <a:ext cx="157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REATE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082160" y="2079720"/>
            <a:ext cx="32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84400" y="2087640"/>
            <a:ext cx="1352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20000" y="19638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69080" y="214164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109680" y="228600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05000" y="209700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81600" y="2286000"/>
            <a:ext cx="201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89320" y="209376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59400" y="1724040"/>
            <a:ext cx="0" cy="352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43920" y="159552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454360" y="1722600"/>
            <a:ext cx="787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641640" y="1728720"/>
            <a:ext cx="779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21400" y="1725480"/>
            <a:ext cx="0" cy="351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94280" y="196704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05640" y="1968480"/>
            <a:ext cx="108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def_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78720" y="197640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95880" y="2076480"/>
            <a:ext cx="563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51840" y="2087640"/>
            <a:ext cx="328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42440" y="3112920"/>
            <a:ext cx="118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PCTFREE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504960" y="3214800"/>
            <a:ext cx="3230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042640" y="3214800"/>
            <a:ext cx="2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35600" y="328464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PCTUSED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517920" y="3386160"/>
            <a:ext cx="3217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042640" y="3386160"/>
            <a:ext cx="2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54320" y="348156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INITRANS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479760" y="3586320"/>
            <a:ext cx="3255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042640" y="3586320"/>
            <a:ext cx="2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51440" y="3684600"/>
            <a:ext cx="131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MAXTRANS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606480" y="3789360"/>
            <a:ext cx="3128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043000" y="3789360"/>
            <a:ext cx="246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93120" y="4325760"/>
            <a:ext cx="176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TABLESPACE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tablespa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960720" y="4424400"/>
            <a:ext cx="2765520" cy="4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2043000" y="4430880"/>
            <a:ext cx="246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05360" y="4529160"/>
            <a:ext cx="1661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TORAGE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param_st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975120" y="4633920"/>
            <a:ext cx="2749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042640" y="4633920"/>
            <a:ext cx="243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480400" y="3894120"/>
            <a:ext cx="84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657680" y="4003560"/>
            <a:ext cx="0" cy="308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30000" y="42051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225680" y="401472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054320" y="4325760"/>
            <a:ext cx="177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52880" y="3990960"/>
            <a:ext cx="0" cy="330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053960" y="4135320"/>
            <a:ext cx="16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4448160" y="4135320"/>
            <a:ext cx="203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60400" y="431316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390480" y="3998880"/>
            <a:ext cx="3335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043000" y="3998880"/>
            <a:ext cx="455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964800" y="264780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020240" y="2719440"/>
            <a:ext cx="3799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5400000">
            <a:off x="8025120" y="26463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28720" y="243540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12000" y="244620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30920" y="2724120"/>
            <a:ext cx="3240" cy="1914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719360" y="2440080"/>
            <a:ext cx="5194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683800" y="2808360"/>
            <a:ext cx="147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HASH IS 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575080" y="271944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3360" y="2919240"/>
            <a:ext cx="150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70320" y="272736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576160" y="291924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66400" y="2608200"/>
            <a:ext cx="157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HASH KEYS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 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6477120" y="2719440"/>
            <a:ext cx="1598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2037960" y="2724120"/>
            <a:ext cx="3240" cy="1914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33440" y="3546360"/>
            <a:ext cx="1050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NOPARALL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349000" y="3664080"/>
            <a:ext cx="4017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185480" y="3664080"/>
            <a:ext cx="158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05280" y="2209680"/>
            <a:ext cx="0" cy="27792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006720" y="2203560"/>
            <a:ext cx="2743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8480" y="221940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09480" y="2381400"/>
            <a:ext cx="71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G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23040" y="2490840"/>
            <a:ext cx="0" cy="2793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04160" y="266400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59360" y="2486160"/>
            <a:ext cx="0" cy="295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4057560" y="2782800"/>
            <a:ext cx="176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054400" y="2771640"/>
            <a:ext cx="360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948120" y="2482920"/>
            <a:ext cx="434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7920" y="237960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828520" y="2482920"/>
            <a:ext cx="444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17760" y="2971800"/>
            <a:ext cx="109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INSTA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230720" y="3075120"/>
            <a:ext cx="27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120840" y="307512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81160" y="2001960"/>
            <a:ext cx="0" cy="1662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2320560" y="24829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72920" y="238140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365880" y="2013120"/>
            <a:ext cx="0" cy="1650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6170760" y="2479680"/>
            <a:ext cx="188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2486160"/>
            <a:ext cx="0" cy="588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11680" y="2490840"/>
            <a:ext cx="0" cy="5842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933480" y="192564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6200000">
            <a:off x="8051760" y="192204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988920" y="2001960"/>
            <a:ext cx="7191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5400000">
            <a:off x="7903800" y="19238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41920" y="2014560"/>
            <a:ext cx="0" cy="345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751880" y="2013120"/>
            <a:ext cx="0" cy="3348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546960" y="2178000"/>
            <a:ext cx="388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12120" y="21668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933240" y="2068560"/>
            <a:ext cx="63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6544800" y="2363760"/>
            <a:ext cx="289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05720" y="2352600"/>
            <a:ext cx="139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42880" y="225432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NO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66800" y="2379600"/>
            <a:ext cx="52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041800" y="2482920"/>
            <a:ext cx="88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93880" y="2963880"/>
            <a:ext cx="52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5102280" y="3076560"/>
            <a:ext cx="512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45000" y="3081240"/>
            <a:ext cx="0" cy="276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31320" y="32511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63920" y="3073320"/>
            <a:ext cx="0" cy="295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354200" y="3370320"/>
            <a:ext cx="18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5276520" y="3359160"/>
            <a:ext cx="165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98680" y="237348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PARALL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1190160" y="24829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921040" y="2070000"/>
            <a:ext cx="3021120" cy="4381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89200" y="212580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Entê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21040" y="2481120"/>
            <a:ext cx="3021120" cy="76068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21040" y="3257640"/>
            <a:ext cx="3025800" cy="114624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687760" y="2593800"/>
            <a:ext cx="344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ignes, Clé Hash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22680" y="1684440"/>
            <a:ext cx="3440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Times New Roman"/>
              </a:rPr>
              <a:t>Bloc pour Clés Hash  0, 1,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414520" y="1984320"/>
            <a:ext cx="1636920" cy="1162080"/>
            <a:chOff x="2414520" y="1984320"/>
            <a:chExt cx="1636920" cy="1162080"/>
          </a:xfrm>
        </p:grpSpPr>
        <p:sp>
          <p:nvSpPr>
            <p:cNvPr id="663" name=""/>
            <p:cNvSpPr/>
            <p:nvPr/>
          </p:nvSpPr>
          <p:spPr>
            <a:xfrm>
              <a:off x="2414520" y="1984320"/>
              <a:ext cx="1636920" cy="284040"/>
            </a:xfrm>
            <a:prstGeom prst="rect">
              <a:avLst/>
            </a:prstGeom>
            <a:gradFill rotWithShape="0">
              <a:gsLst>
                <a:gs pos="0">
                  <a:srgbClr val="460e6f"/>
                </a:gs>
                <a:gs pos="50000">
                  <a:srgbClr val="8f1ee1"/>
                </a:gs>
                <a:gs pos="100000">
                  <a:srgbClr val="460e6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14520" y="2254320"/>
              <a:ext cx="1636920" cy="42228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14520" y="2689200"/>
              <a:ext cx="1636920" cy="45720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57880" y="2622600"/>
            <a:ext cx="2031840" cy="438120"/>
          </a:xfrm>
          <a:prstGeom prst="rect">
            <a:avLst/>
          </a:prstGeom>
          <a:gradFill rotWithShape="0">
            <a:gsLst>
              <a:gs pos="0">
                <a:srgbClr val="460e6f"/>
              </a:gs>
              <a:gs pos="50000">
                <a:srgbClr val="8f1ee1"/>
              </a:gs>
              <a:gs pos="100000">
                <a:srgbClr val="460e6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54800" y="2678040"/>
            <a:ext cx="1769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Entê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57880" y="3033720"/>
            <a:ext cx="2031840" cy="64620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57680" y="3213000"/>
            <a:ext cx="3440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ignes, Clé Hash =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22960" y="2274840"/>
            <a:ext cx="2173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081d58"/>
                </a:solidFill>
                <a:latin typeface="Times New Roman"/>
              </a:rPr>
              <a:t>Bloc Overfl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57880" y="3692520"/>
            <a:ext cx="2031840" cy="701640"/>
          </a:xfrm>
          <a:prstGeom prst="rect">
            <a:avLst/>
          </a:prstGeom>
          <a:gradFill rotWithShape="0">
            <a:gsLst>
              <a:gs pos="0">
                <a:srgbClr val="4363af"/>
              </a:gs>
              <a:gs pos="50000">
                <a:srgbClr val="618ffd"/>
              </a:gs>
              <a:gs pos="100000">
                <a:srgbClr val="4363a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57680" y="3889440"/>
            <a:ext cx="3440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Lignes, Clé Hash = 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9320" y="4410000"/>
            <a:ext cx="2035080" cy="393840"/>
          </a:xfrm>
          <a:prstGeom prst="rect">
            <a:avLst/>
          </a:prstGeom>
          <a:gradFill rotWithShape="0">
            <a:gsLst>
              <a:gs pos="0">
                <a:srgbClr val="294845"/>
              </a:gs>
              <a:gs pos="50000">
                <a:srgbClr val="8cf4ea"/>
              </a:gs>
              <a:gs pos="100000">
                <a:srgbClr val="294845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4062240" y="4076640"/>
            <a:ext cx="1290960" cy="10479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554120" y="1992240"/>
            <a:ext cx="3440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tê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14520" y="2327400"/>
            <a:ext cx="3440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ignes, Clé Hash =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79800" y="1684440"/>
            <a:ext cx="21729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Times New Roman"/>
              </a:rPr>
              <a:t>Bloc pour Clés Hash  3, 4,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38480" y="2803680"/>
            <a:ext cx="2000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ignes, Clé Hash =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60720" y="3179880"/>
            <a:ext cx="217332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414520" y="4260960"/>
            <a:ext cx="1636920" cy="1162080"/>
            <a:chOff x="2414520" y="4260960"/>
            <a:chExt cx="1636920" cy="1162080"/>
          </a:xfrm>
        </p:grpSpPr>
        <p:sp>
          <p:nvSpPr>
            <p:cNvPr id="682" name=""/>
            <p:cNvSpPr/>
            <p:nvPr/>
          </p:nvSpPr>
          <p:spPr>
            <a:xfrm>
              <a:off x="2414520" y="4260960"/>
              <a:ext cx="1636920" cy="284040"/>
            </a:xfrm>
            <a:prstGeom prst="rect">
              <a:avLst/>
            </a:prstGeom>
            <a:gradFill rotWithShape="0">
              <a:gsLst>
                <a:gs pos="0">
                  <a:srgbClr val="460e6f"/>
                </a:gs>
                <a:gs pos="50000">
                  <a:srgbClr val="8f1ee1"/>
                </a:gs>
                <a:gs pos="100000">
                  <a:srgbClr val="460e6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14520" y="4530600"/>
              <a:ext cx="1636920" cy="42228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14520" y="4965840"/>
              <a:ext cx="1636920" cy="45720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554120" y="4268880"/>
            <a:ext cx="3440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tê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14520" y="4603680"/>
            <a:ext cx="3440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ignes, Clé Hash = 3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179800" y="3960720"/>
            <a:ext cx="21729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Times New Roman"/>
              </a:rPr>
              <a:t>Bloc pour Clés Hash  39, 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38480" y="5079960"/>
            <a:ext cx="2000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ignes, Clé Hash = 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4047840" y="2419200"/>
            <a:ext cx="1314360" cy="952560"/>
          </a:xfrm>
          <a:prstGeom prst="line">
            <a:avLst/>
          </a:prstGeom>
          <a:ln w="12600">
            <a:solidFill>
              <a:srgbClr val="ffba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Cré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936720" y="1684440"/>
            <a:ext cx="7200720" cy="16135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CLUSTER emp_h_clu (JOB VARCHAR2(9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SPACE ts_us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IZE 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HASHKEYS 4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 Paramètre HASH I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20520" y="1733040"/>
            <a:ext cx="7296120" cy="35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lonne HASH I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e seule colonne dans la clé du clust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 clé du cluster doit être une colonne de type NUMB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a clé du cluster contient uniquement des entiers non négatif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t contenir une fonction hash définie par l’utilisateur (version 7.2 et plus)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i ces conditions ne sont pas satisfaites, vous devez utiliser la fonction de hash interne ou spécifier une fonction hash définie par l’utilisate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aramètre HASH I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36720" y="1684440"/>
            <a:ext cx="7200720" cy="16909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CREATE CLUSTER emp_raise (employee_number NUMBER(4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TABLESPACE ts_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HASHKEYS 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HASH IS employee_numb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5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SIZE 55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43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urier New"/>
              </a:rPr>
              <a:t>Cluster crea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énéralit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8800" y="1684440"/>
            <a:ext cx="2805120" cy="2153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ype de segment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uster index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uster 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1684440"/>
            <a:ext cx="4614840" cy="210420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on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ou de plusieurs tables stockées ensemble en fonction d’une clé fonctionnelle basée sur des colonnes communes aux tab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table stockées en fonction d’un algorithme de hashin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7000" y="2079720"/>
            <a:ext cx="726444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38160" y="3146400"/>
            <a:ext cx="72579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Paramètre HASH I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936720" y="1684440"/>
            <a:ext cx="7200720" cy="22219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REATE TABLE compen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(empno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UMBER(4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3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VARCHAR2(10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4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al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UMBER(10, 2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5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om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NUMBER(9, 0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6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emp_raise(empn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85800"/>
                <a:tab algn="l" pos="1206360"/>
                <a:tab algn="l" pos="228600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  <a:tab algn="l" pos="100011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Table crea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Fonctions Hash Définies par l’Utilisateu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36720" y="1684440"/>
            <a:ext cx="720072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HASH IS MOD ((home_area_code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home_prefix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  <a:tab algn="l" pos="9201240"/>
                <a:tab algn="l" pos="96012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home_suffix), 10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Modific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37200" y="1832040"/>
            <a:ext cx="3071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5400000">
            <a:off x="93492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5400000">
            <a:off x="105228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5400000">
            <a:off x="807840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42880" y="1725480"/>
            <a:ext cx="145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ALTER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1106640" y="183348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79640" y="1841400"/>
            <a:ext cx="1481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343760" y="171756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92840" y="1895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133440" y="203976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9120" y="185112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005360" y="2039760"/>
            <a:ext cx="201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213080" y="184788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533600" y="2476440"/>
            <a:ext cx="0" cy="1893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726200" y="2575080"/>
            <a:ext cx="115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987280" y="2676600"/>
            <a:ext cx="44528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1539360" y="26766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19360" y="2805120"/>
            <a:ext cx="116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PCTUSED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000240" y="2906640"/>
            <a:ext cx="4440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1539360" y="290664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738440" y="3573360"/>
            <a:ext cx="116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2962080" y="3678120"/>
            <a:ext cx="446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539360" y="36781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35560" y="3792600"/>
            <a:ext cx="1280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088800" y="3897360"/>
            <a:ext cx="4351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1542600" y="389736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89480" y="4030560"/>
            <a:ext cx="162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param_st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457440" y="4135320"/>
            <a:ext cx="3983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539360" y="41353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42200" y="3038400"/>
            <a:ext cx="84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119480" y="3144960"/>
            <a:ext cx="0" cy="304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693240" y="33465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687480" y="315900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3511440" y="346716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06760" y="3132000"/>
            <a:ext cx="0" cy="3304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498840" y="3276720"/>
            <a:ext cx="184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3911760" y="3276720"/>
            <a:ext cx="203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924000" y="345456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882880" y="3139920"/>
            <a:ext cx="4557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1536840" y="3139920"/>
            <a:ext cx="444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5400000">
            <a:off x="990720" y="240192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044360" y="2473200"/>
            <a:ext cx="7019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5400000">
            <a:off x="8048520" y="24001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44600" y="218916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338120" y="2193840"/>
            <a:ext cx="6338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77000" y="220968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3920" y="4265640"/>
            <a:ext cx="1408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ALLOCATE EXT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3117600" y="4370400"/>
            <a:ext cx="4311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1542600" y="437040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056120" y="448164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4057200" y="4479840"/>
            <a:ext cx="2737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799320" y="4476600"/>
            <a:ext cx="0" cy="281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303440" y="4648320"/>
            <a:ext cx="84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62720" y="4762440"/>
            <a:ext cx="0" cy="312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854680" y="5081760"/>
            <a:ext cx="6112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850000" y="4757760"/>
            <a:ext cx="0" cy="324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853240" y="4890960"/>
            <a:ext cx="612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5225760" y="4754520"/>
            <a:ext cx="173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00560" y="464832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879360" y="4754520"/>
            <a:ext cx="444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367880" y="5219640"/>
            <a:ext cx="153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DATAFILE 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‘spec_fich’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797080" y="5326200"/>
            <a:ext cx="8636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4171680" y="532620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367520" y="5429160"/>
            <a:ext cx="121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INSTANCE </a:t>
            </a:r>
            <a:r>
              <a:rPr b="1" i="1" lang="fr-FR" sz="10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5657400" y="5535720"/>
            <a:ext cx="1003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4171680" y="553572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73560" y="4381560"/>
            <a:ext cx="0" cy="376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371400" y="4754520"/>
            <a:ext cx="228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625560" y="4649760"/>
            <a:ext cx="22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39040" y="2487600"/>
            <a:ext cx="0" cy="2259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7232400" y="4751280"/>
            <a:ext cx="190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73480" y="4757760"/>
            <a:ext cx="0" cy="7761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62880" y="4770360"/>
            <a:ext cx="0" cy="763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26040" y="495936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26040" y="476892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Modificat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36720" y="1684440"/>
            <a:ext cx="720072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ALTER CLUSTER emp_ra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TORAGE (NEXT 400K PCTINCREASE 0 MAXEXTENTS 5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alter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Suppress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82560" y="2989440"/>
            <a:ext cx="2080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CASCAD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37200" y="1832040"/>
            <a:ext cx="3071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5400000">
            <a:off x="93492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5400000">
            <a:off x="1052280" y="176040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5400000">
            <a:off x="8089560" y="174924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29560" y="1725480"/>
            <a:ext cx="138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DROP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106640" y="1833480"/>
            <a:ext cx="326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79640" y="1841400"/>
            <a:ext cx="1481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343760" y="171756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192840" y="18954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3133440" y="203976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9120" y="185112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005360" y="2039760"/>
            <a:ext cx="201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13080" y="184788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5400000">
            <a:off x="955440" y="241452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8056440" y="2399760"/>
            <a:ext cx="12708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1033200" y="2486160"/>
            <a:ext cx="7124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5400000">
            <a:off x="7909200" y="240192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28960" y="2876400"/>
            <a:ext cx="0" cy="2415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931080" y="2874960"/>
            <a:ext cx="0" cy="2365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3651120" y="2871720"/>
            <a:ext cx="36021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3832200" y="3121200"/>
            <a:ext cx="457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365880" y="3110040"/>
            <a:ext cx="5587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1572840" y="2859120"/>
            <a:ext cx="299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06920" y="2728800"/>
            <a:ext cx="168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INCLUDING T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77880" y="2479680"/>
            <a:ext cx="0" cy="3729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254720" y="2487600"/>
            <a:ext cx="0" cy="378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Suppression d’un Cluster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936720" y="1684440"/>
            <a:ext cx="7200720" cy="1005120"/>
          </a:xfrm>
          <a:prstGeom prst="rect">
            <a:avLst/>
          </a:prstGeom>
          <a:solidFill>
            <a:srgbClr val="043ce2"/>
          </a:solidFill>
          <a:ln w="12600">
            <a:solidFill>
              <a:srgbClr val="081d58"/>
            </a:solidFill>
            <a:miter/>
          </a:ln>
          <a:effectLst>
            <a:outerShdw dist="89604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SQL&gt;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DROP CLUSTER emp_ra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2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INCLUDING T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r" pos="399960"/>
                <a:tab algn="l" pos="62388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urier New"/>
              </a:rPr>
              <a:t>Cluster dropp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Avantages et Inconvénients des Clusters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9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onnent un accès très rapide à une lign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onnent un accès très rapide aux diverses lignes ayant la même valeur de clé de cluste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interrogations, mises à jour, et suppressions sont plus rapide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e insertion n’est pas plus lente qu’avec une table norma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chargement de tables est plus lent de façon significative 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s blocs ne peuvent potentiellement pas rester dans la SGA et doivent être lus plusieurs foi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’espace nécessite d’être alloué initialement, ce qui rend les clusters hash viables uniquement si le nombre de lignes n’augmente pas avec le temp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Avantages et Inconvénients des Clusters Hash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5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Un balayage complet d’une table doit balayer tous les blocs alloués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uvent être utilisés uniquement pour des recherches sur égalité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Il y a un risque potentiel d’overflow si la fonction de hash n’est pas convenablement distribué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Nécessitent probablement plus de place qu’une table normale si le nombre et/ou la taille des lignes ayant la même valeur de clé de cluster n’est pas très constan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conomisent potentiellement de l’espace index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chargement direct n’est pas possibl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Résumé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30240" y="1685880"/>
            <a:ext cx="1866960" cy="16369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ata Segment 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ndex cluster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Hash cluster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03680" y="1685880"/>
            <a:ext cx="5392440" cy="16369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ains rows from one or more tables stored together based on the value in a column of the tab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ains rows from a table stored by way of a hashing algorith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927000" y="2079720"/>
            <a:ext cx="726444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938160" y="2689200"/>
            <a:ext cx="726912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28800" y="1684440"/>
            <a:ext cx="2805120" cy="191484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ype de segment de donné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uster index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uster 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733920" y="1684440"/>
            <a:ext cx="4462200" cy="1892520"/>
          </a:xfrm>
          <a:prstGeom prst="rect">
            <a:avLst/>
          </a:pr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on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ou de plusieurs tables stockées ensemble en fonction d’une clé fonctionnelle basée sur les colonnes des tab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tient les lignes d’une table stockées en fonction d’un algorithme de hashin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927000" y="2079720"/>
            <a:ext cx="7264440" cy="0"/>
          </a:xfrm>
          <a:prstGeom prst="line">
            <a:avLst/>
          </a:prstGeom>
          <a:ln w="507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38160" y="2917800"/>
            <a:ext cx="7257960" cy="0"/>
          </a:xfrm>
          <a:prstGeom prst="line">
            <a:avLst/>
          </a:prstGeom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usters Indexé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444920" y="5148360"/>
            <a:ext cx="2135160" cy="565200"/>
            <a:chOff x="4444920" y="5148360"/>
            <a:chExt cx="2135160" cy="565200"/>
          </a:xfrm>
        </p:grpSpPr>
        <p:sp>
          <p:nvSpPr>
            <p:cNvPr id="103" name=""/>
            <p:cNvSpPr/>
            <p:nvPr/>
          </p:nvSpPr>
          <p:spPr>
            <a:xfrm>
              <a:off x="4444920" y="5264280"/>
              <a:ext cx="2135160" cy="3366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44920" y="5148360"/>
              <a:ext cx="2135160" cy="2174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4920" y="5495760"/>
              <a:ext cx="2135160" cy="21780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25520" y="5165640"/>
            <a:ext cx="2135520" cy="565200"/>
            <a:chOff x="2225520" y="5165640"/>
            <a:chExt cx="2135520" cy="565200"/>
          </a:xfrm>
        </p:grpSpPr>
        <p:sp>
          <p:nvSpPr>
            <p:cNvPr id="107" name=""/>
            <p:cNvSpPr/>
            <p:nvPr/>
          </p:nvSpPr>
          <p:spPr>
            <a:xfrm>
              <a:off x="2225520" y="5281560"/>
              <a:ext cx="2135520" cy="336600"/>
            </a:xfrm>
            <a:prstGeom prst="rect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25520" y="5165640"/>
              <a:ext cx="2135520" cy="21744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636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25520" y="5513400"/>
              <a:ext cx="2135520" cy="217440"/>
            </a:xfrm>
            <a:prstGeom prst="ellipse">
              <a:avLst/>
            </a:prstGeom>
            <a:gradFill rotWithShape="0">
              <a:gsLst>
                <a:gs pos="0">
                  <a:srgbClr val="adaf00"/>
                </a:gs>
                <a:gs pos="50000">
                  <a:srgbClr val="fafd00"/>
                </a:gs>
                <a:gs pos="100000">
                  <a:srgbClr val="ada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511360" y="5773680"/>
            <a:ext cx="1827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s en Clu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240" y="5786280"/>
            <a:ext cx="1827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s sans Clu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1898640"/>
            <a:ext cx="2681280" cy="2930400"/>
          </a:xfrm>
          <a:custGeom>
            <a:avLst/>
            <a:gdLst/>
            <a:ahLst/>
            <a:rect l="l" t="t" r="r" b="b"/>
            <a:pathLst>
              <a:path w="1689" h="1846">
                <a:moveTo>
                  <a:pt x="2" y="1792"/>
                </a:moveTo>
                <a:lnTo>
                  <a:pt x="2" y="0"/>
                </a:lnTo>
                <a:lnTo>
                  <a:pt x="1688" y="0"/>
                </a:lnTo>
                <a:lnTo>
                  <a:pt x="1688" y="1845"/>
                </a:lnTo>
                <a:lnTo>
                  <a:pt x="1648" y="1845"/>
                </a:lnTo>
                <a:lnTo>
                  <a:pt x="1624" y="1834"/>
                </a:lnTo>
                <a:lnTo>
                  <a:pt x="1600" y="1802"/>
                </a:lnTo>
                <a:lnTo>
                  <a:pt x="1576" y="1781"/>
                </a:lnTo>
                <a:lnTo>
                  <a:pt x="1543" y="1761"/>
                </a:lnTo>
                <a:lnTo>
                  <a:pt x="1510" y="1750"/>
                </a:lnTo>
                <a:lnTo>
                  <a:pt x="1486" y="1740"/>
                </a:lnTo>
                <a:lnTo>
                  <a:pt x="1462" y="1740"/>
                </a:lnTo>
                <a:lnTo>
                  <a:pt x="1430" y="1740"/>
                </a:lnTo>
                <a:lnTo>
                  <a:pt x="1406" y="1750"/>
                </a:lnTo>
                <a:lnTo>
                  <a:pt x="1382" y="1771"/>
                </a:lnTo>
                <a:lnTo>
                  <a:pt x="1358" y="1792"/>
                </a:lnTo>
                <a:lnTo>
                  <a:pt x="1333" y="1814"/>
                </a:lnTo>
                <a:lnTo>
                  <a:pt x="1301" y="1834"/>
                </a:lnTo>
                <a:lnTo>
                  <a:pt x="1268" y="1834"/>
                </a:lnTo>
                <a:lnTo>
                  <a:pt x="1244" y="1834"/>
                </a:lnTo>
                <a:lnTo>
                  <a:pt x="1220" y="1834"/>
                </a:lnTo>
                <a:lnTo>
                  <a:pt x="1187" y="1824"/>
                </a:lnTo>
                <a:lnTo>
                  <a:pt x="1163" y="1814"/>
                </a:lnTo>
                <a:lnTo>
                  <a:pt x="1131" y="1802"/>
                </a:lnTo>
                <a:lnTo>
                  <a:pt x="1107" y="1781"/>
                </a:lnTo>
                <a:lnTo>
                  <a:pt x="1074" y="1771"/>
                </a:lnTo>
                <a:lnTo>
                  <a:pt x="1050" y="1750"/>
                </a:lnTo>
                <a:lnTo>
                  <a:pt x="1026" y="1740"/>
                </a:lnTo>
                <a:lnTo>
                  <a:pt x="977" y="1728"/>
                </a:lnTo>
                <a:lnTo>
                  <a:pt x="953" y="1718"/>
                </a:lnTo>
                <a:lnTo>
                  <a:pt x="929" y="1718"/>
                </a:lnTo>
                <a:lnTo>
                  <a:pt x="905" y="1718"/>
                </a:lnTo>
                <a:lnTo>
                  <a:pt x="880" y="1718"/>
                </a:lnTo>
                <a:lnTo>
                  <a:pt x="856" y="1728"/>
                </a:lnTo>
                <a:lnTo>
                  <a:pt x="824" y="1750"/>
                </a:lnTo>
                <a:lnTo>
                  <a:pt x="799" y="1750"/>
                </a:lnTo>
                <a:lnTo>
                  <a:pt x="768" y="1771"/>
                </a:lnTo>
                <a:lnTo>
                  <a:pt x="744" y="1781"/>
                </a:lnTo>
                <a:lnTo>
                  <a:pt x="719" y="1802"/>
                </a:lnTo>
                <a:lnTo>
                  <a:pt x="695" y="1814"/>
                </a:lnTo>
                <a:lnTo>
                  <a:pt x="662" y="1814"/>
                </a:lnTo>
                <a:lnTo>
                  <a:pt x="614" y="1814"/>
                </a:lnTo>
                <a:lnTo>
                  <a:pt x="590" y="1814"/>
                </a:lnTo>
                <a:lnTo>
                  <a:pt x="526" y="1814"/>
                </a:lnTo>
                <a:lnTo>
                  <a:pt x="501" y="1814"/>
                </a:lnTo>
                <a:lnTo>
                  <a:pt x="469" y="1802"/>
                </a:lnTo>
                <a:lnTo>
                  <a:pt x="444" y="1792"/>
                </a:lnTo>
                <a:lnTo>
                  <a:pt x="420" y="1771"/>
                </a:lnTo>
                <a:lnTo>
                  <a:pt x="396" y="1761"/>
                </a:lnTo>
                <a:lnTo>
                  <a:pt x="331" y="1740"/>
                </a:lnTo>
                <a:lnTo>
                  <a:pt x="299" y="1728"/>
                </a:lnTo>
                <a:lnTo>
                  <a:pt x="267" y="1728"/>
                </a:lnTo>
                <a:lnTo>
                  <a:pt x="242" y="1728"/>
                </a:lnTo>
                <a:lnTo>
                  <a:pt x="178" y="1728"/>
                </a:lnTo>
                <a:lnTo>
                  <a:pt x="145" y="1728"/>
                </a:lnTo>
                <a:lnTo>
                  <a:pt x="113" y="1750"/>
                </a:lnTo>
                <a:lnTo>
                  <a:pt x="89" y="1750"/>
                </a:lnTo>
                <a:lnTo>
                  <a:pt x="81" y="1781"/>
                </a:lnTo>
                <a:lnTo>
                  <a:pt x="57" y="1792"/>
                </a:lnTo>
                <a:lnTo>
                  <a:pt x="24" y="1824"/>
                </a:lnTo>
                <a:lnTo>
                  <a:pt x="0" y="1845"/>
                </a:lnTo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5840" y="1641600"/>
            <a:ext cx="1827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Clu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03200" y="1990800"/>
            <a:ext cx="272916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Clé du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(DEPTN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DNAME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L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SALES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BO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EMPNO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E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0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SMI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21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41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W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DNAME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L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ADMIN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NEW Y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EMPNO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ourier New"/>
              </a:rPr>
              <a:t>EN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32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KEH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39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WIL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741240"/>
                <a:tab algn="l" pos="1022400"/>
                <a:tab algn="l" pos="15987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77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NOR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149480" y="4746600"/>
            <a:ext cx="2163600" cy="64440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7240" y="1898640"/>
            <a:ext cx="2787840" cy="1695600"/>
          </a:xfrm>
          <a:custGeom>
            <a:avLst/>
            <a:gdLst/>
            <a:ahLst/>
            <a:rect l="l" t="t" r="r" b="b"/>
            <a:pathLst>
              <a:path w="1756" h="1068">
                <a:moveTo>
                  <a:pt x="2" y="1037"/>
                </a:moveTo>
                <a:lnTo>
                  <a:pt x="2" y="0"/>
                </a:lnTo>
                <a:lnTo>
                  <a:pt x="1755" y="0"/>
                </a:lnTo>
                <a:lnTo>
                  <a:pt x="1755" y="1067"/>
                </a:lnTo>
                <a:lnTo>
                  <a:pt x="1713" y="1067"/>
                </a:lnTo>
                <a:lnTo>
                  <a:pt x="1688" y="1060"/>
                </a:lnTo>
                <a:lnTo>
                  <a:pt x="1663" y="1042"/>
                </a:lnTo>
                <a:lnTo>
                  <a:pt x="1638" y="1030"/>
                </a:lnTo>
                <a:lnTo>
                  <a:pt x="1604" y="1018"/>
                </a:lnTo>
                <a:lnTo>
                  <a:pt x="1570" y="1012"/>
                </a:lnTo>
                <a:lnTo>
                  <a:pt x="1545" y="1006"/>
                </a:lnTo>
                <a:lnTo>
                  <a:pt x="1520" y="1006"/>
                </a:lnTo>
                <a:lnTo>
                  <a:pt x="1486" y="1006"/>
                </a:lnTo>
                <a:lnTo>
                  <a:pt x="1461" y="1012"/>
                </a:lnTo>
                <a:lnTo>
                  <a:pt x="1436" y="1024"/>
                </a:lnTo>
                <a:lnTo>
                  <a:pt x="1411" y="1037"/>
                </a:lnTo>
                <a:lnTo>
                  <a:pt x="1385" y="1049"/>
                </a:lnTo>
                <a:lnTo>
                  <a:pt x="1353" y="1060"/>
                </a:lnTo>
                <a:lnTo>
                  <a:pt x="1319" y="1060"/>
                </a:lnTo>
                <a:lnTo>
                  <a:pt x="1294" y="1060"/>
                </a:lnTo>
                <a:lnTo>
                  <a:pt x="1269" y="1060"/>
                </a:lnTo>
                <a:lnTo>
                  <a:pt x="1235" y="1055"/>
                </a:lnTo>
                <a:lnTo>
                  <a:pt x="1210" y="1049"/>
                </a:lnTo>
                <a:lnTo>
                  <a:pt x="1176" y="1042"/>
                </a:lnTo>
                <a:lnTo>
                  <a:pt x="1151" y="1030"/>
                </a:lnTo>
                <a:lnTo>
                  <a:pt x="1117" y="1024"/>
                </a:lnTo>
                <a:lnTo>
                  <a:pt x="1092" y="1012"/>
                </a:lnTo>
                <a:lnTo>
                  <a:pt x="1067" y="1006"/>
                </a:lnTo>
                <a:lnTo>
                  <a:pt x="1016" y="999"/>
                </a:lnTo>
                <a:lnTo>
                  <a:pt x="991" y="994"/>
                </a:lnTo>
                <a:lnTo>
                  <a:pt x="966" y="994"/>
                </a:lnTo>
                <a:lnTo>
                  <a:pt x="941" y="994"/>
                </a:lnTo>
                <a:lnTo>
                  <a:pt x="915" y="994"/>
                </a:lnTo>
                <a:lnTo>
                  <a:pt x="890" y="999"/>
                </a:lnTo>
                <a:lnTo>
                  <a:pt x="857" y="1012"/>
                </a:lnTo>
                <a:lnTo>
                  <a:pt x="831" y="1012"/>
                </a:lnTo>
                <a:lnTo>
                  <a:pt x="798" y="1024"/>
                </a:lnTo>
                <a:lnTo>
                  <a:pt x="773" y="1030"/>
                </a:lnTo>
                <a:lnTo>
                  <a:pt x="747" y="1042"/>
                </a:lnTo>
                <a:lnTo>
                  <a:pt x="722" y="1049"/>
                </a:lnTo>
                <a:lnTo>
                  <a:pt x="688" y="1049"/>
                </a:lnTo>
                <a:lnTo>
                  <a:pt x="638" y="1049"/>
                </a:lnTo>
                <a:lnTo>
                  <a:pt x="613" y="1049"/>
                </a:lnTo>
                <a:lnTo>
                  <a:pt x="546" y="1049"/>
                </a:lnTo>
                <a:lnTo>
                  <a:pt x="520" y="1049"/>
                </a:lnTo>
                <a:lnTo>
                  <a:pt x="488" y="1042"/>
                </a:lnTo>
                <a:lnTo>
                  <a:pt x="461" y="1037"/>
                </a:lnTo>
                <a:lnTo>
                  <a:pt x="436" y="1024"/>
                </a:lnTo>
                <a:lnTo>
                  <a:pt x="412" y="1018"/>
                </a:lnTo>
                <a:lnTo>
                  <a:pt x="345" y="1006"/>
                </a:lnTo>
                <a:lnTo>
                  <a:pt x="311" y="999"/>
                </a:lnTo>
                <a:lnTo>
                  <a:pt x="278" y="999"/>
                </a:lnTo>
                <a:lnTo>
                  <a:pt x="252" y="999"/>
                </a:lnTo>
                <a:lnTo>
                  <a:pt x="185" y="999"/>
                </a:lnTo>
                <a:lnTo>
                  <a:pt x="151" y="999"/>
                </a:lnTo>
                <a:lnTo>
                  <a:pt x="118" y="1012"/>
                </a:lnTo>
                <a:lnTo>
                  <a:pt x="93" y="1012"/>
                </a:lnTo>
                <a:lnTo>
                  <a:pt x="84" y="1030"/>
                </a:lnTo>
                <a:lnTo>
                  <a:pt x="59" y="1037"/>
                </a:lnTo>
                <a:lnTo>
                  <a:pt x="25" y="1055"/>
                </a:lnTo>
                <a:lnTo>
                  <a:pt x="0" y="1067"/>
                </a:lnTo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8120" y="1965240"/>
            <a:ext cx="322092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MPNO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NAME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PTNO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.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932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KEHR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0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SMITH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139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WILSON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277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NORMAN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321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JONES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r" pos="1998720"/>
                <a:tab algn="l" pos="223344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841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WARD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45040" y="1652760"/>
            <a:ext cx="1827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able EM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219400" y="4781160"/>
            <a:ext cx="1071360" cy="5986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313080" y="4827240"/>
            <a:ext cx="554040" cy="55260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301920" y="4734000"/>
            <a:ext cx="58680" cy="6350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169880" y="3546000"/>
            <a:ext cx="567000" cy="17859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335120" y="3498480"/>
            <a:ext cx="436680" cy="18464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265720" y="3581280"/>
            <a:ext cx="1692360" cy="15638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254560" y="3559320"/>
            <a:ext cx="844560" cy="162072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040" y="3968640"/>
            <a:ext cx="2469960" cy="943200"/>
          </a:xfrm>
          <a:custGeom>
            <a:avLst/>
            <a:gdLst/>
            <a:ahLst/>
            <a:rect l="l" t="t" r="r" b="b"/>
            <a:pathLst>
              <a:path w="1556" h="594">
                <a:moveTo>
                  <a:pt x="2" y="576"/>
                </a:moveTo>
                <a:lnTo>
                  <a:pt x="2" y="0"/>
                </a:lnTo>
                <a:lnTo>
                  <a:pt x="1555" y="0"/>
                </a:lnTo>
                <a:lnTo>
                  <a:pt x="1555" y="593"/>
                </a:lnTo>
                <a:lnTo>
                  <a:pt x="1518" y="593"/>
                </a:lnTo>
                <a:lnTo>
                  <a:pt x="1496" y="589"/>
                </a:lnTo>
                <a:lnTo>
                  <a:pt x="1474" y="579"/>
                </a:lnTo>
                <a:lnTo>
                  <a:pt x="1452" y="572"/>
                </a:lnTo>
                <a:lnTo>
                  <a:pt x="1421" y="566"/>
                </a:lnTo>
                <a:lnTo>
                  <a:pt x="1391" y="562"/>
                </a:lnTo>
                <a:lnTo>
                  <a:pt x="1369" y="559"/>
                </a:lnTo>
                <a:lnTo>
                  <a:pt x="1347" y="559"/>
                </a:lnTo>
                <a:lnTo>
                  <a:pt x="1317" y="559"/>
                </a:lnTo>
                <a:lnTo>
                  <a:pt x="1295" y="562"/>
                </a:lnTo>
                <a:lnTo>
                  <a:pt x="1273" y="569"/>
                </a:lnTo>
                <a:lnTo>
                  <a:pt x="1251" y="576"/>
                </a:lnTo>
                <a:lnTo>
                  <a:pt x="1228" y="583"/>
                </a:lnTo>
                <a:lnTo>
                  <a:pt x="1198" y="589"/>
                </a:lnTo>
                <a:lnTo>
                  <a:pt x="1168" y="589"/>
                </a:lnTo>
                <a:lnTo>
                  <a:pt x="1146" y="589"/>
                </a:lnTo>
                <a:lnTo>
                  <a:pt x="1124" y="589"/>
                </a:lnTo>
                <a:lnTo>
                  <a:pt x="1094" y="586"/>
                </a:lnTo>
                <a:lnTo>
                  <a:pt x="1072" y="583"/>
                </a:lnTo>
                <a:lnTo>
                  <a:pt x="1042" y="579"/>
                </a:lnTo>
                <a:lnTo>
                  <a:pt x="1020" y="572"/>
                </a:lnTo>
                <a:lnTo>
                  <a:pt x="989" y="569"/>
                </a:lnTo>
                <a:lnTo>
                  <a:pt x="967" y="562"/>
                </a:lnTo>
                <a:lnTo>
                  <a:pt x="945" y="559"/>
                </a:lnTo>
                <a:lnTo>
                  <a:pt x="900" y="555"/>
                </a:lnTo>
                <a:lnTo>
                  <a:pt x="878" y="552"/>
                </a:lnTo>
                <a:lnTo>
                  <a:pt x="856" y="552"/>
                </a:lnTo>
                <a:lnTo>
                  <a:pt x="834" y="552"/>
                </a:lnTo>
                <a:lnTo>
                  <a:pt x="811" y="552"/>
                </a:lnTo>
                <a:lnTo>
                  <a:pt x="789" y="555"/>
                </a:lnTo>
                <a:lnTo>
                  <a:pt x="759" y="562"/>
                </a:lnTo>
                <a:lnTo>
                  <a:pt x="736" y="562"/>
                </a:lnTo>
                <a:lnTo>
                  <a:pt x="707" y="569"/>
                </a:lnTo>
                <a:lnTo>
                  <a:pt x="685" y="572"/>
                </a:lnTo>
                <a:lnTo>
                  <a:pt x="662" y="579"/>
                </a:lnTo>
                <a:lnTo>
                  <a:pt x="640" y="583"/>
                </a:lnTo>
                <a:lnTo>
                  <a:pt x="610" y="583"/>
                </a:lnTo>
                <a:lnTo>
                  <a:pt x="566" y="583"/>
                </a:lnTo>
                <a:lnTo>
                  <a:pt x="543" y="583"/>
                </a:lnTo>
                <a:lnTo>
                  <a:pt x="484" y="583"/>
                </a:lnTo>
                <a:lnTo>
                  <a:pt x="461" y="583"/>
                </a:lnTo>
                <a:lnTo>
                  <a:pt x="432" y="579"/>
                </a:lnTo>
                <a:lnTo>
                  <a:pt x="409" y="576"/>
                </a:lnTo>
                <a:lnTo>
                  <a:pt x="387" y="569"/>
                </a:lnTo>
                <a:lnTo>
                  <a:pt x="365" y="566"/>
                </a:lnTo>
                <a:lnTo>
                  <a:pt x="305" y="559"/>
                </a:lnTo>
                <a:lnTo>
                  <a:pt x="275" y="555"/>
                </a:lnTo>
                <a:lnTo>
                  <a:pt x="246" y="555"/>
                </a:lnTo>
                <a:lnTo>
                  <a:pt x="223" y="555"/>
                </a:lnTo>
                <a:lnTo>
                  <a:pt x="164" y="555"/>
                </a:lnTo>
                <a:lnTo>
                  <a:pt x="134" y="555"/>
                </a:lnTo>
                <a:lnTo>
                  <a:pt x="104" y="562"/>
                </a:lnTo>
                <a:lnTo>
                  <a:pt x="82" y="562"/>
                </a:lnTo>
                <a:lnTo>
                  <a:pt x="74" y="572"/>
                </a:lnTo>
                <a:lnTo>
                  <a:pt x="52" y="576"/>
                </a:lnTo>
                <a:lnTo>
                  <a:pt x="22" y="586"/>
                </a:lnTo>
                <a:lnTo>
                  <a:pt x="0" y="593"/>
                </a:lnTo>
              </a:path>
            </a:pathLst>
          </a:custGeom>
          <a:gradFill rotWithShape="0">
            <a:gsLst>
              <a:gs pos="0">
                <a:srgbClr val="0f1d4a"/>
              </a:gs>
              <a:gs pos="50000">
                <a:srgbClr val="3365fb"/>
              </a:gs>
              <a:gs pos="100000">
                <a:srgbClr val="0f1d4a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38880" y="4033800"/>
            <a:ext cx="25891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l" pos="14349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PTNO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NAME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LOC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-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l" pos="14349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1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KEHR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BO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l" pos="14349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0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SMITH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NEW Y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r" pos="517680"/>
                <a:tab algn="l" pos="741240"/>
                <a:tab algn="l" pos="143496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381640" y="4885920"/>
            <a:ext cx="612720" cy="48276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41880" y="4921200"/>
            <a:ext cx="1832040" cy="44784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018120" y="4898880"/>
            <a:ext cx="1127160" cy="45720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935320" y="4851360"/>
            <a:ext cx="82440" cy="517680"/>
          </a:xfrm>
          <a:prstGeom prst="line">
            <a:avLst/>
          </a:prstGeom>
          <a:ln w="12600">
            <a:solidFill>
              <a:srgbClr val="ffba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Cluster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15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ables candidates pour un cluste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ssentiellement interrogées et non fréquemment mises à jou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ontiennent des valeurs redondantes dans une colonn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ouvent utilisées en jointur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Cluster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33120" y="1735200"/>
            <a:ext cx="7296120" cy="24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’index d’un cluster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st utilisé pour chercher rapidement les valeurs de clé du clust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ointe directement sur le bloc de données contenant la valeur de la clé du clust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ermet à une ligne d’être atteinte avec un minimum de deux entrées/sorti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Base de Données Clien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34160" y="1665360"/>
            <a:ext cx="1677960" cy="3166920"/>
          </a:xfrm>
          <a:prstGeom prst="rect">
            <a:avLst/>
          </a:prstGeom>
          <a:gradFill rotWithShape="0">
            <a:gsLst>
              <a:gs pos="0">
                <a:srgbClr val="002420"/>
              </a:gs>
              <a:gs pos="50000">
                <a:srgbClr val="007a6e"/>
              </a:gs>
              <a:gs pos="100000">
                <a:srgbClr val="00242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086520" y="2184480"/>
            <a:ext cx="1089000" cy="842760"/>
            <a:chOff x="6086520" y="2184480"/>
            <a:chExt cx="1089000" cy="842760"/>
          </a:xfrm>
        </p:grpSpPr>
        <p:sp>
          <p:nvSpPr>
            <p:cNvPr id="151" name=""/>
            <p:cNvSpPr/>
            <p:nvPr/>
          </p:nvSpPr>
          <p:spPr>
            <a:xfrm>
              <a:off x="6086520" y="2355840"/>
              <a:ext cx="1089000" cy="50328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6520" y="218448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86520" y="270360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678640" y="3087720"/>
            <a:ext cx="20174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QUE UTILISATEU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66720" y="1665360"/>
            <a:ext cx="1677960" cy="3166920"/>
          </a:xfrm>
          <a:prstGeom prst="rect">
            <a:avLst/>
          </a:prstGeom>
          <a:gradFill rotWithShape="0">
            <a:gsLst>
              <a:gs pos="0">
                <a:srgbClr val="2a0842"/>
              </a:gs>
              <a:gs pos="50000">
                <a:srgbClr val="8f1ee1"/>
              </a:gs>
              <a:gs pos="100000">
                <a:srgbClr val="2a0842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819440" y="2184480"/>
            <a:ext cx="1089000" cy="842760"/>
            <a:chOff x="1819440" y="2184480"/>
            <a:chExt cx="1089000" cy="842760"/>
          </a:xfrm>
        </p:grpSpPr>
        <p:sp>
          <p:nvSpPr>
            <p:cNvPr id="157" name=""/>
            <p:cNvSpPr/>
            <p:nvPr/>
          </p:nvSpPr>
          <p:spPr>
            <a:xfrm>
              <a:off x="1819440" y="2355840"/>
              <a:ext cx="1089000" cy="50328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19440" y="218448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9440" y="2703600"/>
              <a:ext cx="1089000" cy="32364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436760" y="49658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21240" y="49658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BS_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29400" y="4965840"/>
            <a:ext cx="1890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TBS_INDE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11200" y="3086280"/>
            <a:ext cx="18907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QUE SYSTE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26000" y="1665360"/>
            <a:ext cx="1677960" cy="3166920"/>
          </a:xfrm>
          <a:prstGeom prst="rect">
            <a:avLst/>
          </a:prstGeom>
          <a:gradFill rotWithShape="0">
            <a:gsLst>
              <a:gs pos="0">
                <a:srgbClr val="19327c"/>
              </a:gs>
              <a:gs pos="50000">
                <a:srgbClr val="3365fb"/>
              </a:gs>
              <a:gs pos="100000">
                <a:srgbClr val="19327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19360" y="3111480"/>
            <a:ext cx="21193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SQUE UTILISATEU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978360" y="2209680"/>
            <a:ext cx="1089000" cy="843120"/>
            <a:chOff x="3978360" y="2209680"/>
            <a:chExt cx="1089000" cy="843120"/>
          </a:xfrm>
        </p:grpSpPr>
        <p:sp>
          <p:nvSpPr>
            <p:cNvPr id="167" name=""/>
            <p:cNvSpPr/>
            <p:nvPr/>
          </p:nvSpPr>
          <p:spPr>
            <a:xfrm>
              <a:off x="3978360" y="2381400"/>
              <a:ext cx="1089000" cy="502920"/>
            </a:xfrm>
            <a:prstGeom prst="rect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78360" y="2209680"/>
              <a:ext cx="1089000" cy="324000"/>
            </a:xfrm>
            <a:prstGeom prst="ellipse">
              <a:avLst/>
            </a:prstGeom>
            <a:gradFill rotWithShape="0">
              <a:gsLst>
                <a:gs pos="0">
                  <a:srgbClr val="8cf4ea"/>
                </a:gs>
                <a:gs pos="100000">
                  <a:srgbClr val="3761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78360" y="2728800"/>
              <a:ext cx="1089000" cy="324000"/>
            </a:xfrm>
            <a:prstGeom prst="ellipse">
              <a:avLst/>
            </a:prstGeom>
            <a:gradFill rotWithShape="0">
              <a:gsLst>
                <a:gs pos="0">
                  <a:srgbClr val="61a9a2"/>
                </a:gs>
                <a:gs pos="50000">
                  <a:srgbClr val="8cf4ea"/>
                </a:gs>
                <a:gs pos="100000">
                  <a:srgbClr val="61a9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570120" y="2562120"/>
            <a:ext cx="18907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_DEP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CL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03840" y="2523960"/>
            <a:ext cx="18907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_DEP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CLU_I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Gestion des Cluster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8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e paramètre SIZE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Est un argument optionnel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pécifie le nombre estimé d’octets nécessaire pour stocker la moyenne de la clé du cluster et de ses lign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Limite le nombre de clés du cluster stockées dans un bloc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ar défaut, Oracle Server stocke dans un bloc de données une clé du cluster et ses lignes associ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réation d’un Cluster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05880" y="2077920"/>
            <a:ext cx="379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91152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1028880" y="199548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8066160" y="200664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15160" y="1971720"/>
            <a:ext cx="157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REATE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082160" y="2079720"/>
            <a:ext cx="3272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84400" y="2087640"/>
            <a:ext cx="13525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20000" y="19638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69080" y="214164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schém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109680" y="2286000"/>
            <a:ext cx="1443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05000" y="2097000"/>
            <a:ext cx="0" cy="190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81600" y="2286000"/>
            <a:ext cx="201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89320" y="2093760"/>
            <a:ext cx="0" cy="193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59400" y="1724040"/>
            <a:ext cx="0" cy="34272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454360" y="1728720"/>
            <a:ext cx="1966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21400" y="1725480"/>
            <a:ext cx="0" cy="3510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94280" y="196704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05640" y="1968480"/>
            <a:ext cx="108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def_col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78720" y="1976400"/>
            <a:ext cx="23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95880" y="2076480"/>
            <a:ext cx="563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1840" y="2087640"/>
            <a:ext cx="32832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2722680"/>
            <a:ext cx="0" cy="2398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57040" y="3003480"/>
            <a:ext cx="4678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057040" y="3270240"/>
            <a:ext cx="4678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057040" y="3537000"/>
            <a:ext cx="4678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070000" y="3778200"/>
            <a:ext cx="4665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070000" y="4610160"/>
            <a:ext cx="46656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057040" y="4851360"/>
            <a:ext cx="46782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058480" y="5122800"/>
            <a:ext cx="4676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4049640"/>
            <a:ext cx="0" cy="3049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12360" y="4229280"/>
            <a:ext cx="311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07680" y="40384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028760" y="4371840"/>
            <a:ext cx="18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24440" y="4037040"/>
            <a:ext cx="0" cy="33012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016160" y="4181400"/>
            <a:ext cx="1839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428720" y="4181400"/>
            <a:ext cx="2034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441680" y="4359240"/>
            <a:ext cx="1908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054160" y="4044960"/>
            <a:ext cx="46814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964800" y="2647800"/>
            <a:ext cx="127080" cy="14004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020600" y="2719440"/>
            <a:ext cx="702000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8025120" y="2646360"/>
            <a:ext cx="126720" cy="139680"/>
          </a:xfrm>
          <a:prstGeom prst="triangle">
            <a:avLst>
              <a:gd name="adj" fmla="val 49995"/>
            </a:avLst>
          </a:prstGeom>
          <a:solidFill>
            <a:srgbClr val="081d5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8720" y="2435400"/>
            <a:ext cx="0" cy="280800"/>
          </a:xfrm>
          <a:prstGeom prst="line">
            <a:avLst/>
          </a:prstGeom>
          <a:ln w="12600">
            <a:solidFill>
              <a:srgbClr val="081d5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719360" y="2440080"/>
            <a:ext cx="5194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12000" y="2444760"/>
            <a:ext cx="0" cy="26676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0920" y="2722680"/>
            <a:ext cx="0" cy="239868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0600" y="2879640"/>
            <a:ext cx="135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FRE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72320" y="314640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PCTUSED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95000" y="3398760"/>
            <a:ext cx="136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I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91760" y="363996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MAXTRANS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30920" y="4471920"/>
            <a:ext cx="205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TABLESPAC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tabl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34880" y="4713120"/>
            <a:ext cx="1925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81d58"/>
                </a:solidFill>
                <a:latin typeface="Arial"/>
              </a:rPr>
              <a:t>STORAGE </a:t>
            </a:r>
            <a:r>
              <a:rPr b="1" i="1" lang="fr-FR" sz="1200" spc="-1" strike="noStrike">
                <a:solidFill>
                  <a:srgbClr val="081d58"/>
                </a:solidFill>
                <a:latin typeface="Arial"/>
              </a:rPr>
              <a:t>param_st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23080" y="4984920"/>
            <a:ext cx="65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360" y="3906720"/>
            <a:ext cx="98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SIZE </a:t>
            </a:r>
            <a:r>
              <a:rPr b="1" i="1" lang="en-US" sz="1200" spc="-1" strike="noStrike">
                <a:solidFill>
                  <a:srgbClr val="081d58"/>
                </a:solidFill>
                <a:latin typeface="Arial"/>
              </a:rPr>
              <a:t>ent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43920" y="159552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9T13:36:46Z</dcterms:created>
  <dc:creator>annabelle</dc:creator>
  <dc:description/>
  <dc:language>en-US</dc:language>
  <cp:lastModifiedBy>MEDI TELECOM</cp:lastModifiedBy>
  <cp:lastPrinted>1996-03-21T12:56:28Z</cp:lastPrinted>
  <dcterms:modified xsi:type="dcterms:W3CDTF">2001-04-11T15:00:43Z</dcterms:modified>
  <cp:revision>15251</cp:revision>
  <dc:subject/>
  <dc:title>Lesson 9</dc:title>
</cp:coreProperties>
</file>