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E5330B-B581-43F7-99F7-1C4CD895B084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2960" y="4489560"/>
            <a:ext cx="50292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4760" y="-1440"/>
            <a:ext cx="2974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84760" y="8685360"/>
            <a:ext cx="2974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324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3240" y="-1440"/>
            <a:ext cx="297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1160" y="434340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35F-DE58-4BEF-AE20-E0640259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42E-CC48-4A4C-B2B8-F632E6F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C2F-1033-4718-A30D-EF650672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449-4591-4AAD-BC50-4B0253D4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BAE-BCF7-4A98-A0EE-C08CFD4E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F0C-2B3A-44B2-802D-C59F10A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292-A60E-4B97-80EF-7DF98FEE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FAF-7B74-46C4-8B15-0BDC2C7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592-6F1F-4C27-9D31-D16C4873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C83-FE5F-4BAC-BA61-9C00E61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E7C-DA4D-408D-BA43-A499CBB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DAA-AC19-4C6D-864F-3611D81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2BD370-A9F5-4FE6-AB6A-97567784E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1140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4 - </a:t>
            </a:r>
            <a:fld id="{607D736D-FD18-440D-B223-F12CB9B3749E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74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4: Accéder au Données et les Modifier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16400" y="4437000"/>
            <a:ext cx="933480" cy="0"/>
          </a:xfrm>
          <a:prstGeom prst="line">
            <a:avLst/>
          </a:prstGeom>
          <a:ln w="2556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84200" y="3940200"/>
            <a:ext cx="2360880" cy="9525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8f1ee1"/>
              </a:gs>
              <a:gs pos="100000">
                <a:srgbClr val="63149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95520" y="4199040"/>
            <a:ext cx="704880" cy="5680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4720" y="4213080"/>
            <a:ext cx="704880" cy="56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8240" y="3902040"/>
            <a:ext cx="75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82680" y="4276800"/>
            <a:ext cx="126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82920" y="4216320"/>
            <a:ext cx="1398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Etape 3: Fetc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76440" y="1841400"/>
            <a:ext cx="6202440" cy="1603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63600" y="190512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03600" y="21477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96920" y="2303640"/>
            <a:ext cx="1157400" cy="97452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60760" y="2373480"/>
            <a:ext cx="328680" cy="807840"/>
          </a:xfrm>
          <a:custGeom>
            <a:avLst/>
            <a:gdLst>
              <a:gd name="textAreaLeft" fmla="*/ 11880 w 328680"/>
              <a:gd name="textAreaRight" fmla="*/ 316800 w 328680"/>
              <a:gd name="textAreaTop" fmla="*/ 11880 h 807840"/>
              <a:gd name="textAreaBottom" fmla="*/ 795960 h 807840"/>
            </a:gdLst>
            <a:ahLst/>
            <a:rect l="textAreaLeft" t="textAreaTop" r="textAreaRight" b="textAreaBottom"/>
            <a:pathLst>
              <a:path w="21600" h="53055">
                <a:moveTo>
                  <a:pt x="2699" y="0"/>
                </a:moveTo>
                <a:arcTo wR="2699" hR="2699" stAng="16200000" swAng="-5400000"/>
                <a:lnTo>
                  <a:pt x="0" y="50356"/>
                </a:lnTo>
                <a:arcTo wR="2699" hR="2699" stAng="10800000" swAng="-5400000"/>
                <a:lnTo>
                  <a:pt x="18901" y="5305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065320" y="2465280"/>
            <a:ext cx="485640" cy="621000"/>
            <a:chOff x="2065320" y="2465280"/>
            <a:chExt cx="485640" cy="621000"/>
          </a:xfrm>
        </p:grpSpPr>
        <p:sp>
          <p:nvSpPr>
            <p:cNvPr id="545" name=""/>
            <p:cNvSpPr/>
            <p:nvPr/>
          </p:nvSpPr>
          <p:spPr>
            <a:xfrm>
              <a:off x="2097000" y="2465280"/>
              <a:ext cx="82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62240" y="263052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65320" y="275436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03640" y="287820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8400" y="3003480"/>
              <a:ext cx="8244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68520" y="2754360"/>
              <a:ext cx="82440" cy="842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68520" y="2465280"/>
              <a:ext cx="82440" cy="8280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1301040" y="3500280"/>
            <a:ext cx="1131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94000" y="2928960"/>
            <a:ext cx="115920" cy="723960"/>
          </a:xfrm>
          <a:custGeom>
            <a:avLst/>
            <a:gdLst/>
            <a:ahLst/>
            <a:rect l="l" t="t" r="r" b="b"/>
            <a:pathLst>
              <a:path w="73" h="456">
                <a:moveTo>
                  <a:pt x="72" y="0"/>
                </a:moveTo>
                <a:lnTo>
                  <a:pt x="72" y="455"/>
                </a:lnTo>
                <a:lnTo>
                  <a:pt x="0" y="455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08360" y="184320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33840" y="5460840"/>
            <a:ext cx="1278000" cy="628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29160" y="4210200"/>
            <a:ext cx="1311120" cy="634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76880" y="405756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14800" y="41702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035680" y="347184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81560" y="530856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02200" y="541188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7760" y="4694400"/>
            <a:ext cx="0" cy="59832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103640" y="2482920"/>
            <a:ext cx="1914480" cy="853920"/>
            <a:chOff x="4103640" y="2482920"/>
            <a:chExt cx="1914480" cy="853920"/>
          </a:xfrm>
        </p:grpSpPr>
        <p:grpSp>
          <p:nvGrpSpPr>
            <p:cNvPr id="564" name=""/>
            <p:cNvGrpSpPr/>
            <p:nvPr/>
          </p:nvGrpSpPr>
          <p:grpSpPr>
            <a:xfrm>
              <a:off x="4103640" y="2482920"/>
              <a:ext cx="1914480" cy="853920"/>
              <a:chOff x="4103640" y="2482920"/>
              <a:chExt cx="1914480" cy="853920"/>
            </a:xfrm>
          </p:grpSpPr>
          <p:sp>
            <p:nvSpPr>
              <p:cNvPr id="565" name=""/>
              <p:cNvSpPr/>
              <p:nvPr/>
            </p:nvSpPr>
            <p:spPr>
              <a:xfrm>
                <a:off x="4110120" y="2489040"/>
                <a:ext cx="1901880" cy="84168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00720" y="2482920"/>
                <a:ext cx="0" cy="85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27760" y="2482920"/>
                <a:ext cx="0" cy="85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57680" y="2482920"/>
                <a:ext cx="0" cy="85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3640" y="28209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03640" y="30956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3248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8944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30720" y="2487600"/>
                <a:ext cx="0" cy="83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6100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28624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62480" y="2490840"/>
                <a:ext cx="0" cy="8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92760" y="2490840"/>
                <a:ext cx="0" cy="8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19800" y="2490840"/>
                <a:ext cx="0" cy="84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53040" y="248292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0860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31000" y="248760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103640" y="29512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103640" y="32274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03640" y="27018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0364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116240" y="2593800"/>
              <a:ext cx="117720" cy="10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22800" y="259380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0360" y="2598840"/>
              <a:ext cx="65160" cy="950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25920" y="2597040"/>
              <a:ext cx="127080" cy="1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64160" y="2597040"/>
              <a:ext cx="122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37160" y="2597040"/>
              <a:ext cx="12708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68960" y="295596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86320" y="2959200"/>
              <a:ext cx="1396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8560" y="2498760"/>
              <a:ext cx="95400" cy="79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3880" y="2706840"/>
              <a:ext cx="106560" cy="997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97440" y="295920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37160" y="282240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35680" y="3102120"/>
              <a:ext cx="104760" cy="114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21240" y="295416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637160" y="3106800"/>
              <a:ext cx="10944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65680" y="3227400"/>
              <a:ext cx="12240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25920" y="309888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3097080"/>
              <a:ext cx="1206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65720" y="3232080"/>
              <a:ext cx="128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37200" y="3240000"/>
              <a:ext cx="10764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05640" y="2830680"/>
              <a:ext cx="9180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1280" y="2827440"/>
              <a:ext cx="11880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00600" y="3103560"/>
              <a:ext cx="96840" cy="109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33880" y="2827440"/>
              <a:ext cx="11448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59520" y="2706840"/>
              <a:ext cx="122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88040" y="3227400"/>
              <a:ext cx="12708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Zones de Requêtes Partag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71200" y="1719360"/>
            <a:ext cx="7296120" cy="28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eulement une zone de requête partagée existe pour une même commande SQ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eux commandes SQL sont identiques lorsq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urs chaînes de caractères sont identiques, y compris les majuscules et les minuscules, l’espace occupé par des blancs etc ...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objets référencés sont identi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types et les noms des variables sont identiqu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775480" y="3762360"/>
            <a:ext cx="1765080" cy="1513080"/>
            <a:chOff x="5775480" y="3762360"/>
            <a:chExt cx="1765080" cy="1513080"/>
          </a:xfrm>
        </p:grpSpPr>
        <p:sp>
          <p:nvSpPr>
            <p:cNvPr id="623" name=""/>
            <p:cNvSpPr/>
            <p:nvPr/>
          </p:nvSpPr>
          <p:spPr>
            <a:xfrm>
              <a:off x="5775480" y="4070520"/>
              <a:ext cx="1765080" cy="9046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75480" y="3762360"/>
              <a:ext cx="1765080" cy="57636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75480" y="4699080"/>
              <a:ext cx="1765080" cy="57636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pération SELEC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70120" y="3587760"/>
            <a:ext cx="1084320" cy="442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04920" y="3630600"/>
            <a:ext cx="22240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93920" y="1771560"/>
            <a:ext cx="4353120" cy="1482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556000" y="2255760"/>
            <a:ext cx="1415880" cy="809640"/>
            <a:chOff x="2556000" y="2255760"/>
            <a:chExt cx="1415880" cy="809640"/>
          </a:xfrm>
        </p:grpSpPr>
        <p:sp>
          <p:nvSpPr>
            <p:cNvPr id="631" name=""/>
            <p:cNvSpPr/>
            <p:nvPr/>
          </p:nvSpPr>
          <p:spPr>
            <a:xfrm>
              <a:off x="2556000" y="2255760"/>
              <a:ext cx="1415880" cy="809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33760" y="2496960"/>
              <a:ext cx="54900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48000" y="2496960"/>
              <a:ext cx="55080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220840" y="22557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09960" y="17668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93920" y="403236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8960" y="4537080"/>
            <a:ext cx="1081080" cy="4744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0160" y="461160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158920" y="3265560"/>
            <a:ext cx="576360" cy="3175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62520" y="5373720"/>
            <a:ext cx="2009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Fichier de Donnée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919760" y="2243160"/>
            <a:ext cx="1446120" cy="806400"/>
            <a:chOff x="4919760" y="2243160"/>
            <a:chExt cx="1446120" cy="806400"/>
          </a:xfrm>
        </p:grpSpPr>
        <p:sp>
          <p:nvSpPr>
            <p:cNvPr id="642" name=""/>
            <p:cNvSpPr/>
            <p:nvPr/>
          </p:nvSpPr>
          <p:spPr>
            <a:xfrm>
              <a:off x="4919760" y="2243160"/>
              <a:ext cx="1446120" cy="8064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19760" y="244476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19760" y="264636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19760" y="284796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072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7696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2464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7376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9640" y="2243160"/>
              <a:ext cx="0" cy="80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4595760" y="198108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76640" y="198288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7360" y="3397320"/>
            <a:ext cx="21211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B2 Stock Clerk 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46680" y="2755800"/>
            <a:ext cx="243000" cy="746280"/>
          </a:xfrm>
          <a:custGeom>
            <a:avLst/>
            <a:gdLst/>
            <a:ahLst/>
            <a:rect l="l" t="t" r="r" b="b"/>
            <a:pathLst>
              <a:path w="153" h="470">
                <a:moveTo>
                  <a:pt x="0" y="0"/>
                </a:moveTo>
                <a:lnTo>
                  <a:pt x="0" y="469"/>
                </a:lnTo>
                <a:lnTo>
                  <a:pt x="152" y="469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58840" y="5261040"/>
            <a:ext cx="3435480" cy="640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ELECT sal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FROM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WHERE id = 17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762520" y="4444920"/>
            <a:ext cx="1905120" cy="650880"/>
            <a:chOff x="5762520" y="4444920"/>
            <a:chExt cx="1905120" cy="650880"/>
          </a:xfrm>
        </p:grpSpPr>
        <p:grpSp>
          <p:nvGrpSpPr>
            <p:cNvPr id="657" name=""/>
            <p:cNvGrpSpPr/>
            <p:nvPr/>
          </p:nvGrpSpPr>
          <p:grpSpPr>
            <a:xfrm>
              <a:off x="5776920" y="4444920"/>
              <a:ext cx="1890720" cy="650880"/>
              <a:chOff x="5776920" y="4444920"/>
              <a:chExt cx="1890720" cy="650880"/>
            </a:xfrm>
          </p:grpSpPr>
          <p:sp>
            <p:nvSpPr>
              <p:cNvPr id="658" name=""/>
              <p:cNvSpPr/>
              <p:nvPr/>
            </p:nvSpPr>
            <p:spPr>
              <a:xfrm>
                <a:off x="5945040" y="4444920"/>
                <a:ext cx="1451160" cy="650880"/>
              </a:xfrm>
              <a:prstGeom prst="rect">
                <a:avLst/>
              </a:prstGeom>
              <a:gradFill rotWithShape="0">
                <a:gsLst>
                  <a:gs pos="0">
                    <a:srgbClr val="0f1d4a"/>
                  </a:gs>
                  <a:gs pos="50000">
                    <a:srgbClr val="3365fb"/>
                  </a:gs>
                  <a:gs pos="100000">
                    <a:srgbClr val="0f1d4a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76920" y="4451400"/>
                <a:ext cx="1890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 S_EM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41880" y="4749840"/>
                <a:ext cx="581040" cy="263520"/>
              </a:xfrm>
              <a:prstGeom prst="rect">
                <a:avLst/>
              </a:prstGeom>
              <a:gradFill rotWithShape="0">
                <a:gsLst>
                  <a:gs pos="0">
                    <a:srgbClr val="294845"/>
                  </a:gs>
                  <a:gs pos="50000">
                    <a:srgbClr val="8cf4ea"/>
                  </a:gs>
                  <a:gs pos="100000">
                    <a:srgbClr val="294845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732720" y="4749840"/>
                <a:ext cx="581040" cy="263520"/>
              </a:xfrm>
              <a:prstGeom prst="rect">
                <a:avLst/>
              </a:prstGeom>
              <a:gradFill rotWithShape="0">
                <a:gsLst>
                  <a:gs pos="0">
                    <a:srgbClr val="294845"/>
                  </a:gs>
                  <a:gs pos="50000">
                    <a:srgbClr val="8cf4ea"/>
                  </a:gs>
                  <a:gs pos="100000">
                    <a:srgbClr val="294845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53360" y="4784760"/>
                <a:ext cx="1155600" cy="2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loc B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762520" y="4782960"/>
              <a:ext cx="11559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oc B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pération UPDA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85800" y="1773360"/>
            <a:ext cx="6489720" cy="1482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025720" y="2257560"/>
            <a:ext cx="1415880" cy="809640"/>
            <a:chOff x="2025720" y="2257560"/>
            <a:chExt cx="1415880" cy="809640"/>
          </a:xfrm>
        </p:grpSpPr>
        <p:sp>
          <p:nvSpPr>
            <p:cNvPr id="671" name=""/>
            <p:cNvSpPr/>
            <p:nvPr/>
          </p:nvSpPr>
          <p:spPr>
            <a:xfrm>
              <a:off x="2025720" y="2257560"/>
              <a:ext cx="1415880" cy="809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03480" y="2498760"/>
              <a:ext cx="54936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17720" y="2498760"/>
              <a:ext cx="550800" cy="4683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90560" y="22575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97360" y="176832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02080" y="494496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Données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882960" y="2268360"/>
            <a:ext cx="1446120" cy="806760"/>
            <a:chOff x="3882960" y="2268360"/>
            <a:chExt cx="1446120" cy="806760"/>
          </a:xfrm>
        </p:grpSpPr>
        <p:sp>
          <p:nvSpPr>
            <p:cNvPr id="678" name=""/>
            <p:cNvSpPr/>
            <p:nvPr/>
          </p:nvSpPr>
          <p:spPr>
            <a:xfrm>
              <a:off x="3882960" y="2268360"/>
              <a:ext cx="1446120" cy="8067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2960" y="24703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82960" y="2671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82960" y="2873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9428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4016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784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3696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83200" y="2268360"/>
              <a:ext cx="0" cy="80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3559320" y="200664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46360" y="1984320"/>
            <a:ext cx="203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25920" y="3330720"/>
            <a:ext cx="20494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B2 Stock Clerk 10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68880" y="2757600"/>
            <a:ext cx="243000" cy="668160"/>
          </a:xfrm>
          <a:custGeom>
            <a:avLst/>
            <a:gdLst/>
            <a:ahLst/>
            <a:rect l="l" t="t" r="r" b="b"/>
            <a:pathLst>
              <a:path w="153" h="421">
                <a:moveTo>
                  <a:pt x="0" y="0"/>
                </a:moveTo>
                <a:lnTo>
                  <a:pt x="0" y="420"/>
                </a:lnTo>
                <a:lnTo>
                  <a:pt x="152" y="420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676600" y="3873600"/>
            <a:ext cx="1890720" cy="1082520"/>
            <a:chOff x="2676600" y="3873600"/>
            <a:chExt cx="1890720" cy="1082520"/>
          </a:xfrm>
        </p:grpSpPr>
        <p:grpSp>
          <p:nvGrpSpPr>
            <p:cNvPr id="692" name=""/>
            <p:cNvGrpSpPr/>
            <p:nvPr/>
          </p:nvGrpSpPr>
          <p:grpSpPr>
            <a:xfrm>
              <a:off x="2973240" y="3873600"/>
              <a:ext cx="1281240" cy="1082520"/>
              <a:chOff x="2973240" y="3873600"/>
              <a:chExt cx="1281240" cy="1082520"/>
            </a:xfrm>
          </p:grpSpPr>
          <p:sp>
            <p:nvSpPr>
              <p:cNvPr id="693" name=""/>
              <p:cNvSpPr/>
              <p:nvPr/>
            </p:nvSpPr>
            <p:spPr>
              <a:xfrm>
                <a:off x="2973240" y="4095720"/>
                <a:ext cx="1281240" cy="64620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50000">
                    <a:srgbClr val="b760f9"/>
                  </a:gs>
                  <a:gs pos="100000">
                    <a:srgbClr val="361c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3240" y="3873600"/>
                <a:ext cx="1281240" cy="412560"/>
              </a:xfrm>
              <a:prstGeom prst="ellipse">
                <a:avLst/>
              </a:prstGeom>
              <a:gradFill rotWithShape="0">
                <a:gsLst>
                  <a:gs pos="0">
                    <a:srgbClr val="361c49"/>
                  </a:gs>
                  <a:gs pos="50000">
                    <a:srgbClr val="b760f9"/>
                  </a:gs>
                  <a:gs pos="100000">
                    <a:srgbClr val="361c4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73240" y="4543560"/>
                <a:ext cx="1281240" cy="412560"/>
              </a:xfrm>
              <a:prstGeom prst="ellipse">
                <a:avLst/>
              </a:prstGeom>
              <a:gradFill rotWithShape="0">
                <a:gsLst>
                  <a:gs pos="0">
                    <a:srgbClr val="361c49"/>
                  </a:gs>
                  <a:gs pos="50000">
                    <a:srgbClr val="b760f9"/>
                  </a:gs>
                  <a:gs pos="100000">
                    <a:srgbClr val="361c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3051000" y="4348080"/>
              <a:ext cx="1065240" cy="47628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76600" y="4340160"/>
              <a:ext cx="189072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ble S_E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24080" y="4573440"/>
              <a:ext cx="424080" cy="19080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32040" y="4573440"/>
              <a:ext cx="424080" cy="19080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70240" y="4584600"/>
              <a:ext cx="1155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c 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63720" y="4584600"/>
              <a:ext cx="11559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c 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540320" y="2541600"/>
            <a:ext cx="107460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19280" y="3643200"/>
            <a:ext cx="1084320" cy="4431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06360" y="36860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43080" y="408780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8120" y="4592520"/>
            <a:ext cx="1081080" cy="47484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19320" y="4419720"/>
            <a:ext cx="18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008080" y="3285720"/>
            <a:ext cx="576360" cy="352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08000" y="5316480"/>
            <a:ext cx="3314880" cy="640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ELECT sal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FROM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WHERE id = 17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5440" y="3686040"/>
            <a:ext cx="1084320" cy="4431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91320" y="372888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99240" y="413064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64280" y="4635360"/>
            <a:ext cx="1081080" cy="47484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75480" y="47102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06920" y="3244680"/>
            <a:ext cx="1552680" cy="6210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03920" y="5275440"/>
            <a:ext cx="3227400" cy="640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UPDATE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SET salary = salary * 1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90520"/>
                <a:tab algn="l" pos="4557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Courier New"/>
              </a:rPr>
              <a:t>WHERE id = 17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87960" y="495792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Donnée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616280" y="3886200"/>
            <a:ext cx="1281240" cy="1082520"/>
            <a:chOff x="4616280" y="3886200"/>
            <a:chExt cx="1281240" cy="1082520"/>
          </a:xfrm>
        </p:grpSpPr>
        <p:sp>
          <p:nvSpPr>
            <p:cNvPr id="719" name=""/>
            <p:cNvSpPr/>
            <p:nvPr/>
          </p:nvSpPr>
          <p:spPr>
            <a:xfrm>
              <a:off x="4616280" y="4108320"/>
              <a:ext cx="1281240" cy="64620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16280" y="3886200"/>
              <a:ext cx="1281240" cy="41292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16280" y="4556160"/>
              <a:ext cx="1281240" cy="412560"/>
            </a:xfrm>
            <a:prstGeom prst="ellipse">
              <a:avLst/>
            </a:prstGeom>
            <a:gradFill rotWithShape="0">
              <a:gsLst>
                <a:gs pos="0">
                  <a:srgbClr val="361c49"/>
                </a:gs>
                <a:gs pos="50000">
                  <a:srgbClr val="b760f9"/>
                </a:gs>
                <a:gs pos="100000">
                  <a:srgbClr val="361c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694400" y="4361040"/>
            <a:ext cx="1114200" cy="475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64200" y="4352760"/>
            <a:ext cx="1890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S_EM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16360" y="4572000"/>
            <a:ext cx="513000" cy="18432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446880" y="2239920"/>
            <a:ext cx="1220760" cy="851040"/>
            <a:chOff x="6446880" y="2239920"/>
            <a:chExt cx="1220760" cy="851040"/>
          </a:xfrm>
        </p:grpSpPr>
        <p:sp>
          <p:nvSpPr>
            <p:cNvPr id="726" name=""/>
            <p:cNvSpPr/>
            <p:nvPr/>
          </p:nvSpPr>
          <p:spPr>
            <a:xfrm>
              <a:off x="6446880" y="2239920"/>
              <a:ext cx="1220760" cy="8510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54800" y="298116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54800" y="285264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50120" y="2241720"/>
              <a:ext cx="552240" cy="556920"/>
            </a:xfrm>
            <a:custGeom>
              <a:avLst/>
              <a:gdLst>
                <a:gd name="textAreaLeft" fmla="*/ 20160 w 552240"/>
                <a:gd name="textAreaRight" fmla="*/ 532080 w 552240"/>
                <a:gd name="textAreaTop" fmla="*/ 20160 h 556920"/>
                <a:gd name="textAreaBottom" fmla="*/ 536760 h 556920"/>
              </a:gdLst>
              <a:ahLst/>
              <a:rect l="textAreaLeft" t="textAreaTop" r="textAreaRight" b="textAreaBottom"/>
              <a:pathLst>
                <a:path w="21600" h="21783">
                  <a:moveTo>
                    <a:pt x="2699" y="0"/>
                  </a:moveTo>
                  <a:arcTo wR="2699" hR="2699" stAng="16200000" swAng="-5400000"/>
                  <a:lnTo>
                    <a:pt x="0" y="19084"/>
                  </a:lnTo>
                  <a:arcTo wR="2699" hR="2699" stAng="10800000" swAng="-5400000"/>
                  <a:lnTo>
                    <a:pt x="18901" y="2178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50120" y="247500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54800" y="272412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4800" y="260352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54800" y="235260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78680" y="2241720"/>
              <a:ext cx="0" cy="84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268960" y="4575240"/>
            <a:ext cx="498600" cy="18108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41720" y="4597560"/>
            <a:ext cx="1155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c B2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06760" y="4597560"/>
            <a:ext cx="1155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c B1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81640" y="2563920"/>
            <a:ext cx="1766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20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xn2 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ddr 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87960" y="1865160"/>
            <a:ext cx="204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rocess DBW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16080" y="1843200"/>
            <a:ext cx="6845400" cy="1962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398600" y="2373480"/>
            <a:ext cx="1859040" cy="1096920"/>
            <a:chOff x="1398600" y="2373480"/>
            <a:chExt cx="1859040" cy="1096920"/>
          </a:xfrm>
        </p:grpSpPr>
        <p:sp>
          <p:nvSpPr>
            <p:cNvPr id="747" name=""/>
            <p:cNvSpPr/>
            <p:nvPr/>
          </p:nvSpPr>
          <p:spPr>
            <a:xfrm>
              <a:off x="1398600" y="2373480"/>
              <a:ext cx="1859040" cy="1096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00120" y="2703600"/>
              <a:ext cx="722520" cy="6300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36840" y="2703600"/>
              <a:ext cx="723960" cy="63000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903240" y="190656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03720" y="1828800"/>
            <a:ext cx="28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52680" y="21636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01800" y="2330280"/>
            <a:ext cx="28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hared SQL 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425600" y="4422600"/>
            <a:ext cx="1084320" cy="4431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49400" y="4867200"/>
            <a:ext cx="0" cy="503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14440" y="5372280"/>
            <a:ext cx="1081080" cy="4744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1814400" y="3803760"/>
            <a:ext cx="658800" cy="614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27080" y="44528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039680" y="543384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4365720" y="5079960"/>
            <a:ext cx="722160" cy="434880"/>
            <a:chOff x="4365720" y="5079960"/>
            <a:chExt cx="722160" cy="434880"/>
          </a:xfrm>
        </p:grpSpPr>
        <p:sp>
          <p:nvSpPr>
            <p:cNvPr id="761" name=""/>
            <p:cNvSpPr/>
            <p:nvPr/>
          </p:nvSpPr>
          <p:spPr>
            <a:xfrm>
              <a:off x="4365720" y="5170320"/>
              <a:ext cx="722160" cy="2588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65720" y="5079960"/>
              <a:ext cx="722160" cy="166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65720" y="5348160"/>
              <a:ext cx="722160" cy="166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732120" y="5234040"/>
            <a:ext cx="722520" cy="434880"/>
            <a:chOff x="3732120" y="5234040"/>
            <a:chExt cx="722520" cy="434880"/>
          </a:xfrm>
        </p:grpSpPr>
        <p:sp>
          <p:nvSpPr>
            <p:cNvPr id="765" name=""/>
            <p:cNvSpPr/>
            <p:nvPr/>
          </p:nvSpPr>
          <p:spPr>
            <a:xfrm>
              <a:off x="3732120" y="5324400"/>
              <a:ext cx="722520" cy="2588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32120" y="523404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2120" y="550224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156200" y="5514840"/>
            <a:ext cx="93600" cy="101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92640" y="5452920"/>
            <a:ext cx="101520" cy="84240"/>
          </a:xfrm>
          <a:prstGeom prst="rect">
            <a:avLst/>
          </a:prstGeom>
          <a:solidFill>
            <a:srgbClr val="8cf4ea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59320" y="583740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51160" y="5411880"/>
            <a:ext cx="722520" cy="434880"/>
            <a:chOff x="4151160" y="5411880"/>
            <a:chExt cx="722520" cy="434880"/>
          </a:xfrm>
        </p:grpSpPr>
        <p:sp>
          <p:nvSpPr>
            <p:cNvPr id="772" name=""/>
            <p:cNvSpPr/>
            <p:nvPr/>
          </p:nvSpPr>
          <p:spPr>
            <a:xfrm>
              <a:off x="4151160" y="5502240"/>
              <a:ext cx="722520" cy="2588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51160" y="541188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51160" y="5680080"/>
              <a:ext cx="722520" cy="166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803760" y="4260960"/>
            <a:ext cx="914400" cy="32364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4238640" y="3651120"/>
            <a:ext cx="1440" cy="62388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55920" y="4605480"/>
            <a:ext cx="0" cy="6332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426564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2518920" y="4657320"/>
            <a:ext cx="1306440" cy="60948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816360" y="2581200"/>
            <a:ext cx="1914480" cy="854280"/>
            <a:chOff x="3816360" y="2581200"/>
            <a:chExt cx="1914480" cy="854280"/>
          </a:xfrm>
        </p:grpSpPr>
        <p:grpSp>
          <p:nvGrpSpPr>
            <p:cNvPr id="781" name=""/>
            <p:cNvGrpSpPr/>
            <p:nvPr/>
          </p:nvGrpSpPr>
          <p:grpSpPr>
            <a:xfrm>
              <a:off x="3816360" y="2581200"/>
              <a:ext cx="1914480" cy="854280"/>
              <a:chOff x="3816360" y="2581200"/>
              <a:chExt cx="1914480" cy="854280"/>
            </a:xfrm>
          </p:grpSpPr>
          <p:sp>
            <p:nvSpPr>
              <p:cNvPr id="782" name=""/>
              <p:cNvSpPr/>
              <p:nvPr/>
            </p:nvSpPr>
            <p:spPr>
              <a:xfrm>
                <a:off x="3822840" y="25876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21308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74012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7040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816360" y="2919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16360" y="31939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34484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021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943440" y="25858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7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989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07520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0548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32520" y="25891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65760" y="25812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213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64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16360" y="30495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16360" y="33256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816360" y="2800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16360" y="26906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828960" y="26924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35520" y="26924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53080" y="26971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38640" y="26956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76880" y="26956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49880" y="26956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81320" y="3054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99040" y="30574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751280" y="25970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46600" y="28051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10160" y="30574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349880" y="29210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48040" y="32004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33960" y="30528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9880" y="32050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78400" y="33256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38640" y="31971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75440" y="31957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78440" y="33307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49560" y="33386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18000" y="29289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03640" y="29257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13320" y="32018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746600" y="29257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71880" y="28051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00760" y="33256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br>
              <a:rPr sz="2800"/>
            </a:b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3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outes les Commandes SQL sont traitées par le process serveur, qui reçoit la demande directement à partir du process utili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étapes pour le traitement d’une commande SQL sont le Parse, l’Execute, et le Fetc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es commandes SQL identiques utilisent un exemplaire commun du plan d’exécution dans les zones de requêtes partagées de la shared poo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données lues, ou modifiées et non validées, sont gardées dans des blocs de données ou de rollback, dans les buffe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ommair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36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blocs de rollback gardent une image-avant, des données modifiées, dans un but de restaura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principale tâche du DBWR est d’écrire tous les buffers modifiés dans les fichier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1520" y="1707840"/>
            <a:ext cx="7296120" cy="39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numérer les étapes du traitement des requêtes SQ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pliquer le bénéfice de la zone de partage des ordres SQL d’Orac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pliquer la fonction et le contenu des buffe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a manière dont le serveur lit les données vers les buffers de la Base de Données (database buffer cache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gager le but du process Database Writer (DBWR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évènements qui amènent le Database Writer à faire son travai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tailler les différents rôles du Database Wri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29080" y="5208480"/>
            <a:ext cx="1068480" cy="5032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84400" y="4519440"/>
            <a:ext cx="1044720" cy="5050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6440" y="5056200"/>
            <a:ext cx="1068480" cy="50328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8120" y="1463760"/>
            <a:ext cx="31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81d5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1d58"/>
                </a:solidFill>
                <a:latin typeface="Times New Roman"/>
              </a:rPr>
              <a:t>System Global Area (SG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60640" y="1878120"/>
            <a:ext cx="6845040" cy="196200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7800" y="194148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26000" y="19638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do Log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0240" y="1963800"/>
            <a:ext cx="28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1120" y="2340000"/>
            <a:ext cx="1413000" cy="128916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81400" y="2479680"/>
            <a:ext cx="438120" cy="957240"/>
          </a:xfrm>
          <a:custGeom>
            <a:avLst/>
            <a:gdLst>
              <a:gd name="textAreaLeft" fmla="*/ 15840 w 438120"/>
              <a:gd name="textAreaRight" fmla="*/ 422280 w 438120"/>
              <a:gd name="textAreaTop" fmla="*/ 15840 h 957240"/>
              <a:gd name="textAreaBottom" fmla="*/ 941400 h 957240"/>
            </a:gdLst>
            <a:ahLst/>
            <a:rect l="textAreaLeft" t="textAreaTop" r="textAreaRight" b="textAreaBottom"/>
            <a:pathLst>
              <a:path w="21600" h="47172">
                <a:moveTo>
                  <a:pt x="2699" y="0"/>
                </a:moveTo>
                <a:arcTo wR="2699" hR="2699" stAng="16200000" swAng="-5400000"/>
                <a:lnTo>
                  <a:pt x="0" y="44473"/>
                </a:lnTo>
                <a:arcTo wR="2699" hR="2699" stAng="10800000" swAng="-5400000"/>
                <a:lnTo>
                  <a:pt x="18901" y="4717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17560" y="2681280"/>
            <a:ext cx="486000" cy="620640"/>
            <a:chOff x="1717560" y="2681280"/>
            <a:chExt cx="486000" cy="620640"/>
          </a:xfrm>
        </p:grpSpPr>
        <p:sp>
          <p:nvSpPr>
            <p:cNvPr id="104" name=""/>
            <p:cNvSpPr/>
            <p:nvPr/>
          </p:nvSpPr>
          <p:spPr>
            <a:xfrm>
              <a:off x="1749600" y="2681280"/>
              <a:ext cx="824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4480" y="284652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7560" y="2970360"/>
              <a:ext cx="8280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5880" y="3094200"/>
              <a:ext cx="8244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90640" y="321948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0760" y="2970360"/>
              <a:ext cx="82800" cy="83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0760" y="2681280"/>
              <a:ext cx="82800" cy="82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99640" y="3875040"/>
            <a:ext cx="1131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4840" y="3213000"/>
            <a:ext cx="115920" cy="804960"/>
          </a:xfrm>
          <a:custGeom>
            <a:avLst/>
            <a:gdLst/>
            <a:ahLst/>
            <a:rect l="l" t="t" r="r" b="b"/>
            <a:pathLst>
              <a:path w="73" h="507">
                <a:moveTo>
                  <a:pt x="72" y="0"/>
                </a:moveTo>
                <a:lnTo>
                  <a:pt x="72" y="506"/>
                </a:lnTo>
                <a:lnTo>
                  <a:pt x="0" y="506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15000" y="4738680"/>
            <a:ext cx="722520" cy="434880"/>
            <a:chOff x="6615000" y="4738680"/>
            <a:chExt cx="722520" cy="434880"/>
          </a:xfrm>
        </p:grpSpPr>
        <p:grpSp>
          <p:nvGrpSpPr>
            <p:cNvPr id="114" name=""/>
            <p:cNvGrpSpPr/>
            <p:nvPr/>
          </p:nvGrpSpPr>
          <p:grpSpPr>
            <a:xfrm>
              <a:off x="6615000" y="4738680"/>
              <a:ext cx="722520" cy="434880"/>
              <a:chOff x="6615000" y="4738680"/>
              <a:chExt cx="722520" cy="434880"/>
            </a:xfrm>
          </p:grpSpPr>
          <p:sp>
            <p:nvSpPr>
              <p:cNvPr id="115" name=""/>
              <p:cNvSpPr/>
              <p:nvPr/>
            </p:nvSpPr>
            <p:spPr>
              <a:xfrm>
                <a:off x="6615000" y="4829040"/>
                <a:ext cx="722520" cy="25884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15000" y="4738680"/>
                <a:ext cx="722520" cy="166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15000" y="5006880"/>
                <a:ext cx="722520" cy="1666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651720" y="4919760"/>
              <a:ext cx="9036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9440" y="4962600"/>
              <a:ext cx="146160" cy="6516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9080" y="5059440"/>
              <a:ext cx="90360" cy="6192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39080" y="5019840"/>
              <a:ext cx="9360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5520" y="4957920"/>
              <a:ext cx="10152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981760" y="4892760"/>
            <a:ext cx="722160" cy="434880"/>
            <a:chOff x="5981760" y="4892760"/>
            <a:chExt cx="722160" cy="434880"/>
          </a:xfrm>
        </p:grpSpPr>
        <p:grpSp>
          <p:nvGrpSpPr>
            <p:cNvPr id="124" name=""/>
            <p:cNvGrpSpPr/>
            <p:nvPr/>
          </p:nvGrpSpPr>
          <p:grpSpPr>
            <a:xfrm>
              <a:off x="5981760" y="4892760"/>
              <a:ext cx="722160" cy="434880"/>
              <a:chOff x="5981760" y="4892760"/>
              <a:chExt cx="722160" cy="434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981760" y="4983120"/>
                <a:ext cx="722160" cy="25884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81760" y="489276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81760" y="516096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18120" y="5073480"/>
              <a:ext cx="907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6200" y="5116680"/>
              <a:ext cx="146160" cy="64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5840" y="5213520"/>
              <a:ext cx="90360" cy="6192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5480" y="5173560"/>
              <a:ext cx="9360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41920" y="5111640"/>
              <a:ext cx="10188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864400" y="5495760"/>
            <a:ext cx="1890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400800" y="5070600"/>
            <a:ext cx="722160" cy="434880"/>
            <a:chOff x="6400800" y="5070600"/>
            <a:chExt cx="722160" cy="434880"/>
          </a:xfrm>
        </p:grpSpPr>
        <p:grpSp>
          <p:nvGrpSpPr>
            <p:cNvPr id="135" name=""/>
            <p:cNvGrpSpPr/>
            <p:nvPr/>
          </p:nvGrpSpPr>
          <p:grpSpPr>
            <a:xfrm>
              <a:off x="6400800" y="5070600"/>
              <a:ext cx="722160" cy="434880"/>
              <a:chOff x="6400800" y="5070600"/>
              <a:chExt cx="722160" cy="434880"/>
            </a:xfrm>
          </p:grpSpPr>
          <p:sp>
            <p:nvSpPr>
              <p:cNvPr id="136" name=""/>
              <p:cNvSpPr/>
              <p:nvPr/>
            </p:nvSpPr>
            <p:spPr>
              <a:xfrm>
                <a:off x="6400800" y="5160960"/>
                <a:ext cx="722160" cy="25884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00800" y="507060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00800" y="5338800"/>
                <a:ext cx="722160" cy="1666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437160" y="5251320"/>
              <a:ext cx="907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45240" y="5294160"/>
              <a:ext cx="146160" cy="6516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4880" y="5391000"/>
              <a:ext cx="90360" cy="6192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4520" y="5351400"/>
              <a:ext cx="939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61320" y="5289480"/>
              <a:ext cx="10152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32120" y="4394160"/>
            <a:ext cx="1044360" cy="50472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6600" y="4467240"/>
            <a:ext cx="18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3857760"/>
            <a:ext cx="0" cy="531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4168800"/>
            <a:ext cx="914400" cy="32400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8920" y="418140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68560" y="5143680"/>
            <a:ext cx="18907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1400" y="4525920"/>
            <a:ext cx="2954520" cy="534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8640" y="3849840"/>
            <a:ext cx="0" cy="3333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73200" y="4911840"/>
            <a:ext cx="885960" cy="473040"/>
          </a:xfrm>
          <a:custGeom>
            <a:avLst/>
            <a:gdLst/>
            <a:ahLst/>
            <a:rect l="l" t="t" r="r" b="b"/>
            <a:pathLst>
              <a:path w="558" h="298">
                <a:moveTo>
                  <a:pt x="0" y="0"/>
                </a:moveTo>
                <a:lnTo>
                  <a:pt x="0" y="297"/>
                </a:lnTo>
                <a:lnTo>
                  <a:pt x="557" y="297"/>
                </a:lnTo>
              </a:path>
            </a:pathLst>
          </a:custGeom>
          <a:noFill/>
          <a:ln cap="rnd" w="12600">
            <a:solidFill>
              <a:srgbClr val="ffba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6280" y="4513320"/>
            <a:ext cx="0" cy="3873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720960" y="2481120"/>
            <a:ext cx="1914840" cy="854280"/>
            <a:chOff x="3720960" y="2481120"/>
            <a:chExt cx="1914840" cy="854280"/>
          </a:xfrm>
        </p:grpSpPr>
        <p:grpSp>
          <p:nvGrpSpPr>
            <p:cNvPr id="155" name=""/>
            <p:cNvGrpSpPr/>
            <p:nvPr/>
          </p:nvGrpSpPr>
          <p:grpSpPr>
            <a:xfrm>
              <a:off x="3720960" y="2481120"/>
              <a:ext cx="1914840" cy="854280"/>
              <a:chOff x="3720960" y="2481120"/>
              <a:chExt cx="1914840" cy="854280"/>
            </a:xfrm>
          </p:grpSpPr>
          <p:sp>
            <p:nvSpPr>
              <p:cNvPr id="156" name=""/>
              <p:cNvSpPr/>
              <p:nvPr/>
            </p:nvSpPr>
            <p:spPr>
              <a:xfrm>
                <a:off x="3727440" y="2487600"/>
                <a:ext cx="190188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8040" y="248112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45080" y="248112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75360" y="248112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20960" y="281952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20960" y="309420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4980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071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48040" y="2486160"/>
                <a:ext cx="0" cy="83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783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39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79800" y="248904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10080" y="248904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37120" y="248904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70360" y="248112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259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48320" y="2486160"/>
                <a:ext cx="0" cy="84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20960" y="294948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20960" y="322596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20960" y="270036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20960" y="2590920"/>
                <a:ext cx="1914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733920" y="2592360"/>
              <a:ext cx="11736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40120" y="259236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7680" y="259704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43600" y="2595600"/>
              <a:ext cx="12672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2595600"/>
              <a:ext cx="122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4480" y="2595600"/>
              <a:ext cx="1270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86280" y="2954160"/>
              <a:ext cx="131760" cy="13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3640" y="295740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56240" y="2496960"/>
              <a:ext cx="9504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51200" y="270504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4760" y="295740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54480" y="282096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53000" y="3100320"/>
              <a:ext cx="10476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38560" y="295272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54480" y="310500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83000" y="3225960"/>
              <a:ext cx="12240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43600" y="309708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0040" y="309564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3040" y="323064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54520" y="323856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22960" y="2828880"/>
              <a:ext cx="9216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08600" y="282564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18280" y="3102120"/>
              <a:ext cx="96840" cy="109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1200" y="282564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6840" y="2705040"/>
              <a:ext cx="122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05360" y="3225960"/>
              <a:ext cx="12708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411960" y="2414520"/>
            <a:ext cx="1220760" cy="988920"/>
            <a:chOff x="6411960" y="2414520"/>
            <a:chExt cx="1220760" cy="988920"/>
          </a:xfrm>
        </p:grpSpPr>
        <p:sp>
          <p:nvSpPr>
            <p:cNvPr id="204" name=""/>
            <p:cNvSpPr/>
            <p:nvPr/>
          </p:nvSpPr>
          <p:spPr>
            <a:xfrm>
              <a:off x="6411960" y="2414520"/>
              <a:ext cx="122076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19880" y="327492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19880" y="312588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5200" y="2417760"/>
              <a:ext cx="552240" cy="646200"/>
            </a:xfrm>
            <a:custGeom>
              <a:avLst/>
              <a:gdLst>
                <a:gd name="textAreaLeft" fmla="*/ 20160 w 552240"/>
                <a:gd name="textAreaRight" fmla="*/ 532080 w 55224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73">
                  <a:moveTo>
                    <a:pt x="2699" y="0"/>
                  </a:moveTo>
                  <a:arcTo wR="2699" hR="2699" stAng="16200000" swAng="-5400000"/>
                  <a:lnTo>
                    <a:pt x="0" y="22574"/>
                  </a:lnTo>
                  <a:arcTo wR="2699" hR="2699" stAng="10800000" swAng="-5400000"/>
                  <a:lnTo>
                    <a:pt x="18901" y="2527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15200" y="268776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9880" y="297648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19880" y="283680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19880" y="2546280"/>
              <a:ext cx="12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43760" y="241776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uffers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71800" y="1523880"/>
            <a:ext cx="3124080" cy="1828800"/>
            <a:chOff x="2971800" y="1523880"/>
            <a:chExt cx="3124080" cy="1828800"/>
          </a:xfrm>
        </p:grpSpPr>
        <p:sp>
          <p:nvSpPr>
            <p:cNvPr id="219" name=""/>
            <p:cNvSpPr/>
            <p:nvPr/>
          </p:nvSpPr>
          <p:spPr>
            <a:xfrm>
              <a:off x="2971800" y="1523880"/>
              <a:ext cx="3124080" cy="18288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19bdad"/>
                </a:gs>
                <a:gs pos="50000">
                  <a:srgbClr val="00b7a5"/>
                </a:gs>
                <a:gs pos="100000">
                  <a:srgbClr val="19bdad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1800" y="19810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1800" y="24382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1800" y="2895480"/>
              <a:ext cx="3124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252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2720" y="1523880"/>
              <a:ext cx="0" cy="18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35480" y="1530360"/>
            <a:ext cx="5205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35480" y="2444760"/>
            <a:ext cx="52056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8640" y="1987560"/>
            <a:ext cx="520920" cy="44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8640" y="2444760"/>
            <a:ext cx="520920" cy="444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35680" y="1530360"/>
            <a:ext cx="520560" cy="444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8840" y="2444760"/>
            <a:ext cx="520920" cy="444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5480" y="2901960"/>
            <a:ext cx="520560" cy="444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2160" y="1530360"/>
            <a:ext cx="520560" cy="444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35680" y="1987560"/>
            <a:ext cx="520560" cy="444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02160" y="2901960"/>
            <a:ext cx="520560" cy="444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14880" y="5167440"/>
            <a:ext cx="520560" cy="444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14880" y="4549680"/>
            <a:ext cx="520560" cy="444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21560" y="4624560"/>
            <a:ext cx="285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buffers de blocs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53600" y="5213520"/>
            <a:ext cx="210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buffers de Rollb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58920" y="3824280"/>
            <a:ext cx="1378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Image-aprè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86360" y="3865680"/>
            <a:ext cx="1766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Image-av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0160" y="3346560"/>
            <a:ext cx="222120" cy="608040"/>
          </a:xfrm>
          <a:custGeom>
            <a:avLst/>
            <a:gdLst/>
            <a:ahLst/>
            <a:rect l="l" t="t" r="r" b="b"/>
            <a:pathLst>
              <a:path w="140" h="383">
                <a:moveTo>
                  <a:pt x="139" y="0"/>
                </a:moveTo>
                <a:lnTo>
                  <a:pt x="139" y="382"/>
                </a:lnTo>
                <a:lnTo>
                  <a:pt x="0" y="382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65680" y="3348000"/>
            <a:ext cx="243000" cy="635040"/>
          </a:xfrm>
          <a:custGeom>
            <a:avLst/>
            <a:gdLst/>
            <a:ahLst/>
            <a:rect l="l" t="t" r="r" b="b"/>
            <a:pathLst>
              <a:path w="153" h="400">
                <a:moveTo>
                  <a:pt x="0" y="0"/>
                </a:moveTo>
                <a:lnTo>
                  <a:pt x="0" y="399"/>
                </a:lnTo>
                <a:lnTo>
                  <a:pt x="152" y="399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3040" y="2155680"/>
            <a:ext cx="3762360" cy="342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uffers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0280" y="1757520"/>
            <a:ext cx="11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LRU L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3160" y="2612880"/>
            <a:ext cx="493560" cy="49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9680" y="2612880"/>
            <a:ext cx="493560" cy="493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4400" y="2612880"/>
            <a:ext cx="493560" cy="493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17880" y="3622680"/>
            <a:ext cx="493920" cy="49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24400" y="3622680"/>
            <a:ext cx="493560" cy="493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29120" y="3622680"/>
            <a:ext cx="493920" cy="493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13160" y="3624120"/>
            <a:ext cx="493560" cy="493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6480" y="4692600"/>
            <a:ext cx="493560" cy="493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3000" y="4692600"/>
            <a:ext cx="493560" cy="493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13160" y="4692600"/>
            <a:ext cx="493560" cy="493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11760" y="4692600"/>
            <a:ext cx="493560" cy="493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15880" y="3983040"/>
            <a:ext cx="119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MRU 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8160" y="3981600"/>
            <a:ext cx="11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LRU 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406680" y="4546080"/>
            <a:ext cx="1552680" cy="180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06680" y="2467080"/>
            <a:ext cx="741600" cy="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406680" y="3487320"/>
            <a:ext cx="1200240" cy="324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Demandes Utilisateu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91720" y="5567400"/>
            <a:ext cx="208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Requête Utilisat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36580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68720" y="3795840"/>
            <a:ext cx="131148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6440" y="364320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27360" y="3770280"/>
            <a:ext cx="18907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6680" y="307188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21120" y="521352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27360" y="534348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0640" y="3954600"/>
            <a:ext cx="933480" cy="0"/>
          </a:xfrm>
          <a:prstGeom prst="line">
            <a:avLst/>
          </a:prstGeom>
          <a:ln w="2556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438800"/>
            <a:ext cx="0" cy="77292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70480" y="5742000"/>
            <a:ext cx="941400" cy="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28800" y="3457440"/>
            <a:ext cx="2360520" cy="9525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8f1ee1"/>
              </a:gs>
              <a:gs pos="100000">
                <a:srgbClr val="63149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39760" y="3716280"/>
            <a:ext cx="704880" cy="56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89320" y="3730680"/>
            <a:ext cx="704880" cy="568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19640"/>
            <a:ext cx="75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3794040"/>
            <a:ext cx="12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tac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27160" y="3733920"/>
            <a:ext cx="1398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19120" y="1749600"/>
            <a:ext cx="6326280" cy="1280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65360" y="2139840"/>
            <a:ext cx="1539720" cy="684360"/>
            <a:chOff x="1665360" y="2139840"/>
            <a:chExt cx="1539720" cy="684360"/>
          </a:xfrm>
        </p:grpSpPr>
        <p:sp>
          <p:nvSpPr>
            <p:cNvPr id="293" name=""/>
            <p:cNvSpPr/>
            <p:nvPr/>
          </p:nvSpPr>
          <p:spPr>
            <a:xfrm>
              <a:off x="1665360" y="2139840"/>
              <a:ext cx="1539720" cy="6843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2200" y="2309760"/>
              <a:ext cx="6001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4600" y="2309760"/>
              <a:ext cx="598320" cy="39528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602160" y="1752480"/>
            <a:ext cx="185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763800" y="2133720"/>
            <a:ext cx="1668600" cy="744480"/>
            <a:chOff x="3763800" y="2133720"/>
            <a:chExt cx="1668600" cy="744480"/>
          </a:xfrm>
        </p:grpSpPr>
        <p:grpSp>
          <p:nvGrpSpPr>
            <p:cNvPr id="298" name=""/>
            <p:cNvGrpSpPr/>
            <p:nvPr/>
          </p:nvGrpSpPr>
          <p:grpSpPr>
            <a:xfrm>
              <a:off x="3763800" y="2133720"/>
              <a:ext cx="1668600" cy="744480"/>
              <a:chOff x="3763800" y="2133720"/>
              <a:chExt cx="1668600" cy="744480"/>
            </a:xfrm>
          </p:grpSpPr>
          <p:sp>
            <p:nvSpPr>
              <p:cNvPr id="299" name=""/>
              <p:cNvSpPr/>
              <p:nvPr/>
            </p:nvSpPr>
            <p:spPr>
              <a:xfrm>
                <a:off x="3770280" y="2139840"/>
                <a:ext cx="1655640" cy="73188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10120" y="2133720"/>
                <a:ext cx="0" cy="74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68760" y="2133720"/>
                <a:ext cx="0" cy="74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30640" y="2133720"/>
                <a:ext cx="0" cy="744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63800" y="242892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3800" y="266688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424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4512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75040" y="2138400"/>
                <a:ext cx="0" cy="72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3692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9592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89520" y="2141640"/>
                <a:ext cx="0" cy="72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52840" y="2141640"/>
                <a:ext cx="0" cy="72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10040" y="2141640"/>
                <a:ext cx="0" cy="733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78200" y="2133720"/>
                <a:ext cx="0" cy="73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4844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356080" y="2138400"/>
                <a:ext cx="0" cy="73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63800" y="254160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63800" y="278280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63800" y="232416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63800" y="2228760"/>
                <a:ext cx="166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3776760" y="2230560"/>
              <a:ext cx="10152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67120" y="2230560"/>
              <a:ext cx="1159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64000" y="2233440"/>
              <a:ext cx="55800" cy="860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16520" y="2233440"/>
              <a:ext cx="10944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37120" y="2233440"/>
              <a:ext cx="10476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29280" y="2233440"/>
              <a:ext cx="11088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94200" y="2546280"/>
              <a:ext cx="1159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97160" y="2548080"/>
              <a:ext cx="1224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8480" y="2147760"/>
              <a:ext cx="83880" cy="69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73440" y="2328840"/>
              <a:ext cx="93960" cy="87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56080" y="2548080"/>
              <a:ext cx="104760" cy="1094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29280" y="2430360"/>
              <a:ext cx="1015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5240" y="2673360"/>
              <a:ext cx="921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11840" y="2544840"/>
              <a:ext cx="11412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29280" y="2678040"/>
              <a:ext cx="95040" cy="921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1960" y="2782800"/>
              <a:ext cx="1062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16520" y="2670120"/>
              <a:ext cx="1173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5680" y="2668680"/>
              <a:ext cx="1047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92400" y="2787480"/>
              <a:ext cx="111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81520" y="2792520"/>
              <a:ext cx="93600" cy="712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60960" y="2435400"/>
              <a:ext cx="79200" cy="936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99160" y="2435400"/>
              <a:ext cx="104760" cy="96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56280" y="2674800"/>
              <a:ext cx="8388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3440" y="2435400"/>
              <a:ext cx="10008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3240" y="2328840"/>
              <a:ext cx="10800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95920" y="2782800"/>
              <a:ext cx="110880" cy="8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27800" y="2021040"/>
            <a:ext cx="1062000" cy="858600"/>
            <a:chOff x="6427800" y="2021040"/>
            <a:chExt cx="1062000" cy="858600"/>
          </a:xfrm>
        </p:grpSpPr>
        <p:sp>
          <p:nvSpPr>
            <p:cNvPr id="347" name=""/>
            <p:cNvSpPr/>
            <p:nvPr/>
          </p:nvSpPr>
          <p:spPr>
            <a:xfrm>
              <a:off x="6427800" y="2021040"/>
              <a:ext cx="1062000" cy="858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35720" y="276876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35720" y="263844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31040" y="2023920"/>
              <a:ext cx="479520" cy="561960"/>
            </a:xfrm>
            <a:custGeom>
              <a:avLst/>
              <a:gdLst>
                <a:gd name="textAreaLeft" fmla="*/ 17280 w 479520"/>
                <a:gd name="textAreaRight" fmla="*/ 462240 w 479520"/>
                <a:gd name="textAreaTop" fmla="*/ 17280 h 561960"/>
                <a:gd name="textAreaBottom" fmla="*/ 544680 h 561960"/>
              </a:gdLst>
              <a:ahLst/>
              <a:rect l="textAreaLeft" t="textAreaTop" r="textAreaRight" b="textAreaBottom"/>
              <a:pathLst>
                <a:path w="21600" h="25311">
                  <a:moveTo>
                    <a:pt x="2699" y="0"/>
                  </a:moveTo>
                  <a:arcTo wR="2699" hR="2699" stAng="16200000" swAng="-5400000"/>
                  <a:lnTo>
                    <a:pt x="0" y="22612"/>
                  </a:lnTo>
                  <a:arcTo wR="2699" hR="2699" stAng="10800000" swAng="-5400000"/>
                  <a:lnTo>
                    <a:pt x="18901" y="2531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31040" y="2257560"/>
              <a:ext cx="1050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35720" y="250812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35720" y="238752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35720" y="2135160"/>
              <a:ext cx="10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77160" y="2023920"/>
              <a:ext cx="0" cy="84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onfiguration de la PGA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4080" y="1782720"/>
            <a:ext cx="7010280" cy="2665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03080" y="1816200"/>
            <a:ext cx="204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0000" y="2270160"/>
            <a:ext cx="6267240" cy="18763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8f1ee1"/>
              </a:gs>
              <a:gs pos="100000">
                <a:srgbClr val="63149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3040" y="2403360"/>
            <a:ext cx="1811160" cy="14623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00720" y="2405160"/>
            <a:ext cx="1811160" cy="146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25960" y="3022560"/>
            <a:ext cx="10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81240" y="2827440"/>
            <a:ext cx="1254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11680" y="2773440"/>
            <a:ext cx="1487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Etape 1: Pars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94200" y="5475240"/>
            <a:ext cx="43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SQL&gt; SELECT first_name FROM s_e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76440" y="1689120"/>
            <a:ext cx="6202440" cy="16034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63600" y="175248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3600" y="199548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6920" y="2151000"/>
            <a:ext cx="1157400" cy="97488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0760" y="2220840"/>
            <a:ext cx="328680" cy="808200"/>
          </a:xfrm>
          <a:custGeom>
            <a:avLst/>
            <a:gdLst>
              <a:gd name="textAreaLeft" fmla="*/ 11880 w 328680"/>
              <a:gd name="textAreaRight" fmla="*/ 316800 w 328680"/>
              <a:gd name="textAreaTop" fmla="*/ 11880 h 808200"/>
              <a:gd name="textAreaBottom" fmla="*/ 796320 h 808200"/>
            </a:gdLst>
            <a:ahLst/>
            <a:rect l="textAreaLeft" t="textAreaTop" r="textAreaRight" b="textAreaBottom"/>
            <a:pathLst>
              <a:path w="21600" h="53078">
                <a:moveTo>
                  <a:pt x="2699" y="0"/>
                </a:moveTo>
                <a:arcTo wR="2699" hR="2699" stAng="16200000" swAng="-5400000"/>
                <a:lnTo>
                  <a:pt x="0" y="50379"/>
                </a:lnTo>
                <a:arcTo wR="2699" hR="2699" stAng="10800000" swAng="-5400000"/>
                <a:lnTo>
                  <a:pt x="18901" y="53078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065320" y="2313000"/>
            <a:ext cx="485640" cy="620640"/>
            <a:chOff x="2065320" y="2313000"/>
            <a:chExt cx="485640" cy="620640"/>
          </a:xfrm>
        </p:grpSpPr>
        <p:sp>
          <p:nvSpPr>
            <p:cNvPr id="381" name=""/>
            <p:cNvSpPr/>
            <p:nvPr/>
          </p:nvSpPr>
          <p:spPr>
            <a:xfrm>
              <a:off x="2097000" y="2313000"/>
              <a:ext cx="8280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62240" y="247824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65320" y="2602080"/>
              <a:ext cx="82440" cy="8388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03640" y="272556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8400" y="285120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68520" y="2602080"/>
              <a:ext cx="82440" cy="838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68520" y="2313000"/>
              <a:ext cx="82440" cy="82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301040" y="3348000"/>
            <a:ext cx="1131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94000" y="2776680"/>
            <a:ext cx="115920" cy="723600"/>
          </a:xfrm>
          <a:custGeom>
            <a:avLst/>
            <a:gdLst/>
            <a:ahLst/>
            <a:rect l="l" t="t" r="r" b="b"/>
            <a:pathLst>
              <a:path w="73" h="456">
                <a:moveTo>
                  <a:pt x="72" y="0"/>
                </a:moveTo>
                <a:lnTo>
                  <a:pt x="72" y="455"/>
                </a:lnTo>
                <a:lnTo>
                  <a:pt x="0" y="455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08360" y="169056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46280" y="530856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41600" y="405756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89320" y="390528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27240" y="4017960"/>
            <a:ext cx="18907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331956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94000" y="515628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14640" y="52592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040200" y="4543560"/>
            <a:ext cx="0" cy="59832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060800" y="2325600"/>
            <a:ext cx="1914480" cy="854280"/>
            <a:chOff x="4060800" y="2325600"/>
            <a:chExt cx="1914480" cy="854280"/>
          </a:xfrm>
        </p:grpSpPr>
        <p:grpSp>
          <p:nvGrpSpPr>
            <p:cNvPr id="400" name=""/>
            <p:cNvGrpSpPr/>
            <p:nvPr/>
          </p:nvGrpSpPr>
          <p:grpSpPr>
            <a:xfrm>
              <a:off x="4060800" y="2325600"/>
              <a:ext cx="1914480" cy="854280"/>
              <a:chOff x="4060800" y="2325600"/>
              <a:chExt cx="1914480" cy="854280"/>
            </a:xfrm>
          </p:grpSpPr>
          <p:sp>
            <p:nvSpPr>
              <p:cNvPr id="401" name=""/>
              <p:cNvSpPr/>
              <p:nvPr/>
            </p:nvSpPr>
            <p:spPr>
              <a:xfrm>
                <a:off x="4067280" y="2332080"/>
                <a:ext cx="190188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57880" y="23256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84920" y="23256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14840" y="23256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60800" y="26640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60800" y="29383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8964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4660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187880" y="23302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1816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4340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19640" y="23335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49920" y="23335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376960" y="23335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10200" y="23256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6576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88160" y="23302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60800" y="27939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60800" y="30700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60800" y="25448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60800" y="24354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073400" y="24368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79960" y="24368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97520" y="24415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83080" y="24400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21320" y="2440080"/>
              <a:ext cx="122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94320" y="2440080"/>
              <a:ext cx="1270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5760" y="2798640"/>
              <a:ext cx="1321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43480" y="28018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95720" y="23414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91040" y="25495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54600" y="28018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94320" y="26654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92840" y="2944800"/>
              <a:ext cx="10476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78400" y="27972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94320" y="29494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2840" y="30700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29415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19880" y="29401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2880" y="30751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94000" y="30830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62440" y="26733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48440" y="2670120"/>
              <a:ext cx="11880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7760" y="29462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91040" y="26701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16680" y="2549520"/>
              <a:ext cx="12204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45200" y="3070080"/>
              <a:ext cx="12708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Etape 2: Execu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76440" y="1765440"/>
            <a:ext cx="6202440" cy="16030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3600" y="18288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hared 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03600" y="2071800"/>
            <a:ext cx="288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abase Buffer C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96920" y="2227320"/>
            <a:ext cx="1157400" cy="974520"/>
          </a:xfrm>
          <a:prstGeom prst="roundRect">
            <a:avLst>
              <a:gd name="adj" fmla="val 30500"/>
            </a:avLst>
          </a:prstGeom>
          <a:gradFill rotWithShape="0">
            <a:gsLst>
              <a:gs pos="0">
                <a:srgbClr val="007f72"/>
              </a:gs>
              <a:gs pos="50000">
                <a:srgbClr val="00b7a5"/>
              </a:gs>
              <a:gs pos="100000">
                <a:srgbClr val="007f7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0760" y="2297160"/>
            <a:ext cx="328680" cy="807840"/>
          </a:xfrm>
          <a:custGeom>
            <a:avLst/>
            <a:gdLst>
              <a:gd name="textAreaLeft" fmla="*/ 11880 w 328680"/>
              <a:gd name="textAreaRight" fmla="*/ 316800 w 328680"/>
              <a:gd name="textAreaTop" fmla="*/ 11880 h 807840"/>
              <a:gd name="textAreaBottom" fmla="*/ 795960 h 807840"/>
            </a:gdLst>
            <a:ahLst/>
            <a:rect l="textAreaLeft" t="textAreaTop" r="textAreaRight" b="textAreaBottom"/>
            <a:pathLst>
              <a:path w="21600" h="53055">
                <a:moveTo>
                  <a:pt x="2699" y="0"/>
                </a:moveTo>
                <a:arcTo wR="2699" hR="2699" stAng="16200000" swAng="-5400000"/>
                <a:lnTo>
                  <a:pt x="0" y="50356"/>
                </a:lnTo>
                <a:arcTo wR="2699" hR="2699" stAng="10800000" swAng="-5400000"/>
                <a:lnTo>
                  <a:pt x="18901" y="5305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2389320"/>
            <a:ext cx="485640" cy="620640"/>
            <a:chOff x="2065320" y="2389320"/>
            <a:chExt cx="485640" cy="620640"/>
          </a:xfrm>
        </p:grpSpPr>
        <p:sp>
          <p:nvSpPr>
            <p:cNvPr id="459" name=""/>
            <p:cNvSpPr/>
            <p:nvPr/>
          </p:nvSpPr>
          <p:spPr>
            <a:xfrm>
              <a:off x="2097000" y="2389320"/>
              <a:ext cx="8280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62240" y="2554200"/>
              <a:ext cx="82440" cy="8280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65320" y="267804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03640" y="2801880"/>
              <a:ext cx="82440" cy="842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8400" y="2927520"/>
              <a:ext cx="82440" cy="82440"/>
            </a:xfrm>
            <a:prstGeom prst="rect">
              <a:avLst/>
            </a:prstGeom>
            <a:solidFill>
              <a:srgbClr val="8f1e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68520" y="2678040"/>
              <a:ext cx="82440" cy="842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68520" y="2389320"/>
              <a:ext cx="82440" cy="82440"/>
            </a:xfrm>
            <a:prstGeom prst="rect">
              <a:avLst/>
            </a:prstGeom>
            <a:solidFill>
              <a:srgbClr val="8cf4ea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301040" y="3424320"/>
            <a:ext cx="1131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hared SQL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re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94000" y="2852640"/>
            <a:ext cx="115920" cy="723960"/>
          </a:xfrm>
          <a:custGeom>
            <a:avLst/>
            <a:gdLst/>
            <a:ahLst/>
            <a:rect l="l" t="t" r="r" b="b"/>
            <a:pathLst>
              <a:path w="73" h="456">
                <a:moveTo>
                  <a:pt x="72" y="0"/>
                </a:moveTo>
                <a:lnTo>
                  <a:pt x="72" y="455"/>
                </a:lnTo>
                <a:lnTo>
                  <a:pt x="0" y="455"/>
                </a:lnTo>
              </a:path>
            </a:pathLst>
          </a:custGeom>
          <a:noFill/>
          <a:ln cap="rnd" w="25560">
            <a:solidFill>
              <a:srgbClr val="ffba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08360" y="1766880"/>
            <a:ext cx="87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33840" y="5384880"/>
            <a:ext cx="1278000" cy="628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29160" y="4133880"/>
            <a:ext cx="1311120" cy="6350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76880" y="3981600"/>
            <a:ext cx="1311120" cy="634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409428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35680" y="3395520"/>
            <a:ext cx="0" cy="565200"/>
          </a:xfrm>
          <a:prstGeom prst="line">
            <a:avLst/>
          </a:prstGeom>
          <a:ln w="25560">
            <a:solidFill>
              <a:srgbClr val="ff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81560" y="5232240"/>
            <a:ext cx="1278000" cy="628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02200" y="533556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027760" y="4619160"/>
            <a:ext cx="0" cy="59868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777760" y="3575160"/>
            <a:ext cx="1335240" cy="752400"/>
          </a:xfrm>
          <a:prstGeom prst="line">
            <a:avLst/>
          </a:prstGeom>
          <a:ln w="25560">
            <a:solidFill>
              <a:srgbClr val="ff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98960" y="2398680"/>
            <a:ext cx="1914480" cy="854280"/>
            <a:chOff x="4098960" y="2398680"/>
            <a:chExt cx="1914480" cy="854280"/>
          </a:xfrm>
        </p:grpSpPr>
        <p:grpSp>
          <p:nvGrpSpPr>
            <p:cNvPr id="479" name=""/>
            <p:cNvGrpSpPr/>
            <p:nvPr/>
          </p:nvGrpSpPr>
          <p:grpSpPr>
            <a:xfrm>
              <a:off x="4098960" y="2398680"/>
              <a:ext cx="1914480" cy="854280"/>
              <a:chOff x="4098960" y="2398680"/>
              <a:chExt cx="1914480" cy="854280"/>
            </a:xfrm>
          </p:grpSpPr>
          <p:sp>
            <p:nvSpPr>
              <p:cNvPr id="480" name=""/>
              <p:cNvSpPr/>
              <p:nvPr/>
            </p:nvSpPr>
            <p:spPr>
              <a:xfrm>
                <a:off x="4105440" y="240516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95680" y="239868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22720" y="239868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553000" y="239868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989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98960" y="301140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2744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8476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26040" y="240336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5632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8156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57800" y="240660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88080" y="240660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15120" y="240660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48360" y="239868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0392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25960" y="240336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8960" y="2867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98960" y="31431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98960" y="26179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98960" y="25081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4111560" y="250992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18120" y="250992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35680" y="251460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21240" y="251316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59480" y="2513160"/>
              <a:ext cx="12204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32480" y="251316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63920" y="287172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81640" y="2874960"/>
              <a:ext cx="1396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3880" y="241452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29200" y="2622600"/>
              <a:ext cx="10620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92760" y="2874960"/>
              <a:ext cx="11880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32480" y="273852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30640" y="3017880"/>
              <a:ext cx="104760" cy="1141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6560" y="2870280"/>
              <a:ext cx="1317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32480" y="302256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61000" y="314316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21240" y="301464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57680" y="3013200"/>
              <a:ext cx="120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61040" y="3147840"/>
              <a:ext cx="12852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32160" y="3156120"/>
              <a:ext cx="108000" cy="806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00600" y="274644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86240" y="274320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95920" y="301932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9200" y="274320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54480" y="262260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83360" y="314316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3:18:10Z</dcterms:created>
  <dc:creator>Hanne Rue Rasmussen</dc:creator>
  <dc:description/>
  <dc:language>en-US</dc:language>
  <cp:lastModifiedBy>MEDI TELECOM</cp:lastModifiedBy>
  <cp:lastPrinted>1996-03-20T11:39:08Z</cp:lastPrinted>
  <dcterms:modified xsi:type="dcterms:W3CDTF">2001-04-11T14:57:24Z</dcterms:modified>
  <cp:revision>15251</cp:revision>
  <dc:subject>Oracle7: Administration</dc:subject>
  <dc:title>Accessing and Updating Data</dc:title>
</cp:coreProperties>
</file>