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41E321-C637-4095-993C-072CE61651F5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490640"/>
            <a:ext cx="5029200" cy="34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8620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620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871524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1FD-8FF4-4AFB-981D-1CABAAA8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CF1-AFF1-47C8-AFD3-86FAD9DE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A6C-3EE3-4AE5-AD88-55113F5B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D7D-D3CD-4DAF-B763-11A820C2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5DC-48B8-43C3-B095-482A292C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445-BA7B-4668-9C10-8D5C273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ADF-A4BB-491B-905A-FDB67DE0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580-A158-4D65-A6BE-C24C97E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DC6-D7A4-406A-8E95-AE8D876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2FB-6D7F-42D9-B737-F3DE89D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F8-0E96-4414-9C77-990C35D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A68-BC46-4DFF-9ABF-79084C0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E4E1B7-AB01-4B7B-A865-9681033C2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0996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6 - </a:t>
            </a:r>
            <a:fld id="{B6C89971-9B70-46B8-A3BF-954315BA4D79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46168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6: Gérer la Structure de la 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Base de Données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7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8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de 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8078760" y="1987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7930800" y="1989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48000" y="178452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339720" y="1787400"/>
            <a:ext cx="3187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24640" y="178272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79160" y="1962000"/>
            <a:ext cx="18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EFAULT 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98120" y="194472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ITIA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56400" y="208296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7120" y="2403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07120" y="2162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128920" y="2521080"/>
            <a:ext cx="19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32520" y="207000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138640" y="2279520"/>
            <a:ext cx="169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536800" y="2279520"/>
            <a:ext cx="22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25081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749840" y="2066760"/>
            <a:ext cx="2247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74480" y="2066760"/>
            <a:ext cx="3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16400" y="2071800"/>
            <a:ext cx="3240" cy="2003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24840" y="2630520"/>
            <a:ext cx="114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03760" y="276876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54480" y="30891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54480" y="28479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976640" y="3206880"/>
            <a:ext cx="1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79880" y="275580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981320" y="2965320"/>
            <a:ext cx="17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384520" y="2965320"/>
            <a:ext cx="22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397120" y="31939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774680" y="275256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416040" y="27525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370200" y="2066760"/>
            <a:ext cx="4680" cy="2008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63720" y="3349800"/>
            <a:ext cx="1719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334120" y="347652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41604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4440" y="3666960"/>
            <a:ext cx="177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86040" y="379404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416040" y="37940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72360" y="3944880"/>
            <a:ext cx="1829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24200" y="407340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14240" y="407340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271600" y="1692360"/>
            <a:ext cx="4589640" cy="407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er un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17720" y="1708200"/>
            <a:ext cx="7108560" cy="1697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SPACE rb_se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AFILE ‘/u01/Oracle/D/rbsegs.dbs’ SIZE 3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FAULT STORAGE (INITIAL 50K NEXT 50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INEXTENTS 10 MAXEXTENTS 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INCREASE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Alter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2016000" y="1719360"/>
            <a:ext cx="5100840" cy="339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pour Ajouter un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</a:t>
            </a: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 au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87720" y="181764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93636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105372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8080200" y="1746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72240" y="1712880"/>
            <a:ext cx="260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108080" y="181944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1120" y="208584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7160" y="19112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742840" y="2085840"/>
            <a:ext cx="194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40480" y="2103480"/>
            <a:ext cx="2334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75440" y="2101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21240" y="2367000"/>
            <a:ext cx="370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934920" y="22953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8078400" y="22953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84400" y="2262240"/>
            <a:ext cx="135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DD 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020240" y="2368440"/>
            <a:ext cx="17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2514240" y="2368440"/>
            <a:ext cx="1257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50120" y="223992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13600" y="2370240"/>
            <a:ext cx="3240" cy="3070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114560" y="2381400"/>
            <a:ext cx="2880" cy="3081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122120" y="332100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97280" y="3309840"/>
            <a:ext cx="4203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95720" y="3214800"/>
            <a:ext cx="239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120680" y="3557520"/>
            <a:ext cx="27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82960" y="3546360"/>
            <a:ext cx="591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17680" y="344664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L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112760" y="37638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08160" y="3763800"/>
            <a:ext cx="589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77720" y="3659040"/>
            <a:ext cx="7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FFL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49400" y="27748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38280" y="26557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844720" y="2778120"/>
            <a:ext cx="495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3646080" y="2795760"/>
            <a:ext cx="468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86920" y="2976480"/>
            <a:ext cx="142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RENAME DATAF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117440" y="3060720"/>
            <a:ext cx="114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552760" y="306072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12480" y="293220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name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924360" y="3060720"/>
            <a:ext cx="520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7925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06120" y="2948040"/>
            <a:ext cx="36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51400" y="276228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346720" y="2765520"/>
            <a:ext cx="419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084360" y="2782800"/>
            <a:ext cx="468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889160" y="30481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46080" y="291780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‘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name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388200" y="3048120"/>
            <a:ext cx="161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27795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10040" y="264168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281320" y="39290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87440" y="3773520"/>
            <a:ext cx="0" cy="520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13000" y="3929040"/>
            <a:ext cx="946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65560" y="3770280"/>
            <a:ext cx="0" cy="52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46280" y="3811680"/>
            <a:ext cx="74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81d58"/>
                </a:solidFill>
                <a:uFillTx/>
                <a:latin typeface="Arial"/>
              </a:rPr>
              <a:t>NORM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281320" y="410688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05320" y="4106880"/>
            <a:ext cx="65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47360" y="398952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281320" y="42973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65640" y="4297320"/>
            <a:ext cx="793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47720" y="417996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MMED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112760" y="446256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81080" y="4462560"/>
            <a:ext cx="2387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8080" y="435780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92560" y="4462560"/>
            <a:ext cx="2908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83360" y="4343400"/>
            <a:ext cx="72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1252440" y="46656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58920" y="4467240"/>
            <a:ext cx="0" cy="195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4665600"/>
            <a:ext cx="317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22640" y="44686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17760" y="45482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114200" y="4840200"/>
            <a:ext cx="282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784600" y="4827600"/>
            <a:ext cx="521640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18040" y="4729320"/>
            <a:ext cx="54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101680" y="5019840"/>
            <a:ext cx="208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8160" y="4849920"/>
            <a:ext cx="0" cy="166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879640" y="5016600"/>
            <a:ext cx="2793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59000" y="4843440"/>
            <a:ext cx="0" cy="17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78800" y="4902120"/>
            <a:ext cx="591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WRI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27080" y="4839840"/>
            <a:ext cx="2797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5640" y="472932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111320" y="519120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9360" y="507852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ERMAN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122480" y="54608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60520" y="534816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21000" y="5203800"/>
            <a:ext cx="5595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41520" y="5450040"/>
            <a:ext cx="55753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rop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625760" y="1628640"/>
            <a:ext cx="5871960" cy="40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Utilisé pour les opérations de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Ne peut pas contenir d’objet permanen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t géré par le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87720" y="186372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72600" y="1758960"/>
            <a:ext cx="27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108080" y="186516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5400000">
            <a:off x="925200" y="2449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055520" y="2521080"/>
            <a:ext cx="7143840" cy="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8069040" y="2449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76320" y="2532240"/>
            <a:ext cx="3240" cy="509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881360" y="2809800"/>
            <a:ext cx="27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1881360" y="3044880"/>
            <a:ext cx="27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69000" y="2695680"/>
            <a:ext cx="289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EFAULT  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65720" y="2535120"/>
            <a:ext cx="0" cy="493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57640" y="2811600"/>
            <a:ext cx="21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41560" y="3049560"/>
            <a:ext cx="1440" cy="238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043000" y="3287880"/>
            <a:ext cx="98640" cy="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73320" y="2932200"/>
            <a:ext cx="114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PERMA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58200" y="317808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325680" y="3030120"/>
            <a:ext cx="194004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294000" y="3301560"/>
            <a:ext cx="17316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76520" y="3040200"/>
            <a:ext cx="1800" cy="261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501480"/>
            <a:ext cx="75279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Automatique de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108864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44720" y="1992240"/>
            <a:ext cx="717696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5400000">
            <a:off x="934920" y="1922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5400000">
            <a:off x="8078400" y="1922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3280" y="1995480"/>
            <a:ext cx="0" cy="252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9840" y="2247840"/>
            <a:ext cx="0" cy="243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9760" y="2505240"/>
            <a:ext cx="0" cy="276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691160" y="2500200"/>
            <a:ext cx="0" cy="73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57760" y="25002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600960" y="3029040"/>
            <a:ext cx="0" cy="417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7760" y="27716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67440" y="1995480"/>
            <a:ext cx="0" cy="1447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00960" y="3443400"/>
            <a:ext cx="361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00960" y="3195720"/>
            <a:ext cx="36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32640" y="33163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642000" y="31035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09760" y="277668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67000" y="2670120"/>
            <a:ext cx="102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81280" y="2495520"/>
            <a:ext cx="428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14440" y="2252520"/>
            <a:ext cx="554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09840" y="214308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UTOEXT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43920" y="2152800"/>
            <a:ext cx="43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82440" y="2394000"/>
            <a:ext cx="375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319640" y="2787480"/>
            <a:ext cx="0" cy="4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19640" y="3228840"/>
            <a:ext cx="371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19640" y="2981160"/>
            <a:ext cx="366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354560" y="31082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65720" y="28908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57760" y="2766960"/>
            <a:ext cx="220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91240" y="26589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SI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8520" y="2658960"/>
            <a:ext cx="87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UNLIMI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57760" y="3019320"/>
            <a:ext cx="130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7800" y="2900520"/>
            <a:ext cx="60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8487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Automatique des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17720" y="1812960"/>
            <a:ext cx="7108560" cy="1697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DD DATAFILE ‘users02’ SIZE 10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UTOEXTEND 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EXT 512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SIZE 250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25640" y="3772080"/>
            <a:ext cx="7108560" cy="894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DATAFILE ‘users02’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UTOEXTEND OF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xpliquer comment se fait l’allocation d’espace au niveau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sonnaliser la structure d’un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réparer les tablespaces nécess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différents types de segment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dimensionnement Manuel des Datafi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09800" y="2013120"/>
            <a:ext cx="7108560" cy="89496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VRMGR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DATABASE DATAFILE ‘users02’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RESIZE 100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atement proces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Quand le DBA peut-il mettre un</a:t>
            </a:r>
            <a:br>
              <a:rPr sz="2800"/>
            </a:b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Tablespace en Read Only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est recommandé de démarrer l’instance dans le mode restreint.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doit être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ne doit pas y avoir de transaction act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ne doit pas contenir de rollback segment actif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n’a pas à être impliqué dans une sauvegarde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COMPATIBLE doit être positionné à 7.2.0 ou plus élev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 en Read Only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27080" y="1708200"/>
            <a:ext cx="7108920" cy="627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tabspace_2 READ ONL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27080" y="2612880"/>
            <a:ext cx="7108920" cy="6274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TABLESPACE tabspace_2 READ WRI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99960"/>
                <a:tab algn="l" pos="63504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commandations pour la Ges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46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tilisez de multiples Tablespac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données utilisateur des données du dictionnair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données d’une application de celles d’une aut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mplantez les fichiers de données de tablespaces différents sur des unités de disque différentes afin de réduire la contention des E/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éparez les rollback segments des segments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Mettez certains tablespaces offline pendant que d’autres restent onlin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éservez des tablespaces pour une utilisation particulière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auvegardez des tablespaces isol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040" y="5014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ecommandations pour la Gestion d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4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z des Paramètres de stockage pour le Tablespac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z des paramètres de stockage par défaut pour les objets qui seront créés dans le tablespa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ositionnez les paramètres de stockage par défaut pour un tablespace en fonction de la taille typique des objets qui seront stocké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ssignez des quotas de tablespace, si nécessaire, aux utilisateu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79600" y="1600200"/>
            <a:ext cx="4695840" cy="45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é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gardent les données de rollback pour les rollbacks, la consistance en lecture, ou la restaur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toutes les données d’une table ou d’un clust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toutes les données d’un index spécifiqu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nsemble d’extents qui contiennent les données appartenant à des objets temporai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extent qui contient les définitions de dictionnaire pour les tables du dictionnaire qui doivent être chargées à l’ouverture de  la Base de Données ; ne requiert aucune attention particulière de l’administrateur de la Base de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81160" y="1600200"/>
            <a:ext cx="2117520" cy="45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ollback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emporair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Bootstrap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85840" y="1996920"/>
            <a:ext cx="67834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79360" y="47196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92320" y="2808360"/>
            <a:ext cx="6777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79360" y="34434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77920" y="4048200"/>
            <a:ext cx="67896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728720" y="1684440"/>
            <a:ext cx="3797280" cy="3797280"/>
          </a:xfrm>
          <a:prstGeom prst="ellipse">
            <a:avLst/>
          </a:prstGeom>
          <a:gradFill rotWithShape="0">
            <a:gsLst>
              <a:gs pos="0">
                <a:srgbClr val="361c49"/>
              </a:gs>
              <a:gs pos="50000">
                <a:srgbClr val="b760f9"/>
              </a:gs>
              <a:gs pos="100000">
                <a:srgbClr val="361c49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728720" y="1668600"/>
            <a:ext cx="3809880" cy="37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1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135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Rollback Segmen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85880" y="2530440"/>
            <a:ext cx="2070360" cy="207000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855880" y="3143160"/>
            <a:ext cx="550800" cy="750960"/>
            <a:chOff x="2855880" y="3143160"/>
            <a:chExt cx="550800" cy="750960"/>
          </a:xfrm>
        </p:grpSpPr>
        <p:sp>
          <p:nvSpPr>
            <p:cNvPr id="874" name=""/>
            <p:cNvSpPr/>
            <p:nvPr/>
          </p:nvSpPr>
          <p:spPr>
            <a:xfrm>
              <a:off x="2855880" y="3143160"/>
              <a:ext cx="550800" cy="750960"/>
            </a:xfrm>
            <a:custGeom>
              <a:avLst/>
              <a:gdLst>
                <a:gd name="textAreaLeft" fmla="*/ 20160 w 550800"/>
                <a:gd name="textAreaRight" fmla="*/ 530640 w 550800"/>
                <a:gd name="textAreaTop" fmla="*/ 20160 h 750960"/>
                <a:gd name="textAreaBottom" fmla="*/ 730800 h 750960"/>
              </a:gdLst>
              <a:ahLst/>
              <a:rect l="textAreaLeft" t="textAreaTop" r="textAreaRight" b="textAreaBottom"/>
              <a:pathLst>
                <a:path w="21600" h="29444">
                  <a:moveTo>
                    <a:pt x="2699" y="0"/>
                  </a:moveTo>
                  <a:arcTo wR="2699" hR="2699" stAng="16200000" swAng="-5400000"/>
                  <a:lnTo>
                    <a:pt x="0" y="26745"/>
                  </a:lnTo>
                  <a:arcTo wR="2699" hR="2699" stAng="10800000" swAng="-5400000"/>
                  <a:lnTo>
                    <a:pt x="18901" y="2944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94b49"/>
                </a:gs>
                <a:gs pos="50000">
                  <a:srgbClr val="c0fef9"/>
                </a:gs>
                <a:gs pos="100000">
                  <a:srgbClr val="394b4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46240" y="325296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46240" y="337032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46240" y="347508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46240" y="358128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46240" y="368784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46240" y="3781440"/>
              <a:ext cx="37656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3749760" y="3154320"/>
            <a:ext cx="550800" cy="750960"/>
            <a:chOff x="3749760" y="3154320"/>
            <a:chExt cx="550800" cy="750960"/>
          </a:xfrm>
        </p:grpSpPr>
        <p:sp>
          <p:nvSpPr>
            <p:cNvPr id="882" name=""/>
            <p:cNvSpPr/>
            <p:nvPr/>
          </p:nvSpPr>
          <p:spPr>
            <a:xfrm>
              <a:off x="3749760" y="3154320"/>
              <a:ext cx="550800" cy="750960"/>
            </a:xfrm>
            <a:custGeom>
              <a:avLst/>
              <a:gdLst>
                <a:gd name="textAreaLeft" fmla="*/ 20160 w 550800"/>
                <a:gd name="textAreaRight" fmla="*/ 530640 w 550800"/>
                <a:gd name="textAreaTop" fmla="*/ 20160 h 750960"/>
                <a:gd name="textAreaBottom" fmla="*/ 730800 h 750960"/>
              </a:gdLst>
              <a:ahLst/>
              <a:rect l="textAreaLeft" t="textAreaTop" r="textAreaRight" b="textAreaBottom"/>
              <a:pathLst>
                <a:path w="21600" h="29444">
                  <a:moveTo>
                    <a:pt x="2699" y="0"/>
                  </a:moveTo>
                  <a:arcTo wR="2699" hR="2699" stAng="16200000" swAng="-5400000"/>
                  <a:lnTo>
                    <a:pt x="0" y="26745"/>
                  </a:lnTo>
                  <a:arcTo wR="2699" hR="2699" stAng="10800000" swAng="-5400000"/>
                  <a:lnTo>
                    <a:pt x="18901" y="2944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394b49"/>
                </a:gs>
                <a:gs pos="50000">
                  <a:srgbClr val="c0fef9"/>
                </a:gs>
                <a:gs pos="100000">
                  <a:srgbClr val="394b4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40120" y="326376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40120" y="338148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40120" y="348624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40120" y="359244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40120" y="369900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40120" y="3792600"/>
              <a:ext cx="3762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098800" y="237636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2336760" y="3641760"/>
            <a:ext cx="611280" cy="669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21280" y="252900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16160" y="458640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41800" y="44546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xten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73200" y="3951360"/>
            <a:ext cx="1344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68960" y="4514760"/>
            <a:ext cx="319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xtent Actif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Sans 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15120" y="5102280"/>
            <a:ext cx="319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xtent Non-Actif 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vec E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627360" y="4605480"/>
            <a:ext cx="0" cy="87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76760" y="3535200"/>
            <a:ext cx="85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627360" y="1677960"/>
            <a:ext cx="0" cy="83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288960" y="3852720"/>
            <a:ext cx="739800" cy="102420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63840" y="3949560"/>
            <a:ext cx="1344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441160" y="2782440"/>
            <a:ext cx="554040" cy="4590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3054240" y="2323800"/>
            <a:ext cx="905040" cy="88092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59560" y="4568760"/>
            <a:ext cx="422280" cy="3366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59560" y="5140440"/>
            <a:ext cx="411120" cy="328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25480" y="3535200"/>
            <a:ext cx="85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egments de Données et d’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9600" y="1919160"/>
            <a:ext cx="469584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seul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sur la base de la valeur d’une colonne d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à l’aide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index créés sur une ou plusieurs colonnes d’une table pour augmenter les performances lors des lectures des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181160" y="1919160"/>
            <a:ext cx="2117520" cy="31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d’Index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de Hash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85840" y="2314440"/>
            <a:ext cx="678348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92320" y="2668680"/>
            <a:ext cx="67770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79360" y="3551400"/>
            <a:ext cx="6789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77920" y="4194000"/>
            <a:ext cx="678960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es Segments Temporair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33120" y="1557360"/>
            <a:ext cx="7296120" cy="41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automatiquement par le serveur Oracle pour réaliser des opérations complexes telles que jointures, GROUP BY, ORDER BY, création d’index, tout ce qui requiert donc du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par le DBA pour réaliser des opérations complexes telles que jointures, GROUP BY, ORDER BY, création d’index, tout ce qui requiert donc du tri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dans les fichiers de données lorsque l’espace nécessaire n’est pas disponible dans la mémoi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és lorsque nécessaire, au niveau d’une transaction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stitués à la fin de la transaction (par SMON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on protégés par le redo log, étant donné qu’ils ne sont pas nécessaires pour l’intégrité des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Segment de Bootstrap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galement appelé le segment de cach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accessible aux utilisateu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ans le tablespace SYSTEM et est la propriété de l’utilisateur sy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accessible directement au DB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2560" y="5348160"/>
            <a:ext cx="4680" cy="662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42680" y="5310000"/>
            <a:ext cx="414720" cy="145800"/>
            <a:chOff x="1642680" y="5310000"/>
            <a:chExt cx="414720" cy="145800"/>
          </a:xfrm>
        </p:grpSpPr>
        <p:sp>
          <p:nvSpPr>
            <p:cNvPr id="100" name=""/>
            <p:cNvSpPr/>
            <p:nvPr/>
          </p:nvSpPr>
          <p:spPr>
            <a:xfrm flipV="1">
              <a:off x="1873080" y="5310000"/>
              <a:ext cx="184320" cy="14580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642680" y="5310360"/>
              <a:ext cx="196920" cy="12672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1852200" y="1981080"/>
            <a:ext cx="4680" cy="29955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679200" y="1980720"/>
            <a:ext cx="1356480" cy="417960"/>
            <a:chOff x="3679200" y="1980720"/>
            <a:chExt cx="1356480" cy="417960"/>
          </a:xfrm>
        </p:grpSpPr>
        <p:grpSp>
          <p:nvGrpSpPr>
            <p:cNvPr id="104" name=""/>
            <p:cNvGrpSpPr/>
            <p:nvPr/>
          </p:nvGrpSpPr>
          <p:grpSpPr>
            <a:xfrm>
              <a:off x="4355640" y="1980720"/>
              <a:ext cx="680040" cy="378360"/>
              <a:chOff x="4355640" y="1980720"/>
              <a:chExt cx="680040" cy="3783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676760" y="1994040"/>
                <a:ext cx="0" cy="365040"/>
              </a:xfrm>
              <a:prstGeom prst="line">
                <a:avLst/>
              </a:prstGeom>
              <a:ln w="12600">
                <a:solidFill>
                  <a:srgbClr val="ffb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675320" y="1980720"/>
                <a:ext cx="360360" cy="22716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4355640" y="1990440"/>
                <a:ext cx="306360" cy="22068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753080" y="2154240"/>
              <a:ext cx="203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9200" y="2014560"/>
              <a:ext cx="919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L'Architecture de Stockage d'Orac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638520" y="3375000"/>
            <a:ext cx="3328920" cy="1069920"/>
            <a:chOff x="3638520" y="3375000"/>
            <a:chExt cx="3328920" cy="1069920"/>
          </a:xfrm>
        </p:grpSpPr>
        <p:sp>
          <p:nvSpPr>
            <p:cNvPr id="112" name=""/>
            <p:cNvSpPr/>
            <p:nvPr/>
          </p:nvSpPr>
          <p:spPr>
            <a:xfrm>
              <a:off x="3638520" y="3375000"/>
              <a:ext cx="3328920" cy="1069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560" y="4103640"/>
              <a:ext cx="10170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emporai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1360" y="370692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37615d"/>
                </a:gs>
                <a:gs pos="50000">
                  <a:srgbClr val="8cf4ea"/>
                </a:gs>
                <a:gs pos="100000">
                  <a:srgbClr val="3761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61240" y="4103640"/>
              <a:ext cx="86184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6840" y="3706920"/>
              <a:ext cx="914400" cy="275040"/>
            </a:xfrm>
            <a:prstGeom prst="rect">
              <a:avLst/>
            </a:prstGeom>
            <a:gradFill rotWithShape="0">
              <a:gsLst>
                <a:gs pos="0">
                  <a:srgbClr val="0f1d4a"/>
                </a:gs>
                <a:gs pos="50000">
                  <a:srgbClr val="3365fb"/>
                </a:gs>
                <a:gs pos="100000">
                  <a:srgbClr val="0f1d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92600" y="4103640"/>
              <a:ext cx="952560" cy="275040"/>
            </a:xfrm>
            <a:prstGeom prst="rect">
              <a:avLst/>
            </a:prstGeom>
            <a:gradFill rotWithShape="0">
              <a:gsLst>
                <a:gs pos="0">
                  <a:srgbClr val="294845"/>
                </a:gs>
                <a:gs pos="50000">
                  <a:srgbClr val="8cf4ea"/>
                </a:gs>
                <a:gs pos="100000">
                  <a:srgbClr val="2948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Roll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70280" y="3706920"/>
              <a:ext cx="973080" cy="275040"/>
            </a:xfrm>
            <a:prstGeom prst="rect">
              <a:avLst/>
            </a:prstGeom>
            <a:gradFill rotWithShape="0">
              <a:gsLst>
                <a:gs pos="0">
                  <a:srgbClr val="002420"/>
                </a:gs>
                <a:gs pos="50000">
                  <a:srgbClr val="007a6e"/>
                </a:gs>
                <a:gs pos="100000">
                  <a:srgbClr val="0024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7760" y="3433680"/>
              <a:ext cx="829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g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638520" y="4937040"/>
            <a:ext cx="1843200" cy="297000"/>
            <a:chOff x="3638520" y="4937040"/>
            <a:chExt cx="1843200" cy="297000"/>
          </a:xfrm>
        </p:grpSpPr>
        <p:sp>
          <p:nvSpPr>
            <p:cNvPr id="121" name=""/>
            <p:cNvSpPr/>
            <p:nvPr/>
          </p:nvSpPr>
          <p:spPr>
            <a:xfrm>
              <a:off x="3638520" y="4937040"/>
              <a:ext cx="184320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3320" y="4941720"/>
              <a:ext cx="1018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Tablesp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638520" y="5705640"/>
            <a:ext cx="4091040" cy="304920"/>
            <a:chOff x="3638520" y="5705640"/>
            <a:chExt cx="4091040" cy="304920"/>
          </a:xfrm>
        </p:grpSpPr>
        <p:sp>
          <p:nvSpPr>
            <p:cNvPr id="124" name=""/>
            <p:cNvSpPr/>
            <p:nvPr/>
          </p:nvSpPr>
          <p:spPr>
            <a:xfrm>
              <a:off x="3638520" y="5705640"/>
              <a:ext cx="409104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2680" y="5735520"/>
              <a:ext cx="1459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ase de Donné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129440" y="3895560"/>
            <a:ext cx="0" cy="11001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8920" y="4651200"/>
            <a:ext cx="134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mplacement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370240"/>
            <a:ext cx="4505400" cy="731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1240" y="2647800"/>
            <a:ext cx="986040" cy="27504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b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32280" y="239220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62480" y="2651040"/>
            <a:ext cx="949320" cy="298800"/>
            <a:chOff x="4362480" y="2651040"/>
            <a:chExt cx="949320" cy="298800"/>
          </a:xfrm>
        </p:grpSpPr>
        <p:sp>
          <p:nvSpPr>
            <p:cNvPr id="132" name=""/>
            <p:cNvSpPr/>
            <p:nvPr/>
          </p:nvSpPr>
          <p:spPr>
            <a:xfrm>
              <a:off x="4362480" y="2651040"/>
              <a:ext cx="949320" cy="28908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50000">
                  <a:srgbClr val="618ffd"/>
                </a:gs>
                <a:gs pos="100000">
                  <a:srgbClr val="1c2a4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9720" y="2674800"/>
              <a:ext cx="64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tilisé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843440" y="296208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44880" y="296208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38440" y="2965320"/>
            <a:ext cx="39348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3680" y="314496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30640" y="4543560"/>
            <a:ext cx="61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d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38760" y="4500360"/>
            <a:ext cx="1440" cy="399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40200" y="450036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433760" y="450360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1520" y="4708440"/>
            <a:ext cx="122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mplacement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881680" y="4923000"/>
            <a:ext cx="1843200" cy="296640"/>
            <a:chOff x="5881680" y="4923000"/>
            <a:chExt cx="1843200" cy="296640"/>
          </a:xfrm>
        </p:grpSpPr>
        <p:sp>
          <p:nvSpPr>
            <p:cNvPr id="144" name=""/>
            <p:cNvSpPr/>
            <p:nvPr/>
          </p:nvSpPr>
          <p:spPr>
            <a:xfrm>
              <a:off x="5881680" y="492300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13400" y="492768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st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638520" y="1660680"/>
            <a:ext cx="1843200" cy="296640"/>
            <a:chOff x="3638520" y="1660680"/>
            <a:chExt cx="1843200" cy="296640"/>
          </a:xfrm>
        </p:grpSpPr>
        <p:sp>
          <p:nvSpPr>
            <p:cNvPr id="147" name=""/>
            <p:cNvSpPr/>
            <p:nvPr/>
          </p:nvSpPr>
          <p:spPr>
            <a:xfrm>
              <a:off x="3638520" y="166068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82480" y="1668600"/>
              <a:ext cx="777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D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956040" y="5353200"/>
            <a:ext cx="89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15000" y="5253120"/>
            <a:ext cx="612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21120" y="525276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414680" y="5256000"/>
            <a:ext cx="393840" cy="191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51360" y="5462640"/>
            <a:ext cx="116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124400" y="2955600"/>
            <a:ext cx="4680" cy="9255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122960" y="2943360"/>
            <a:ext cx="358920" cy="234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805080" y="2952360"/>
            <a:ext cx="304920" cy="228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57240" y="1660680"/>
            <a:ext cx="1843200" cy="296640"/>
            <a:chOff x="957240" y="1660680"/>
            <a:chExt cx="1843200" cy="296640"/>
          </a:xfrm>
        </p:grpSpPr>
        <p:sp>
          <p:nvSpPr>
            <p:cNvPr id="158" name=""/>
            <p:cNvSpPr/>
            <p:nvPr/>
          </p:nvSpPr>
          <p:spPr>
            <a:xfrm>
              <a:off x="957240" y="166068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5360" y="1670040"/>
              <a:ext cx="82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loc O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7600" y="5289480"/>
            <a:ext cx="67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accède 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867360" y="524844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73840" y="5248080"/>
            <a:ext cx="395280" cy="20772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67400" y="5251320"/>
            <a:ext cx="393840" cy="1922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3360" y="54561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accédée p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57240" y="4941720"/>
            <a:ext cx="1843200" cy="297000"/>
            <a:chOff x="957240" y="4941720"/>
            <a:chExt cx="1843200" cy="297000"/>
          </a:xfrm>
        </p:grpSpPr>
        <p:sp>
          <p:nvSpPr>
            <p:cNvPr id="166" name=""/>
            <p:cNvSpPr/>
            <p:nvPr/>
          </p:nvSpPr>
          <p:spPr>
            <a:xfrm>
              <a:off x="957240" y="4941720"/>
              <a:ext cx="1843200" cy="2970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53040" y="4948200"/>
              <a:ext cx="68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ch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57240" y="5713560"/>
            <a:ext cx="1843200" cy="296640"/>
            <a:chOff x="957240" y="5713560"/>
            <a:chExt cx="1843200" cy="296640"/>
          </a:xfrm>
        </p:grpSpPr>
        <p:sp>
          <p:nvSpPr>
            <p:cNvPr id="169" name=""/>
            <p:cNvSpPr/>
            <p:nvPr/>
          </p:nvSpPr>
          <p:spPr>
            <a:xfrm>
              <a:off x="957240" y="5713560"/>
              <a:ext cx="1843200" cy="296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2a0842"/>
                </a:gs>
                <a:gs pos="50000">
                  <a:srgbClr val="8f1ee1"/>
                </a:gs>
                <a:gs pos="100000">
                  <a:srgbClr val="2a0842"/>
                </a:gs>
              </a:gsLst>
              <a:lin ang="13500000"/>
            </a:gradFill>
            <a:ln w="0">
              <a:noFill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8920" y="5719680"/>
              <a:ext cx="110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ASD Loca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48680" y="5305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stocké s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52560" y="1990800"/>
            <a:ext cx="6480" cy="45720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5720" y="5486400"/>
            <a:ext cx="103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868800" y="5243040"/>
            <a:ext cx="3240" cy="1954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43440" y="4481640"/>
            <a:ext cx="6480" cy="2426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38000" y="1976040"/>
            <a:ext cx="414720" cy="146520"/>
            <a:chOff x="1638000" y="1976040"/>
            <a:chExt cx="414720" cy="146520"/>
          </a:xfrm>
        </p:grpSpPr>
        <p:sp>
          <p:nvSpPr>
            <p:cNvPr id="177" name=""/>
            <p:cNvSpPr/>
            <p:nvPr/>
          </p:nvSpPr>
          <p:spPr>
            <a:xfrm flipV="1">
              <a:off x="1868400" y="1976400"/>
              <a:ext cx="184320" cy="1461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638000" y="1976040"/>
              <a:ext cx="196920" cy="1270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85040" y="204624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0320" y="46530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52280" y="4829040"/>
            <a:ext cx="1059120" cy="640080"/>
            <a:chOff x="2852280" y="4829040"/>
            <a:chExt cx="1059120" cy="640080"/>
          </a:xfrm>
        </p:grpSpPr>
        <p:sp>
          <p:nvSpPr>
            <p:cNvPr id="182" name=""/>
            <p:cNvSpPr/>
            <p:nvPr/>
          </p:nvSpPr>
          <p:spPr>
            <a:xfrm>
              <a:off x="2886120" y="5124600"/>
              <a:ext cx="414360" cy="0"/>
            </a:xfrm>
            <a:prstGeom prst="line">
              <a:avLst/>
            </a:prstGeom>
            <a:ln w="12600">
              <a:solidFill>
                <a:srgbClr val="ffba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2960" y="5119560"/>
              <a:ext cx="376200" cy="504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01960" y="5224320"/>
              <a:ext cx="1009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est constitué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2440" y="4829040"/>
              <a:ext cx="884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Times New Roman"/>
                </a:rPr>
                <a:t>fait partie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868480" y="5124240"/>
              <a:ext cx="160560" cy="9828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852280" y="5019480"/>
              <a:ext cx="204840" cy="104760"/>
            </a:xfrm>
            <a:prstGeom prst="line">
              <a:avLst/>
            </a:prstGeom>
            <a:ln w="12600">
              <a:solidFill>
                <a:srgbClr val="ff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881440" y="187632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47920" y="1881000"/>
            <a:ext cx="395280" cy="46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1760" y="19782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66320" y="158436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63800" y="1876320"/>
            <a:ext cx="160560" cy="986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847600" y="1771200"/>
            <a:ext cx="204840" cy="104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59320" y="293544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6680" y="293220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fait partie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08920" y="3355920"/>
            <a:ext cx="134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alloué 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7360" y="2205000"/>
            <a:ext cx="100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est constitué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244600" y="1665360"/>
            <a:ext cx="4816440" cy="28051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35560" y="3409920"/>
            <a:ext cx="6001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30640" y="2787480"/>
            <a:ext cx="60012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48240" y="5646600"/>
            <a:ext cx="189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973680" y="5105520"/>
            <a:ext cx="1245960" cy="576000"/>
            <a:chOff x="3973680" y="5105520"/>
            <a:chExt cx="1245960" cy="576000"/>
          </a:xfrm>
        </p:grpSpPr>
        <p:sp>
          <p:nvSpPr>
            <p:cNvPr id="948" name=""/>
            <p:cNvSpPr/>
            <p:nvPr/>
          </p:nvSpPr>
          <p:spPr>
            <a:xfrm>
              <a:off x="3973680" y="52261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973680" y="510552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3680" y="5460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5014800" y="467208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4760" y="28432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186520" y="3403440"/>
            <a:ext cx="1425240" cy="698760"/>
            <a:chOff x="5186520" y="3403440"/>
            <a:chExt cx="1425240" cy="698760"/>
          </a:xfrm>
        </p:grpSpPr>
        <p:sp>
          <p:nvSpPr>
            <p:cNvPr id="954" name=""/>
            <p:cNvSpPr/>
            <p:nvPr/>
          </p:nvSpPr>
          <p:spPr>
            <a:xfrm>
              <a:off x="5186520" y="3409920"/>
              <a:ext cx="14252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6568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4844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892760" y="2787480"/>
            <a:ext cx="142560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768760" y="1943280"/>
            <a:ext cx="2311200" cy="8762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57400" y="2271600"/>
            <a:ext cx="18907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gment 2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75120" y="5194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10160" y="5079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99000" y="4478400"/>
            <a:ext cx="0" cy="588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905360" y="4749840"/>
            <a:ext cx="40644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70200" y="2832120"/>
            <a:ext cx="137016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094360" y="1943280"/>
            <a:ext cx="1230120" cy="838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26280" y="2781360"/>
            <a:ext cx="3031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81760" y="2819520"/>
            <a:ext cx="1242720" cy="6476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29200" y="3467160"/>
            <a:ext cx="31572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38680" y="3479760"/>
            <a:ext cx="316080" cy="622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90960" y="3467160"/>
            <a:ext cx="31608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26280" y="3467160"/>
            <a:ext cx="2905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052960" y="28558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4616280" y="5086440"/>
            <a:ext cx="581040" cy="10152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4903920" y="4749840"/>
            <a:ext cx="0" cy="406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72040" y="3641760"/>
            <a:ext cx="2714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cs 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08400" y="3946680"/>
            <a:ext cx="152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1080" y="1679400"/>
            <a:ext cx="2490840" cy="3507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Logique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4520" y="1679400"/>
            <a:ext cx="2403360" cy="350712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7305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2840" y="1706400"/>
            <a:ext cx="2197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06640" y="3848040"/>
            <a:ext cx="1552320" cy="1219320"/>
            <a:chOff x="1106640" y="3848040"/>
            <a:chExt cx="1552320" cy="1219320"/>
          </a:xfrm>
        </p:grpSpPr>
        <p:grpSp>
          <p:nvGrpSpPr>
            <p:cNvPr id="210" name=""/>
            <p:cNvGrpSpPr/>
            <p:nvPr/>
          </p:nvGrpSpPr>
          <p:grpSpPr>
            <a:xfrm>
              <a:off x="1106640" y="3848040"/>
              <a:ext cx="942840" cy="609840"/>
              <a:chOff x="1106640" y="3848040"/>
              <a:chExt cx="942840" cy="609840"/>
            </a:xfrm>
          </p:grpSpPr>
          <p:sp>
            <p:nvSpPr>
              <p:cNvPr id="211" name=""/>
              <p:cNvSpPr/>
              <p:nvPr/>
            </p:nvSpPr>
            <p:spPr>
              <a:xfrm>
                <a:off x="1106640" y="3848040"/>
                <a:ext cx="942840" cy="60984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03480" y="397368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258920" y="4000680"/>
              <a:ext cx="942840" cy="609480"/>
              <a:chOff x="1258920" y="4000680"/>
              <a:chExt cx="942840" cy="609480"/>
            </a:xfrm>
          </p:grpSpPr>
          <p:sp>
            <p:nvSpPr>
              <p:cNvPr id="214" name=""/>
              <p:cNvSpPr/>
              <p:nvPr/>
            </p:nvSpPr>
            <p:spPr>
              <a:xfrm>
                <a:off x="1258920" y="4000680"/>
                <a:ext cx="94284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55760" y="412596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411200" y="4152960"/>
              <a:ext cx="943200" cy="609480"/>
              <a:chOff x="1411200" y="4152960"/>
              <a:chExt cx="943200" cy="609480"/>
            </a:xfrm>
          </p:grpSpPr>
          <p:sp>
            <p:nvSpPr>
              <p:cNvPr id="217" name=""/>
              <p:cNvSpPr/>
              <p:nvPr/>
            </p:nvSpPr>
            <p:spPr>
              <a:xfrm>
                <a:off x="1411200" y="4152960"/>
                <a:ext cx="94320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08040" y="427824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563840" y="4305240"/>
              <a:ext cx="942840" cy="609840"/>
              <a:chOff x="1563840" y="4305240"/>
              <a:chExt cx="942840" cy="609840"/>
            </a:xfrm>
          </p:grpSpPr>
          <p:sp>
            <p:nvSpPr>
              <p:cNvPr id="220" name=""/>
              <p:cNvSpPr/>
              <p:nvPr/>
            </p:nvSpPr>
            <p:spPr>
              <a:xfrm>
                <a:off x="1563840" y="4305240"/>
                <a:ext cx="942840" cy="60984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60680" y="443088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716120" y="4457880"/>
              <a:ext cx="942840" cy="609480"/>
              <a:chOff x="1716120" y="4457880"/>
              <a:chExt cx="942840" cy="609480"/>
            </a:xfrm>
          </p:grpSpPr>
          <p:sp>
            <p:nvSpPr>
              <p:cNvPr id="223" name=""/>
              <p:cNvSpPr/>
              <p:nvPr/>
            </p:nvSpPr>
            <p:spPr>
              <a:xfrm>
                <a:off x="1716120" y="4457880"/>
                <a:ext cx="942840" cy="6094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12960" y="458316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1114560" y="2154240"/>
            <a:ext cx="1555560" cy="1219320"/>
            <a:chOff x="1114560" y="2154240"/>
            <a:chExt cx="1555560" cy="1219320"/>
          </a:xfrm>
        </p:grpSpPr>
        <p:grpSp>
          <p:nvGrpSpPr>
            <p:cNvPr id="226" name=""/>
            <p:cNvGrpSpPr/>
            <p:nvPr/>
          </p:nvGrpSpPr>
          <p:grpSpPr>
            <a:xfrm>
              <a:off x="1114560" y="2154240"/>
              <a:ext cx="946080" cy="609480"/>
              <a:chOff x="1114560" y="2154240"/>
              <a:chExt cx="946080" cy="609480"/>
            </a:xfrm>
          </p:grpSpPr>
          <p:sp>
            <p:nvSpPr>
              <p:cNvPr id="227" name=""/>
              <p:cNvSpPr/>
              <p:nvPr/>
            </p:nvSpPr>
            <p:spPr>
              <a:xfrm>
                <a:off x="1114560" y="21542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17520" y="23256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266840" y="2306520"/>
              <a:ext cx="946080" cy="609840"/>
              <a:chOff x="1266840" y="2306520"/>
              <a:chExt cx="946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1266840" y="23065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0160" y="24782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419120" y="2459160"/>
              <a:ext cx="946080" cy="609480"/>
              <a:chOff x="1419120" y="2459160"/>
              <a:chExt cx="946080" cy="609480"/>
            </a:xfrm>
          </p:grpSpPr>
          <p:sp>
            <p:nvSpPr>
              <p:cNvPr id="233" name=""/>
              <p:cNvSpPr/>
              <p:nvPr/>
            </p:nvSpPr>
            <p:spPr>
              <a:xfrm>
                <a:off x="1419120" y="24591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22440" y="26305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571760" y="2611440"/>
              <a:ext cx="946080" cy="609480"/>
              <a:chOff x="1571760" y="2611440"/>
              <a:chExt cx="946080" cy="609480"/>
            </a:xfrm>
          </p:grpSpPr>
          <p:sp>
            <p:nvSpPr>
              <p:cNvPr id="236" name=""/>
              <p:cNvSpPr/>
              <p:nvPr/>
            </p:nvSpPr>
            <p:spPr>
              <a:xfrm>
                <a:off x="1571760" y="26114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74720" y="27828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724040" y="2763720"/>
              <a:ext cx="946080" cy="609840"/>
              <a:chOff x="1724040" y="2763720"/>
              <a:chExt cx="946080" cy="609840"/>
            </a:xfrm>
          </p:grpSpPr>
          <p:sp>
            <p:nvSpPr>
              <p:cNvPr id="239" name=""/>
              <p:cNvSpPr/>
              <p:nvPr/>
            </p:nvSpPr>
            <p:spPr>
              <a:xfrm>
                <a:off x="1724040" y="27637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27360" y="29354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384280" y="3359160"/>
            <a:ext cx="1135080" cy="853920"/>
            <a:chOff x="2384280" y="3359160"/>
            <a:chExt cx="1135080" cy="853920"/>
          </a:xfrm>
        </p:grpSpPr>
        <p:sp>
          <p:nvSpPr>
            <p:cNvPr id="242" name=""/>
            <p:cNvSpPr/>
            <p:nvPr/>
          </p:nvSpPr>
          <p:spPr>
            <a:xfrm>
              <a:off x="2384280" y="3359160"/>
              <a:ext cx="1105200" cy="853920"/>
            </a:xfrm>
            <a:prstGeom prst="ellipse">
              <a:avLst/>
            </a:prstGeom>
            <a:gradFill rotWithShape="0">
              <a:gsLst>
                <a:gs pos="0">
                  <a:srgbClr val="4c6563"/>
                </a:gs>
                <a:gs pos="100000">
                  <a:srgbClr val="c0fef9"/>
                </a:gs>
              </a:gsLst>
              <a:lin ang="13500000"/>
            </a:gra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5680" y="3513240"/>
              <a:ext cx="1093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Rollback Seg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6840" y="2306520"/>
            <a:ext cx="1555560" cy="1219320"/>
            <a:chOff x="1266840" y="2306520"/>
            <a:chExt cx="1555560" cy="1219320"/>
          </a:xfrm>
        </p:grpSpPr>
        <p:grpSp>
          <p:nvGrpSpPr>
            <p:cNvPr id="245" name=""/>
            <p:cNvGrpSpPr/>
            <p:nvPr/>
          </p:nvGrpSpPr>
          <p:grpSpPr>
            <a:xfrm>
              <a:off x="1266840" y="2306520"/>
              <a:ext cx="946080" cy="609840"/>
              <a:chOff x="1266840" y="2306520"/>
              <a:chExt cx="946080" cy="609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266840" y="23065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70160" y="24782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419120" y="2459160"/>
              <a:ext cx="946080" cy="609480"/>
              <a:chOff x="1419120" y="2459160"/>
              <a:chExt cx="946080" cy="60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1419120" y="24591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2440" y="26305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571760" y="2611440"/>
              <a:ext cx="946080" cy="609480"/>
              <a:chOff x="1571760" y="2611440"/>
              <a:chExt cx="9460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1571760" y="26114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74720" y="27828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724040" y="2763720"/>
              <a:ext cx="946080" cy="609840"/>
              <a:chOff x="1724040" y="2763720"/>
              <a:chExt cx="946080" cy="609840"/>
            </a:xfrm>
          </p:grpSpPr>
          <p:sp>
            <p:nvSpPr>
              <p:cNvPr id="255" name=""/>
              <p:cNvSpPr/>
              <p:nvPr/>
            </p:nvSpPr>
            <p:spPr>
              <a:xfrm>
                <a:off x="1724040" y="2763720"/>
                <a:ext cx="946080" cy="60984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827360" y="293544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876320" y="2916360"/>
              <a:ext cx="946080" cy="609480"/>
              <a:chOff x="1876320" y="2916360"/>
              <a:chExt cx="9460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1876320" y="291636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003c36"/>
                  </a:gs>
                  <a:gs pos="50000">
                    <a:srgbClr val="007a6e"/>
                  </a:gs>
                  <a:gs pos="100000">
                    <a:srgbClr val="003c3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9640" y="30877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3807000" y="2176560"/>
            <a:ext cx="946080" cy="609480"/>
            <a:chOff x="3807000" y="2176560"/>
            <a:chExt cx="946080" cy="609480"/>
          </a:xfrm>
        </p:grpSpPr>
        <p:sp>
          <p:nvSpPr>
            <p:cNvPr id="261" name=""/>
            <p:cNvSpPr/>
            <p:nvPr/>
          </p:nvSpPr>
          <p:spPr>
            <a:xfrm>
              <a:off x="3807000" y="217656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9960" y="234792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959280" y="2328840"/>
            <a:ext cx="946080" cy="609480"/>
            <a:chOff x="3959280" y="2328840"/>
            <a:chExt cx="946080" cy="609480"/>
          </a:xfrm>
        </p:grpSpPr>
        <p:sp>
          <p:nvSpPr>
            <p:cNvPr id="264" name=""/>
            <p:cNvSpPr/>
            <p:nvPr/>
          </p:nvSpPr>
          <p:spPr>
            <a:xfrm>
              <a:off x="3959280" y="232884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62240" y="2500200"/>
              <a:ext cx="73368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111560" y="2481120"/>
            <a:ext cx="946080" cy="609840"/>
            <a:chOff x="4111560" y="2481120"/>
            <a:chExt cx="946080" cy="609840"/>
          </a:xfrm>
        </p:grpSpPr>
        <p:sp>
          <p:nvSpPr>
            <p:cNvPr id="267" name=""/>
            <p:cNvSpPr/>
            <p:nvPr/>
          </p:nvSpPr>
          <p:spPr>
            <a:xfrm>
              <a:off x="4111560" y="2481120"/>
              <a:ext cx="946080" cy="60984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14880" y="265284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64200" y="2633760"/>
            <a:ext cx="946080" cy="609480"/>
            <a:chOff x="4264200" y="2633760"/>
            <a:chExt cx="946080" cy="609480"/>
          </a:xfrm>
        </p:grpSpPr>
        <p:sp>
          <p:nvSpPr>
            <p:cNvPr id="270" name=""/>
            <p:cNvSpPr/>
            <p:nvPr/>
          </p:nvSpPr>
          <p:spPr>
            <a:xfrm>
              <a:off x="4264200" y="263376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67160" y="2805120"/>
              <a:ext cx="733320" cy="2962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405320" y="2786040"/>
            <a:ext cx="946080" cy="609480"/>
          </a:xfrm>
          <a:prstGeom prst="rect">
            <a:avLst/>
          </a:prstGeom>
          <a:gradFill rotWithShape="0">
            <a:gsLst>
              <a:gs pos="0">
                <a:srgbClr val="361c49"/>
              </a:gs>
              <a:gs pos="100000">
                <a:srgbClr val="b760f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08640" y="2957400"/>
            <a:ext cx="73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183200" y="3568680"/>
            <a:ext cx="1342800" cy="1449360"/>
            <a:chOff x="4183200" y="3568680"/>
            <a:chExt cx="1342800" cy="1449360"/>
          </a:xfrm>
        </p:grpSpPr>
        <p:grpSp>
          <p:nvGrpSpPr>
            <p:cNvPr id="275" name=""/>
            <p:cNvGrpSpPr/>
            <p:nvPr/>
          </p:nvGrpSpPr>
          <p:grpSpPr>
            <a:xfrm>
              <a:off x="4183200" y="3568680"/>
              <a:ext cx="733320" cy="839880"/>
              <a:chOff x="4183200" y="3568680"/>
              <a:chExt cx="733320" cy="839880"/>
            </a:xfrm>
          </p:grpSpPr>
          <p:sp>
            <p:nvSpPr>
              <p:cNvPr id="276" name=""/>
              <p:cNvSpPr/>
              <p:nvPr/>
            </p:nvSpPr>
            <p:spPr>
              <a:xfrm>
                <a:off x="4218120" y="3568680"/>
                <a:ext cx="67608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83200" y="38419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335480" y="3720960"/>
              <a:ext cx="733320" cy="839880"/>
              <a:chOff x="4335480" y="3720960"/>
              <a:chExt cx="733320" cy="839880"/>
            </a:xfrm>
          </p:grpSpPr>
          <p:sp>
            <p:nvSpPr>
              <p:cNvPr id="279" name=""/>
              <p:cNvSpPr/>
              <p:nvPr/>
            </p:nvSpPr>
            <p:spPr>
              <a:xfrm>
                <a:off x="4370400" y="3720960"/>
                <a:ext cx="67644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35480" y="399420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487760" y="3873600"/>
              <a:ext cx="733680" cy="839520"/>
              <a:chOff x="4487760" y="3873600"/>
              <a:chExt cx="733680" cy="8395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22680" y="3873600"/>
                <a:ext cx="676440" cy="83952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87760" y="414648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640400" y="4025880"/>
              <a:ext cx="733320" cy="839880"/>
              <a:chOff x="4640400" y="4025880"/>
              <a:chExt cx="733320" cy="839880"/>
            </a:xfrm>
          </p:grpSpPr>
          <p:sp>
            <p:nvSpPr>
              <p:cNvPr id="285" name=""/>
              <p:cNvSpPr/>
              <p:nvPr/>
            </p:nvSpPr>
            <p:spPr>
              <a:xfrm>
                <a:off x="4675320" y="4025880"/>
                <a:ext cx="67608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0400" y="429912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792680" y="4178160"/>
              <a:ext cx="733320" cy="839880"/>
              <a:chOff x="4792680" y="4178160"/>
              <a:chExt cx="733320" cy="839880"/>
            </a:xfrm>
          </p:grpSpPr>
          <p:sp>
            <p:nvSpPr>
              <p:cNvPr id="288" name=""/>
              <p:cNvSpPr/>
              <p:nvPr/>
            </p:nvSpPr>
            <p:spPr>
              <a:xfrm>
                <a:off x="4827600" y="4178160"/>
                <a:ext cx="676440" cy="839880"/>
              </a:xfrm>
              <a:prstGeom prst="rect">
                <a:avLst/>
              </a:prstGeom>
              <a:gradFill rotWithShape="0">
                <a:gsLst>
                  <a:gs pos="0">
                    <a:srgbClr val="4363af"/>
                  </a:gs>
                  <a:gs pos="50000">
                    <a:srgbClr val="618ffd"/>
                  </a:gs>
                  <a:gs pos="100000">
                    <a:srgbClr val="4363a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92680" y="4451400"/>
                <a:ext cx="7333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6006960" y="1679400"/>
            <a:ext cx="2490840" cy="3507120"/>
          </a:xfrm>
          <a:prstGeom prst="rect">
            <a:avLst/>
          </a:prstGeom>
          <a:gradFill rotWithShape="0">
            <a:gsLst>
              <a:gs pos="0">
                <a:srgbClr val="394b49"/>
              </a:gs>
              <a:gs pos="100000">
                <a:srgbClr val="c0fef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65880" y="17305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291360" y="2189160"/>
            <a:ext cx="1912680" cy="320760"/>
            <a:chOff x="6291360" y="2189160"/>
            <a:chExt cx="1912680" cy="320760"/>
          </a:xfrm>
        </p:grpSpPr>
        <p:sp>
          <p:nvSpPr>
            <p:cNvPr id="293" name=""/>
            <p:cNvSpPr/>
            <p:nvPr/>
          </p:nvSpPr>
          <p:spPr>
            <a:xfrm>
              <a:off x="6291360" y="218916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5520" y="220032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291360" y="4210200"/>
            <a:ext cx="1912680" cy="320400"/>
            <a:chOff x="6291360" y="4210200"/>
            <a:chExt cx="1912680" cy="320400"/>
          </a:xfrm>
        </p:grpSpPr>
        <p:sp>
          <p:nvSpPr>
            <p:cNvPr id="296" name=""/>
            <p:cNvSpPr/>
            <p:nvPr/>
          </p:nvSpPr>
          <p:spPr>
            <a:xfrm>
              <a:off x="6291360" y="4210200"/>
              <a:ext cx="1912680" cy="32040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5520" y="422100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291360" y="4668840"/>
            <a:ext cx="1912680" cy="320760"/>
            <a:chOff x="6291360" y="4668840"/>
            <a:chExt cx="1912680" cy="320760"/>
          </a:xfrm>
        </p:grpSpPr>
        <p:sp>
          <p:nvSpPr>
            <p:cNvPr id="299" name=""/>
            <p:cNvSpPr/>
            <p:nvPr/>
          </p:nvSpPr>
          <p:spPr>
            <a:xfrm>
              <a:off x="6291360" y="466884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5520" y="468000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91360" y="3247920"/>
            <a:ext cx="1912680" cy="320760"/>
            <a:chOff x="6291360" y="3247920"/>
            <a:chExt cx="1912680" cy="320760"/>
          </a:xfrm>
        </p:grpSpPr>
        <p:sp>
          <p:nvSpPr>
            <p:cNvPr id="302" name=""/>
            <p:cNvSpPr/>
            <p:nvPr/>
          </p:nvSpPr>
          <p:spPr>
            <a:xfrm>
              <a:off x="6291360" y="3247920"/>
              <a:ext cx="1912680" cy="32076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5520" y="325908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291360" y="2717640"/>
            <a:ext cx="1912680" cy="320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05520" y="2728800"/>
            <a:ext cx="733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91360" y="3751200"/>
            <a:ext cx="1912680" cy="320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5520" y="3762360"/>
            <a:ext cx="733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44600" y="1665360"/>
            <a:ext cx="4816440" cy="280512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394978"/>
              </a:gs>
              <a:gs pos="50000">
                <a:srgbClr val="081d58"/>
              </a:gs>
              <a:gs pos="100000">
                <a:srgbClr val="394978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5560" y="3409920"/>
            <a:ext cx="6001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30640" y="2787480"/>
            <a:ext cx="60012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48240" y="5646600"/>
            <a:ext cx="189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Base de Donné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73680" y="5105520"/>
            <a:ext cx="1245960" cy="576000"/>
            <a:chOff x="3973680" y="5105520"/>
            <a:chExt cx="1245960" cy="576000"/>
          </a:xfrm>
        </p:grpSpPr>
        <p:sp>
          <p:nvSpPr>
            <p:cNvPr id="320" name=""/>
            <p:cNvSpPr/>
            <p:nvPr/>
          </p:nvSpPr>
          <p:spPr>
            <a:xfrm>
              <a:off x="3973680" y="52261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73680" y="510552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73680" y="5460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014800" y="467208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Fich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4760" y="28432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186520" y="3403440"/>
            <a:ext cx="1425240" cy="698760"/>
            <a:chOff x="5186520" y="3403440"/>
            <a:chExt cx="1425240" cy="698760"/>
          </a:xfrm>
        </p:grpSpPr>
        <p:sp>
          <p:nvSpPr>
            <p:cNvPr id="326" name=""/>
            <p:cNvSpPr/>
            <p:nvPr/>
          </p:nvSpPr>
          <p:spPr>
            <a:xfrm>
              <a:off x="5186520" y="3409920"/>
              <a:ext cx="14252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6568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48440" y="34034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892760" y="2787480"/>
            <a:ext cx="1425600" cy="6858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68760" y="1943280"/>
            <a:ext cx="2311200" cy="876240"/>
          </a:xfrm>
          <a:prstGeom prst="rect">
            <a:avLst/>
          </a:prstGeom>
          <a:gradFill rotWithShape="0">
            <a:gsLst>
              <a:gs pos="0">
                <a:srgbClr val="003c36"/>
              </a:gs>
              <a:gs pos="50000">
                <a:srgbClr val="007a6e"/>
              </a:gs>
              <a:gs pos="100000">
                <a:srgbClr val="003c36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57400" y="2271600"/>
            <a:ext cx="18907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gment 2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75120" y="5194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610160" y="5079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99000" y="4478400"/>
            <a:ext cx="0" cy="588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05360" y="4749840"/>
            <a:ext cx="40644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0200" y="2832120"/>
            <a:ext cx="137016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94360" y="1943280"/>
            <a:ext cx="1230120" cy="838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6280" y="2781360"/>
            <a:ext cx="3031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1760" y="2819520"/>
            <a:ext cx="1242720" cy="6476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29200" y="3467160"/>
            <a:ext cx="31572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38680" y="3479760"/>
            <a:ext cx="316080" cy="622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90960" y="3467160"/>
            <a:ext cx="316080" cy="6094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26280" y="3467160"/>
            <a:ext cx="290520" cy="6220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52960" y="2855880"/>
            <a:ext cx="108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616280" y="5086440"/>
            <a:ext cx="581040" cy="101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903920" y="4749840"/>
            <a:ext cx="0" cy="4064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72040" y="3641760"/>
            <a:ext cx="2714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cs 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08400" y="3946680"/>
            <a:ext cx="152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Tabl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ablespac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492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Tablespace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ndispensable pour que la Base de Données puisse fonctionn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les informations du dictionnaire de données, les définitions des procédures stockées, des packages, et des triggers de la Base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ient le segment de rollback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contenir des données « utilisateur » (non recommandé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Tablespaces Non system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mettent plus de flexibilité dans l’administration de la Base de Donn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sistent en segments de rollbacks, segments temporaires, données d’application, index d’application, espace utilisateur, etc ..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104840" y="1590840"/>
            <a:ext cx="7416720" cy="3506760"/>
            <a:chOff x="1104840" y="1590840"/>
            <a:chExt cx="7416720" cy="3506760"/>
          </a:xfrm>
        </p:grpSpPr>
        <p:sp>
          <p:nvSpPr>
            <p:cNvPr id="364" name=""/>
            <p:cNvSpPr/>
            <p:nvPr/>
          </p:nvSpPr>
          <p:spPr>
            <a:xfrm>
              <a:off x="1104840" y="1590840"/>
              <a:ext cx="2490840" cy="350676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08280" y="1590840"/>
              <a:ext cx="2403720" cy="35067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76600" y="1617840"/>
              <a:ext cx="21970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Tablespace 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130400" y="3759120"/>
              <a:ext cx="1552320" cy="1219320"/>
              <a:chOff x="1130400" y="3759120"/>
              <a:chExt cx="1552320" cy="12193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130400" y="3759120"/>
                <a:ext cx="942840" cy="609840"/>
                <a:chOff x="1130400" y="3759120"/>
                <a:chExt cx="94284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130400" y="3759120"/>
                  <a:ext cx="94284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227240" y="388476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282680" y="3911760"/>
                <a:ext cx="942840" cy="609480"/>
                <a:chOff x="1282680" y="3911760"/>
                <a:chExt cx="942840" cy="609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282680" y="3911760"/>
                  <a:ext cx="9428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9520" y="403704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434960" y="4064040"/>
                <a:ext cx="943200" cy="609480"/>
                <a:chOff x="1434960" y="4064040"/>
                <a:chExt cx="943200" cy="609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434960" y="4064040"/>
                  <a:ext cx="94320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531800" y="418932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587600" y="4216320"/>
                <a:ext cx="942840" cy="609840"/>
                <a:chOff x="1587600" y="4216320"/>
                <a:chExt cx="942840" cy="609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587600" y="4216320"/>
                  <a:ext cx="94284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84440" y="434196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739880" y="4368960"/>
                <a:ext cx="942840" cy="609480"/>
                <a:chOff x="1739880" y="4368960"/>
                <a:chExt cx="942840" cy="609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739880" y="4368960"/>
                  <a:ext cx="9428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36720" y="449424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dex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138320" y="2065320"/>
              <a:ext cx="1555560" cy="1219320"/>
              <a:chOff x="1138320" y="2065320"/>
              <a:chExt cx="1555560" cy="12193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138320" y="2065320"/>
                <a:ext cx="946080" cy="609480"/>
                <a:chOff x="1138320" y="2065320"/>
                <a:chExt cx="946080" cy="609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38320" y="20653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41280" y="22366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1290600" y="2217600"/>
                <a:ext cx="946080" cy="609840"/>
                <a:chOff x="1290600" y="2217600"/>
                <a:chExt cx="946080" cy="60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290600" y="22176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393920" y="23893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442880" y="2370240"/>
                <a:ext cx="946440" cy="609480"/>
                <a:chOff x="1442880" y="2370240"/>
                <a:chExt cx="946440" cy="6094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442880" y="23702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46200" y="25416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1595520" y="2522520"/>
                <a:ext cx="946080" cy="609480"/>
                <a:chOff x="1595520" y="2522520"/>
                <a:chExt cx="946080" cy="609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95520" y="25225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698480" y="26938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747800" y="2674800"/>
                <a:ext cx="946080" cy="609840"/>
                <a:chOff x="1747800" y="2674800"/>
                <a:chExt cx="946080" cy="6098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747800" y="26748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51120" y="28465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484360" y="3452760"/>
              <a:ext cx="1135080" cy="939960"/>
              <a:chOff x="2484360" y="3452760"/>
              <a:chExt cx="1135080" cy="939960"/>
            </a:xfrm>
          </p:grpSpPr>
          <p:sp>
            <p:nvSpPr>
              <p:cNvPr id="400" name=""/>
              <p:cNvSpPr/>
              <p:nvPr/>
            </p:nvSpPr>
            <p:spPr>
              <a:xfrm>
                <a:off x="2484360" y="3452760"/>
                <a:ext cx="1104840" cy="939960"/>
              </a:xfrm>
              <a:prstGeom prst="ellipse">
                <a:avLst/>
              </a:prstGeom>
              <a:gradFill rotWithShape="0">
                <a:gsLst>
                  <a:gs pos="0">
                    <a:srgbClr val="4c6563"/>
                  </a:gs>
                  <a:gs pos="100000">
                    <a:srgbClr val="c0fef9"/>
                  </a:gs>
                </a:gsLst>
                <a:lin ang="13500000"/>
              </a:gra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25760" y="3625920"/>
                <a:ext cx="109368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Rollback Segment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1290600" y="2217600"/>
              <a:ext cx="1555920" cy="1219320"/>
              <a:chOff x="1290600" y="2217600"/>
              <a:chExt cx="1555920" cy="12193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290600" y="2217600"/>
                <a:ext cx="946080" cy="609840"/>
                <a:chOff x="1290600" y="2217600"/>
                <a:chExt cx="946080" cy="609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290600" y="22176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93920" y="23893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442880" y="2370240"/>
                <a:ext cx="946440" cy="609480"/>
                <a:chOff x="1442880" y="2370240"/>
                <a:chExt cx="946440" cy="609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442880" y="23702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46200" y="25416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95520" y="2522520"/>
                <a:ext cx="946080" cy="609480"/>
                <a:chOff x="1595520" y="2522520"/>
                <a:chExt cx="946080" cy="60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95520" y="2522520"/>
                  <a:ext cx="94608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98480" y="269388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747800" y="2674800"/>
                <a:ext cx="946080" cy="609840"/>
                <a:chOff x="1747800" y="2674800"/>
                <a:chExt cx="946080" cy="60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747800" y="2674800"/>
                  <a:ext cx="946080" cy="6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51120" y="284652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900080" y="2827440"/>
                <a:ext cx="946440" cy="609480"/>
                <a:chOff x="1900080" y="2827440"/>
                <a:chExt cx="946440" cy="609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900080" y="2827440"/>
                  <a:ext cx="9464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c36"/>
                    </a:gs>
                    <a:gs pos="50000">
                      <a:srgbClr val="007a6e"/>
                    </a:gs>
                    <a:gs pos="100000">
                      <a:srgbClr val="003c36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003400" y="29988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3830760" y="2087640"/>
              <a:ext cx="946080" cy="609480"/>
              <a:chOff x="3830760" y="2087640"/>
              <a:chExt cx="946080" cy="609480"/>
            </a:xfrm>
          </p:grpSpPr>
          <p:sp>
            <p:nvSpPr>
              <p:cNvPr id="419" name=""/>
              <p:cNvSpPr/>
              <p:nvPr/>
            </p:nvSpPr>
            <p:spPr>
              <a:xfrm>
                <a:off x="3830760" y="20876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33720" y="2259000"/>
                <a:ext cx="73368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983040" y="2239920"/>
              <a:ext cx="946080" cy="609480"/>
              <a:chOff x="3983040" y="2239920"/>
              <a:chExt cx="946080" cy="609480"/>
            </a:xfrm>
          </p:grpSpPr>
          <p:sp>
            <p:nvSpPr>
              <p:cNvPr id="422" name=""/>
              <p:cNvSpPr/>
              <p:nvPr/>
            </p:nvSpPr>
            <p:spPr>
              <a:xfrm>
                <a:off x="3983040" y="223992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086360" y="2411280"/>
                <a:ext cx="73332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4135320" y="2392200"/>
              <a:ext cx="946440" cy="609840"/>
              <a:chOff x="4135320" y="2392200"/>
              <a:chExt cx="946440" cy="609840"/>
            </a:xfrm>
          </p:grpSpPr>
          <p:sp>
            <p:nvSpPr>
              <p:cNvPr id="425" name=""/>
              <p:cNvSpPr/>
              <p:nvPr/>
            </p:nvSpPr>
            <p:spPr>
              <a:xfrm>
                <a:off x="4135320" y="2392200"/>
                <a:ext cx="946440" cy="60984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38640" y="2563920"/>
                <a:ext cx="73332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287960" y="2544840"/>
              <a:ext cx="946080" cy="609480"/>
              <a:chOff x="4287960" y="2544840"/>
              <a:chExt cx="946080" cy="609480"/>
            </a:xfrm>
          </p:grpSpPr>
          <p:sp>
            <p:nvSpPr>
              <p:cNvPr id="428" name=""/>
              <p:cNvSpPr/>
              <p:nvPr/>
            </p:nvSpPr>
            <p:spPr>
              <a:xfrm>
                <a:off x="4287960" y="2544840"/>
                <a:ext cx="946080" cy="6094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90920" y="2716200"/>
                <a:ext cx="733680" cy="29628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4429080" y="2697120"/>
              <a:ext cx="946080" cy="609480"/>
            </a:xfrm>
            <a:prstGeom prst="rect">
              <a:avLst/>
            </a:prstGeom>
            <a:gradFill rotWithShape="0">
              <a:gsLst>
                <a:gs pos="0">
                  <a:srgbClr val="361c49"/>
                </a:gs>
                <a:gs pos="100000">
                  <a:srgbClr val="b760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32400" y="2868480"/>
              <a:ext cx="733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206960" y="3479760"/>
              <a:ext cx="1342800" cy="1449360"/>
              <a:chOff x="4206960" y="3479760"/>
              <a:chExt cx="1342800" cy="14493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4206960" y="3479760"/>
                <a:ext cx="733320" cy="839880"/>
                <a:chOff x="4206960" y="3479760"/>
                <a:chExt cx="733320" cy="8398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241880" y="3479760"/>
                  <a:ext cx="67608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206960" y="37530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359240" y="3632040"/>
                <a:ext cx="733320" cy="839880"/>
                <a:chOff x="4359240" y="3632040"/>
                <a:chExt cx="733320" cy="8398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394160" y="363204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59240" y="390528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511520" y="3784680"/>
                <a:ext cx="733680" cy="839880"/>
                <a:chOff x="4511520" y="3784680"/>
                <a:chExt cx="733680" cy="8398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546440" y="378468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511520" y="4057560"/>
                  <a:ext cx="73368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64160" y="3936960"/>
                <a:ext cx="733320" cy="839880"/>
                <a:chOff x="4664160" y="3936960"/>
                <a:chExt cx="733320" cy="8398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3936960"/>
                  <a:ext cx="67608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4160" y="421020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816440" y="4089240"/>
                <a:ext cx="733320" cy="839880"/>
                <a:chOff x="4816440" y="4089240"/>
                <a:chExt cx="733320" cy="8398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851360" y="4089240"/>
                  <a:ext cx="676440" cy="83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63af"/>
                    </a:gs>
                    <a:gs pos="50000">
                      <a:srgbClr val="618ffd"/>
                    </a:gs>
                    <a:gs pos="100000">
                      <a:srgbClr val="4363a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816440" y="4362480"/>
                  <a:ext cx="7333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400" bIns="41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abl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6031080" y="1590840"/>
              <a:ext cx="2490480" cy="3506760"/>
            </a:xfrm>
            <a:prstGeom prst="rect">
              <a:avLst/>
            </a:prstGeom>
            <a:gradFill rotWithShape="0">
              <a:gsLst>
                <a:gs pos="0">
                  <a:srgbClr val="394b49"/>
                </a:gs>
                <a:gs pos="100000">
                  <a:srgbClr val="c0fef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315120" y="2100240"/>
              <a:ext cx="1913040" cy="320760"/>
              <a:chOff x="6315120" y="2100240"/>
              <a:chExt cx="1913040" cy="320760"/>
            </a:xfrm>
          </p:grpSpPr>
          <p:sp>
            <p:nvSpPr>
              <p:cNvPr id="450" name=""/>
              <p:cNvSpPr/>
              <p:nvPr/>
            </p:nvSpPr>
            <p:spPr>
              <a:xfrm>
                <a:off x="6315120" y="210024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29280" y="211140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15120" y="4121280"/>
              <a:ext cx="1913040" cy="320400"/>
              <a:chOff x="6315120" y="4121280"/>
              <a:chExt cx="1913040" cy="320400"/>
            </a:xfrm>
          </p:grpSpPr>
          <p:sp>
            <p:nvSpPr>
              <p:cNvPr id="453" name=""/>
              <p:cNvSpPr/>
              <p:nvPr/>
            </p:nvSpPr>
            <p:spPr>
              <a:xfrm>
                <a:off x="6315120" y="4121280"/>
                <a:ext cx="1913040" cy="32040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29280" y="413244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15120" y="4579920"/>
              <a:ext cx="1913040" cy="320760"/>
              <a:chOff x="6315120" y="4579920"/>
              <a:chExt cx="1913040" cy="320760"/>
            </a:xfrm>
          </p:grpSpPr>
          <p:sp>
            <p:nvSpPr>
              <p:cNvPr id="456" name=""/>
              <p:cNvSpPr/>
              <p:nvPr/>
            </p:nvSpPr>
            <p:spPr>
              <a:xfrm>
                <a:off x="6315120" y="457992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929280" y="459108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315120" y="3159000"/>
              <a:ext cx="1913040" cy="320760"/>
              <a:chOff x="6315120" y="3159000"/>
              <a:chExt cx="1913040" cy="320760"/>
            </a:xfrm>
          </p:grpSpPr>
          <p:sp>
            <p:nvSpPr>
              <p:cNvPr id="459" name=""/>
              <p:cNvSpPr/>
              <p:nvPr/>
            </p:nvSpPr>
            <p:spPr>
              <a:xfrm>
                <a:off x="6315120" y="3159000"/>
                <a:ext cx="1913040" cy="320760"/>
              </a:xfrm>
              <a:prstGeom prst="rect">
                <a:avLst/>
              </a:prstGeom>
              <a:gradFill rotWithShape="0">
                <a:gsLst>
                  <a:gs pos="0">
                    <a:srgbClr val="361c49"/>
                  </a:gs>
                  <a:gs pos="100000">
                    <a:srgbClr val="b760f9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29280" y="3170160"/>
                <a:ext cx="7336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de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315120" y="2629080"/>
              <a:ext cx="1913040" cy="32040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29280" y="263988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15120" y="3662280"/>
              <a:ext cx="1913040" cy="320760"/>
            </a:xfrm>
            <a:prstGeom prst="rect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29280" y="3673440"/>
              <a:ext cx="73368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Physique de la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32000" y="52484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43160" y="4844880"/>
            <a:ext cx="838080" cy="7066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311560" y="5549760"/>
            <a:ext cx="1245960" cy="576360"/>
            <a:chOff x="2311560" y="5549760"/>
            <a:chExt cx="1245960" cy="576360"/>
          </a:xfrm>
        </p:grpSpPr>
        <p:sp>
          <p:nvSpPr>
            <p:cNvPr id="469" name=""/>
            <p:cNvSpPr/>
            <p:nvPr/>
          </p:nvSpPr>
          <p:spPr>
            <a:xfrm>
              <a:off x="2311560" y="567072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11560" y="554976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59054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06760" y="5537160"/>
            <a:ext cx="1246320" cy="576360"/>
            <a:chOff x="4406760" y="5537160"/>
            <a:chExt cx="1246320" cy="576360"/>
          </a:xfrm>
        </p:grpSpPr>
        <p:sp>
          <p:nvSpPr>
            <p:cNvPr id="473" name=""/>
            <p:cNvSpPr/>
            <p:nvPr/>
          </p:nvSpPr>
          <p:spPr>
            <a:xfrm>
              <a:off x="4406760" y="5657760"/>
              <a:ext cx="124632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06760" y="5537160"/>
              <a:ext cx="124632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06760" y="5892840"/>
              <a:ext cx="124632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5102280" y="4716360"/>
            <a:ext cx="536400" cy="7700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10240" y="52592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67640" y="4710240"/>
            <a:ext cx="1233360" cy="7761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289240" y="5567400"/>
            <a:ext cx="639720" cy="10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419720" y="5519880"/>
            <a:ext cx="1238040" cy="21564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7074000" y="5537160"/>
            <a:ext cx="1245960" cy="576360"/>
            <a:chOff x="7074000" y="5537160"/>
            <a:chExt cx="1245960" cy="576360"/>
          </a:xfrm>
        </p:grpSpPr>
        <p:sp>
          <p:nvSpPr>
            <p:cNvPr id="482" name=""/>
            <p:cNvSpPr/>
            <p:nvPr/>
          </p:nvSpPr>
          <p:spPr>
            <a:xfrm>
              <a:off x="7074000" y="5657760"/>
              <a:ext cx="1245960" cy="34128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4000" y="553716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4000" y="5892840"/>
              <a:ext cx="1245960" cy="22068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532400" y="5259240"/>
            <a:ext cx="10810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BFILE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Boîte de Dialogue </a:t>
            </a:r>
            <a:r>
              <a:rPr b="1" i="1" lang="fr-FR" sz="2800" spc="-1" strike="noStrike">
                <a:solidFill>
                  <a:srgbClr val="3365fb"/>
                </a:solidFill>
                <a:latin typeface="Times New Roman"/>
              </a:rPr>
              <a:t>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2271600" y="1692360"/>
            <a:ext cx="4589640" cy="407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yntaxe de Create Tablespac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87720" y="1863720"/>
            <a:ext cx="42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080200" y="1787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72600" y="1758960"/>
            <a:ext cx="27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108080" y="1865160"/>
            <a:ext cx="18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6920" y="22096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97160" y="20336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260440" y="2208240"/>
            <a:ext cx="242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40480" y="2225520"/>
            <a:ext cx="2373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13600" y="22240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98880" y="2489040"/>
            <a:ext cx="5122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935280" y="24177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8078400" y="24127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84400" y="2384280"/>
            <a:ext cx="93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ATAF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020240" y="2490840"/>
            <a:ext cx="17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095200" y="2490840"/>
            <a:ext cx="304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43600" y="2362320"/>
            <a:ext cx="75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filesp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923760" y="3236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8042040" y="32331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979560" y="330840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7960" y="3316320"/>
            <a:ext cx="1440" cy="1030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600" y="3314880"/>
            <a:ext cx="1800" cy="1019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5400000">
            <a:off x="7894800" y="32353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6280" y="30304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372680" y="3029040"/>
            <a:ext cx="375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30720" y="3040200"/>
            <a:ext cx="0" cy="266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682280" y="359424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64240" y="3583080"/>
            <a:ext cx="210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0440" y="3460680"/>
            <a:ext cx="284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EFAULT 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torage_cla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680840" y="3830760"/>
            <a:ext cx="631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38480" y="3819600"/>
            <a:ext cx="1835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120" y="3697200"/>
            <a:ext cx="76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ON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054160" y="411336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60640" y="383076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38480" y="4113360"/>
            <a:ext cx="79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33720" y="382752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19120" y="397368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FF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679400" y="4346640"/>
            <a:ext cx="609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71920" y="4346640"/>
            <a:ext cx="1400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19120" y="4214880"/>
            <a:ext cx="114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81d58"/>
                </a:solidFill>
                <a:uFillTx/>
                <a:latin typeface="Arial"/>
              </a:rPr>
              <a:t>PERMA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065320" y="464184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71800" y="435924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18760" y="450216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EMPO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54560" y="4641840"/>
            <a:ext cx="79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49800" y="435600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2:20:42Z</dcterms:created>
  <dc:creator>Paul SCHARWATT / CTOP</dc:creator>
  <dc:description/>
  <dc:language>en-US</dc:language>
  <cp:lastModifiedBy>MEDI TELECOM</cp:lastModifiedBy>
  <cp:lastPrinted>1996-06-13T17:02:44Z</cp:lastPrinted>
  <dcterms:modified xsi:type="dcterms:W3CDTF">2001-04-11T14:58:36Z</dcterms:modified>
  <cp:revision>15251</cp:revision>
  <dc:subject/>
  <dc:title>Chapitre 6</dc:title>
</cp:coreProperties>
</file>