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961B5E-0A2B-4D7E-9701-79CA026A7CF7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491000"/>
            <a:ext cx="502920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DE3-1538-425A-A17D-4B14FD43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BB7-0D75-4792-9F28-59957EC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ADE-D10F-4DED-ABA9-FAE3D011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32E-0968-4CE0-B8B9-3E2F21BD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0CC-DD5A-42C5-8C30-CFC02A8D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4A9-D8D8-470D-BEFA-89FDAF1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364-E773-4292-826E-DD40F67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D71-4E28-49FA-A55B-B39DC9A9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A93-38CE-454B-971F-F049C13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76D-9901-440E-8E26-BE1742C1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69D-01E0-4CB7-B2AC-EF83209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46B-2605-4378-93DD-0AF3A46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6C5F96-291B-4F9D-81AA-B47CCA998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140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5 - </a:t>
            </a:r>
            <a:fld id="{3DCD57E9-05FF-4AC9-8EB9-B85ED8048D67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74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23308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5: Gérer la Concurrence et la Cohérence des Transaction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Log Writer (LGWR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LGWR écrit les entrées du buffer redo log dans les fichiers redo log lor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commit se produ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ool du buffer redo log est rempli au ti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WR achève l’écriture des buffers de données lors du checkpoint (point de synchronisation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time-ou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Commi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utilisateur effectue un COMM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commit record est écrit dans le buffer redo log pour cette transac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LGWR vide le buffer redo log dans le groupe de redo logs coura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utilisateur est averti que la transaction a été valid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errous sur les blocs de données et de rollback sont libér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DBWR va éventuellement écrire les blocs Oracle sur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025720"/>
            <a:ext cx="3040200" cy="2354040"/>
            <a:chOff x="1338120" y="2025720"/>
            <a:chExt cx="3040200" cy="2354040"/>
          </a:xfrm>
        </p:grpSpPr>
        <p:sp>
          <p:nvSpPr>
            <p:cNvPr id="532" name=""/>
            <p:cNvSpPr/>
            <p:nvPr/>
          </p:nvSpPr>
          <p:spPr>
            <a:xfrm>
              <a:off x="1338120" y="2505240"/>
              <a:ext cx="3040200" cy="1406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8120" y="202572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8120" y="347652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Permutation de Fichier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49520" y="3206880"/>
            <a:ext cx="844560" cy="653760"/>
            <a:chOff x="1649520" y="3206880"/>
            <a:chExt cx="844560" cy="653760"/>
          </a:xfrm>
        </p:grpSpPr>
        <p:sp>
          <p:nvSpPr>
            <p:cNvPr id="537" name=""/>
            <p:cNvSpPr/>
            <p:nvPr/>
          </p:nvSpPr>
          <p:spPr>
            <a:xfrm>
              <a:off x="1649520" y="334008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49520" y="32068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49520" y="36100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828440" y="350676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22560" y="3206880"/>
            <a:ext cx="844560" cy="653760"/>
            <a:chOff x="3022560" y="3206880"/>
            <a:chExt cx="844560" cy="653760"/>
          </a:xfrm>
        </p:grpSpPr>
        <p:sp>
          <p:nvSpPr>
            <p:cNvPr id="542" name=""/>
            <p:cNvSpPr/>
            <p:nvPr/>
          </p:nvSpPr>
          <p:spPr>
            <a:xfrm>
              <a:off x="3022560" y="334008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22560" y="32068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822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22560" y="361008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689360" y="2001960"/>
            <a:ext cx="3040200" cy="2354040"/>
            <a:chOff x="4689360" y="2001960"/>
            <a:chExt cx="3040200" cy="2354040"/>
          </a:xfrm>
        </p:grpSpPr>
        <p:sp>
          <p:nvSpPr>
            <p:cNvPr id="546" name=""/>
            <p:cNvSpPr/>
            <p:nvPr/>
          </p:nvSpPr>
          <p:spPr>
            <a:xfrm>
              <a:off x="4689360" y="2481120"/>
              <a:ext cx="3040200" cy="140652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89360" y="200196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89360" y="3452760"/>
              <a:ext cx="3040200" cy="9032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000760" y="3182760"/>
            <a:ext cx="844560" cy="654120"/>
            <a:chOff x="5000760" y="3182760"/>
            <a:chExt cx="844560" cy="654120"/>
          </a:xfrm>
        </p:grpSpPr>
        <p:grpSp>
          <p:nvGrpSpPr>
            <p:cNvPr id="550" name=""/>
            <p:cNvGrpSpPr/>
            <p:nvPr/>
          </p:nvGrpSpPr>
          <p:grpSpPr>
            <a:xfrm>
              <a:off x="5000760" y="3182760"/>
              <a:ext cx="844560" cy="654120"/>
              <a:chOff x="5000760" y="3182760"/>
              <a:chExt cx="844560" cy="654120"/>
            </a:xfrm>
          </p:grpSpPr>
          <p:sp>
            <p:nvSpPr>
              <p:cNvPr id="551" name=""/>
              <p:cNvSpPr/>
              <p:nvPr/>
            </p:nvSpPr>
            <p:spPr>
              <a:xfrm>
                <a:off x="5000760" y="3316320"/>
                <a:ext cx="844560" cy="390600"/>
              </a:xfrm>
              <a:prstGeom prst="rect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00760" y="3182760"/>
                <a:ext cx="844560" cy="250920"/>
              </a:xfrm>
              <a:prstGeom prst="ellipse">
                <a:avLst/>
              </a:prstGeom>
              <a:gradFill rotWithShape="0">
                <a:gsLst>
                  <a:gs pos="0">
                    <a:srgbClr val="8cf4ea"/>
                  </a:gs>
                  <a:gs pos="100000">
                    <a:srgbClr val="3761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00760" y="3586320"/>
                <a:ext cx="844560" cy="250560"/>
              </a:xfrm>
              <a:prstGeom prst="ellipse">
                <a:avLst/>
              </a:prstGeom>
              <a:gradFill rotWithShape="0">
                <a:gsLst>
                  <a:gs pos="0">
                    <a:srgbClr val="61a9a2"/>
                  </a:gs>
                  <a:gs pos="50000">
                    <a:srgbClr val="8cf4ea"/>
                  </a:gs>
                  <a:gs pos="100000">
                    <a:srgbClr val="61a9a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176440" y="3481560"/>
              <a:ext cx="41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57b49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2047680" y="22082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qu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65800" y="21938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qu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01440" y="4622760"/>
            <a:ext cx="24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Groupe de Redo Log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43040" y="4622760"/>
            <a:ext cx="24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Groupe de Redo Log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07640" y="31701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5420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268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38520" y="4941720"/>
            <a:ext cx="21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18ffd"/>
                </a:solidFill>
                <a:latin typeface="Times New Roman"/>
              </a:rPr>
              <a:t>Séquence de Log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78680" y="4896000"/>
            <a:ext cx="21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18ffd"/>
                </a:solidFill>
                <a:latin typeface="Times New Roman"/>
              </a:rPr>
              <a:t>Séquence de Log 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25240" y="349416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1487520"/>
            <a:ext cx="5410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e prochain numéro de séquence de log est assign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37000" y="3887640"/>
            <a:ext cx="1752480" cy="939960"/>
          </a:xfrm>
          <a:prstGeom prst="line">
            <a:avLst/>
          </a:prstGeom>
          <a:ln w="12600">
            <a:solidFill>
              <a:srgbClr val="f57b4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442200" y="3852720"/>
            <a:ext cx="387360" cy="763560"/>
          </a:xfrm>
          <a:prstGeom prst="line">
            <a:avLst/>
          </a:prstGeom>
          <a:ln w="12600">
            <a:solidFill>
              <a:srgbClr val="f57b4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375240" y="3187800"/>
            <a:ext cx="844560" cy="654120"/>
            <a:chOff x="6375240" y="3187800"/>
            <a:chExt cx="844560" cy="654120"/>
          </a:xfrm>
        </p:grpSpPr>
        <p:sp>
          <p:nvSpPr>
            <p:cNvPr id="569" name=""/>
            <p:cNvSpPr/>
            <p:nvPr/>
          </p:nvSpPr>
          <p:spPr>
            <a:xfrm>
              <a:off x="6375240" y="3321000"/>
              <a:ext cx="844560" cy="390600"/>
            </a:xfrm>
            <a:prstGeom prst="rect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75240" y="3187800"/>
              <a:ext cx="844560" cy="250560"/>
            </a:xfrm>
            <a:prstGeom prst="ellipse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822ec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75240" y="3591000"/>
              <a:ext cx="844560" cy="250920"/>
            </a:xfrm>
            <a:prstGeom prst="ellipse">
              <a:avLst/>
            </a:prstGeom>
            <a:gradFill rotWithShape="0">
              <a:gsLst>
                <a:gs pos="0">
                  <a:srgbClr val="822ec3"/>
                </a:gs>
                <a:gs pos="50000">
                  <a:srgbClr val="9234db"/>
                </a:gs>
                <a:gs pos="100000">
                  <a:srgbClr val="822e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601320" y="315612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76480" y="34704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Checkpoi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94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checkpoints (Points de synchronisation) garantissent que tous les buffers de données modifiés sont écrits dans les fichiers de données.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fichiers de données sont marqués « en cours » relativement à un temps donné, et le checkpoint est enregistré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010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Quand les Checkpoints se Produisent-ils 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9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 chaque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log switch 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nombre de secondes spécifié après le dernier checkpoint 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un nombre prédéterminé de blocs du redo log ont été écrits sur disque depuis le dernier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u 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shutdown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 de l’instance, à moins que l’instance ne soit interromp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il est déclenché par un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orsqu’un tablespace est mis off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a Synchronisation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3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 chaque checkpoint, le numéro de séquence de checkpoint est mis à jour dans chaque entête de fichier de données et dans le fichier de contrô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fichier de contrôle confirme que tous les fichiers sont au même numéro de checkpoint pendant le démarrage d’inst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LOG_CHECKPOINT_TIMEOUT détermine l’intervalle de temps maximum qui sépare deux checkpoi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LOG_CHECKPOINT_INTERVAL détermine le nombre de blocs de fichier redo log utilisés à partir duquel déclencher 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598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603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604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652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Checkpoint (CKPT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82960" y="4156200"/>
            <a:ext cx="633240" cy="490320"/>
            <a:chOff x="2982960" y="4156200"/>
            <a:chExt cx="633240" cy="490320"/>
          </a:xfrm>
        </p:grpSpPr>
        <p:sp>
          <p:nvSpPr>
            <p:cNvPr id="663" name=""/>
            <p:cNvSpPr/>
            <p:nvPr/>
          </p:nvSpPr>
          <p:spPr>
            <a:xfrm>
              <a:off x="2982960" y="425592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156200"/>
              <a:ext cx="63324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82960" y="445932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667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065400" y="4799160"/>
            <a:ext cx="633600" cy="490320"/>
            <a:chOff x="3065400" y="4799160"/>
            <a:chExt cx="633600" cy="490320"/>
          </a:xfrm>
        </p:grpSpPr>
        <p:sp>
          <p:nvSpPr>
            <p:cNvPr id="671" name=""/>
            <p:cNvSpPr/>
            <p:nvPr/>
          </p:nvSpPr>
          <p:spPr>
            <a:xfrm>
              <a:off x="30654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654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654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316240" y="55292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046160" y="5005440"/>
            <a:ext cx="108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81120" y="4357800"/>
            <a:ext cx="0" cy="635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81120" y="3209760"/>
            <a:ext cx="228600" cy="633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48040" y="4249800"/>
            <a:ext cx="9284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405240" y="2576160"/>
            <a:ext cx="404640" cy="738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3717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73600" y="464508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Contrô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62200" y="531648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Paramèt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282920" y="4219560"/>
            <a:ext cx="615960" cy="279360"/>
            <a:chOff x="4282920" y="4219560"/>
            <a:chExt cx="615960" cy="279360"/>
          </a:xfrm>
        </p:grpSpPr>
        <p:sp>
          <p:nvSpPr>
            <p:cNvPr id="691" name=""/>
            <p:cNvSpPr/>
            <p:nvPr/>
          </p:nvSpPr>
          <p:spPr>
            <a:xfrm>
              <a:off x="4282920" y="427680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82920" y="421956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82920" y="439272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429080" y="4395960"/>
            <a:ext cx="615960" cy="279360"/>
            <a:chOff x="4429080" y="4395960"/>
            <a:chExt cx="615960" cy="279360"/>
          </a:xfrm>
        </p:grpSpPr>
        <p:sp>
          <p:nvSpPr>
            <p:cNvPr id="695" name=""/>
            <p:cNvSpPr/>
            <p:nvPr/>
          </p:nvSpPr>
          <p:spPr>
            <a:xfrm>
              <a:off x="4429080" y="445284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29080" y="439596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29080" y="4568760"/>
              <a:ext cx="615960" cy="10656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70320" y="4991040"/>
            <a:ext cx="615960" cy="279360"/>
            <a:chOff x="4270320" y="4991040"/>
            <a:chExt cx="615960" cy="279360"/>
          </a:xfrm>
        </p:grpSpPr>
        <p:sp>
          <p:nvSpPr>
            <p:cNvPr id="699" name=""/>
            <p:cNvSpPr/>
            <p:nvPr/>
          </p:nvSpPr>
          <p:spPr>
            <a:xfrm>
              <a:off x="4270320" y="5048280"/>
              <a:ext cx="615960" cy="1666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70320" y="4991040"/>
              <a:ext cx="615960" cy="10656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70320" y="5164200"/>
              <a:ext cx="615960" cy="106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213520" y="5415120"/>
            <a:ext cx="1744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 Mots de Pas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769000" y="5029200"/>
            <a:ext cx="568440" cy="330120"/>
            <a:chOff x="5769000" y="5029200"/>
            <a:chExt cx="568440" cy="330120"/>
          </a:xfrm>
        </p:grpSpPr>
        <p:sp>
          <p:nvSpPr>
            <p:cNvPr id="704" name=""/>
            <p:cNvSpPr/>
            <p:nvPr/>
          </p:nvSpPr>
          <p:spPr>
            <a:xfrm>
              <a:off x="5769000" y="5097600"/>
              <a:ext cx="568440" cy="1965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69000" y="5029200"/>
              <a:ext cx="568440" cy="1252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69000" y="5234040"/>
              <a:ext cx="568440" cy="1252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flipV="1">
            <a:off x="3594240" y="3631680"/>
            <a:ext cx="736560" cy="6224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680000" y="386676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Checkpoint (CKPT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03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activé en positionnant le paramètre CHECKPOINT_PROCESS = TRUE. La valeur par défaut est FALS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’il est activé, ce process détaché va prendre en charge les tâches de mise à jour des fichiers du LGWR lors d’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et à  jour les entêtes de fichiers de données et les fichiers de contrôle à la fin d’un checkpoi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améliorer les performances des bases de données ayant de nombreux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721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726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727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775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Archiver (ARCH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786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787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791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795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799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803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807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811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5005440"/>
            <a:ext cx="120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81120" y="4362480"/>
            <a:ext cx="0" cy="623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595520" y="3204720"/>
            <a:ext cx="242640" cy="6476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48040" y="4249800"/>
            <a:ext cx="10238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400560" y="2619000"/>
            <a:ext cx="404640" cy="700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39084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832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381800" y="3865320"/>
            <a:ext cx="152640" cy="339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113440" y="3898800"/>
            <a:ext cx="774720" cy="519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110280" y="2557440"/>
            <a:ext cx="395280" cy="776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724000" y="3726000"/>
            <a:ext cx="1319400" cy="9270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Archiver (ARCH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85600" y="173484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pie les fichiers redo log sur bande ou sur disque pour la restauration après une perte de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père seulement lorsqu'une permutation de log se produ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optionnel et est seulement nécessaire dans le mode ARCHIVELO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écrire sur une unité de bande ou de dis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16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connaître le rôle du Log Writer (LGWR) lors de l’écriture des transactions validées sur les fichier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dentifier les composants et le but du fichier redo lo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dentifier le but des checkpoi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comment Oracle traite la concurrence d’accès aux données et la lecture cohéren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72975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cture Cohérent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55800" y="1708200"/>
            <a:ext cx="7738920" cy="1463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ELECT first_name, dept_id, sal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FROM s_emp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3  WHERE salary &gt; (SELECT AVG(salary) FROM s_emp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401760"/>
                <a:tab algn="l" pos="6843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  <a:tab algn="l" pos="84344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4                  WHERE b.dept_id = a.dept_i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 Modèle de Verrouillage 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33120" y="1650600"/>
            <a:ext cx="7296120" cy="43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« lecteurs » ne bloquent pas ceux qui écriv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eux qui écrivent ne bloquent pas les « lecteurs »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lecture cohérente est assurée par les rollback segm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verrouillage de ligne est supporté (par défaut) aussi bien que le verrouillage de tab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verrouillage peut être forcé qu'il soit automatique ou manue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es verrous partagés ou exclusifs peuvent être obtenus manuellem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verrous de lignes sont possibles sur toute lign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serveur Oracle n’escalade jamais les verrous; pour passer, par exemple, du niveau ligne à celui de page ou de tabl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869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874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875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923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933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934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938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942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946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950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954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958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90720" y="500544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81120" y="43624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581120" y="3214800"/>
            <a:ext cx="414360" cy="637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48040" y="42498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395520" y="2566800"/>
            <a:ext cx="419400" cy="742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3717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979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7372440" y="3865680"/>
            <a:ext cx="162000" cy="349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043600" y="3852360"/>
            <a:ext cx="1014480" cy="576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081840" y="2600280"/>
            <a:ext cx="419040" cy="743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572080" y="3638520"/>
            <a:ext cx="1486080" cy="1038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0040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14400" y="21528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073160" y="2519280"/>
            <a:ext cx="2197080" cy="978120"/>
            <a:chOff x="1073160" y="2519280"/>
            <a:chExt cx="2197080" cy="978120"/>
          </a:xfrm>
        </p:grpSpPr>
        <p:sp>
          <p:nvSpPr>
            <p:cNvPr id="999" name=""/>
            <p:cNvSpPr/>
            <p:nvPr/>
          </p:nvSpPr>
          <p:spPr>
            <a:xfrm>
              <a:off x="1073160" y="25192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14280" y="27637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82760" y="27637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-1711332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816360" y="2581200"/>
            <a:ext cx="1914480" cy="854280"/>
            <a:chOff x="3816360" y="2581200"/>
            <a:chExt cx="1914480" cy="854280"/>
          </a:xfrm>
        </p:grpSpPr>
        <p:grpSp>
          <p:nvGrpSpPr>
            <p:cNvPr id="1004" name=""/>
            <p:cNvGrpSpPr/>
            <p:nvPr/>
          </p:nvGrpSpPr>
          <p:grpSpPr>
            <a:xfrm>
              <a:off x="3816360" y="2581200"/>
              <a:ext cx="1914480" cy="854280"/>
              <a:chOff x="3816360" y="2581200"/>
              <a:chExt cx="1914480" cy="854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3822840" y="25876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21308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4012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270400" y="25812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16360" y="2919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816360" y="31939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34484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4021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43440" y="25858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47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9896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7520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605480" y="25891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32520" y="25891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65760" y="25812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213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43720" y="25858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816360" y="30495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816360" y="33256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816360" y="2800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816360" y="26906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3828960" y="26924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35520" y="26924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53080" y="26971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38640" y="26956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76880" y="26956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49880" y="26956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81320" y="30542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99040" y="30574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51280" y="25970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46600" y="28051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10160" y="30574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49880" y="29210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48040" y="32004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33960" y="30528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49880" y="32050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78400" y="33256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38640" y="31971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75440" y="31957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78440" y="33307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949560" y="33386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418000" y="29289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03640" y="29257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413320" y="32018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46600" y="29257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71880" y="28051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00760" y="33256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07000" y="2514600"/>
            <a:ext cx="1221120" cy="988920"/>
            <a:chOff x="6507000" y="2514600"/>
            <a:chExt cx="1221120" cy="988920"/>
          </a:xfrm>
        </p:grpSpPr>
        <p:sp>
          <p:nvSpPr>
            <p:cNvPr id="1053" name=""/>
            <p:cNvSpPr/>
            <p:nvPr/>
          </p:nvSpPr>
          <p:spPr>
            <a:xfrm>
              <a:off x="6507000" y="25146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5280" y="33750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5280" y="32259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10240" y="25178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10240" y="27874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15280" y="30765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15280" y="29368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646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39160" y="25178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4538520" y="4888080"/>
            <a:ext cx="1398600" cy="839520"/>
            <a:chOff x="4538520" y="4888080"/>
            <a:chExt cx="1398600" cy="839520"/>
          </a:xfrm>
        </p:grpSpPr>
        <p:grpSp>
          <p:nvGrpSpPr>
            <p:cNvPr id="1063" name=""/>
            <p:cNvGrpSpPr/>
            <p:nvPr/>
          </p:nvGrpSpPr>
          <p:grpSpPr>
            <a:xfrm>
              <a:off x="4700520" y="4888080"/>
              <a:ext cx="720720" cy="371160"/>
              <a:chOff x="4700520" y="4888080"/>
              <a:chExt cx="720720" cy="371160"/>
            </a:xfrm>
          </p:grpSpPr>
          <p:sp>
            <p:nvSpPr>
              <p:cNvPr id="1064" name=""/>
              <p:cNvSpPr/>
              <p:nvPr/>
            </p:nvSpPr>
            <p:spPr>
              <a:xfrm>
                <a:off x="4700520" y="49640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700520" y="48880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0520" y="51181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216400" y="5133960"/>
              <a:ext cx="720720" cy="371520"/>
              <a:chOff x="5216400" y="5133960"/>
              <a:chExt cx="720720" cy="371520"/>
            </a:xfrm>
          </p:grpSpPr>
          <p:sp>
            <p:nvSpPr>
              <p:cNvPr id="1068" name=""/>
              <p:cNvSpPr/>
              <p:nvPr/>
            </p:nvSpPr>
            <p:spPr>
              <a:xfrm>
                <a:off x="5216400" y="52102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216400" y="51339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216400" y="53640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538520" y="5192640"/>
              <a:ext cx="720720" cy="372960"/>
              <a:chOff x="4538520" y="5192640"/>
              <a:chExt cx="720720" cy="372960"/>
            </a:xfrm>
          </p:grpSpPr>
          <p:sp>
            <p:nvSpPr>
              <p:cNvPr id="1072" name=""/>
              <p:cNvSpPr/>
              <p:nvPr/>
            </p:nvSpPr>
            <p:spPr>
              <a:xfrm>
                <a:off x="4538520" y="52704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8520" y="51926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38520" y="54244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964040" y="5356080"/>
              <a:ext cx="720720" cy="371520"/>
              <a:chOff x="4964040" y="5356080"/>
              <a:chExt cx="720720" cy="3715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964040" y="54324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964040" y="53560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964040" y="55864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3076560" y="4613400"/>
            <a:ext cx="633600" cy="490320"/>
            <a:chOff x="3076560" y="4613400"/>
            <a:chExt cx="633600" cy="490320"/>
          </a:xfrm>
        </p:grpSpPr>
        <p:sp>
          <p:nvSpPr>
            <p:cNvPr id="1080" name=""/>
            <p:cNvSpPr/>
            <p:nvPr/>
          </p:nvSpPr>
          <p:spPr>
            <a:xfrm>
              <a:off x="3076560" y="47131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76560" y="46134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76560" y="49165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110040" y="4917960"/>
            <a:ext cx="633240" cy="490680"/>
            <a:chOff x="3110040" y="4917960"/>
            <a:chExt cx="633240" cy="490680"/>
          </a:xfrm>
        </p:grpSpPr>
        <p:sp>
          <p:nvSpPr>
            <p:cNvPr id="1084" name=""/>
            <p:cNvSpPr/>
            <p:nvPr/>
          </p:nvSpPr>
          <p:spPr>
            <a:xfrm>
              <a:off x="3110040" y="50180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10040" y="49179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0040" y="52214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159000" y="5256360"/>
            <a:ext cx="633600" cy="490320"/>
            <a:chOff x="3159000" y="5256360"/>
            <a:chExt cx="633600" cy="490320"/>
          </a:xfrm>
        </p:grpSpPr>
        <p:sp>
          <p:nvSpPr>
            <p:cNvPr id="1088" name=""/>
            <p:cNvSpPr/>
            <p:nvPr/>
          </p:nvSpPr>
          <p:spPr>
            <a:xfrm>
              <a:off x="3159000" y="53560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9000" y="52563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59000" y="55594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2649600" y="5681520"/>
            <a:ext cx="181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20680" y="43131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144440" y="4319640"/>
            <a:ext cx="203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20680" y="54561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90720" y="5462640"/>
            <a:ext cx="4225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49480" y="378000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5045040" y="3897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581120" y="4819680"/>
            <a:ext cx="0" cy="63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581120" y="3672000"/>
            <a:ext cx="414360" cy="6379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48040" y="47070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3395520" y="3024000"/>
            <a:ext cx="419400" cy="742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3371760" y="42858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13240" y="5681520"/>
            <a:ext cx="184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43720" y="380376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2324160" y="39099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64280" y="3814920"/>
            <a:ext cx="93024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-1243080" y="3897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7083360" y="4681440"/>
            <a:ext cx="622440" cy="1025640"/>
            <a:chOff x="7083360" y="4681440"/>
            <a:chExt cx="622440" cy="1025640"/>
          </a:xfrm>
        </p:grpSpPr>
        <p:sp>
          <p:nvSpPr>
            <p:cNvPr id="1109" name=""/>
            <p:cNvSpPr/>
            <p:nvPr/>
          </p:nvSpPr>
          <p:spPr>
            <a:xfrm>
              <a:off x="7083360" y="46814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62920" y="48798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20040" y="47894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1720" y="48243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26280" y="49687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26280" y="52894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505560" y="5681520"/>
            <a:ext cx="285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7372440" y="4322880"/>
            <a:ext cx="162000" cy="349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5043600" y="4309560"/>
            <a:ext cx="1014480" cy="5763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081840" y="3057480"/>
            <a:ext cx="419040" cy="743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572080" y="4095720"/>
            <a:ext cx="1486080" cy="1038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371840" y="379080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54640" y="3908520"/>
            <a:ext cx="16265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97040" y="5913360"/>
            <a:ext cx="143532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02160" y="5913360"/>
            <a:ext cx="158760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07280" y="5913360"/>
            <a:ext cx="17398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778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924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07080" y="1569960"/>
            <a:ext cx="93024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Exerc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38520" y="4430880"/>
            <a:ext cx="1398600" cy="839520"/>
            <a:chOff x="4538520" y="4430880"/>
            <a:chExt cx="1398600" cy="839520"/>
          </a:xfrm>
        </p:grpSpPr>
        <p:grpSp>
          <p:nvGrpSpPr>
            <p:cNvPr id="93" name=""/>
            <p:cNvGrpSpPr/>
            <p:nvPr/>
          </p:nvGrpSpPr>
          <p:grpSpPr>
            <a:xfrm>
              <a:off x="4700520" y="4430880"/>
              <a:ext cx="720720" cy="371160"/>
              <a:chOff x="4700520" y="4430880"/>
              <a:chExt cx="720720" cy="371160"/>
            </a:xfrm>
          </p:grpSpPr>
          <p:sp>
            <p:nvSpPr>
              <p:cNvPr id="94" name=""/>
              <p:cNvSpPr/>
              <p:nvPr/>
            </p:nvSpPr>
            <p:spPr>
              <a:xfrm>
                <a:off x="470052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0052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0052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16400" y="4676760"/>
              <a:ext cx="720720" cy="371520"/>
              <a:chOff x="5216400" y="4676760"/>
              <a:chExt cx="720720" cy="371520"/>
            </a:xfrm>
          </p:grpSpPr>
          <p:sp>
            <p:nvSpPr>
              <p:cNvPr id="98" name=""/>
              <p:cNvSpPr/>
              <p:nvPr/>
            </p:nvSpPr>
            <p:spPr>
              <a:xfrm>
                <a:off x="521640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40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1640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538520" y="4735440"/>
              <a:ext cx="720720" cy="372960"/>
              <a:chOff x="4538520" y="4735440"/>
              <a:chExt cx="720720" cy="372960"/>
            </a:xfrm>
          </p:grpSpPr>
          <p:sp>
            <p:nvSpPr>
              <p:cNvPr id="102" name=""/>
              <p:cNvSpPr/>
              <p:nvPr/>
            </p:nvSpPr>
            <p:spPr>
              <a:xfrm>
                <a:off x="453852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3852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3852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964040" y="4898880"/>
              <a:ext cx="720720" cy="371520"/>
              <a:chOff x="4964040" y="4898880"/>
              <a:chExt cx="720720" cy="371520"/>
            </a:xfrm>
          </p:grpSpPr>
          <p:sp>
            <p:nvSpPr>
              <p:cNvPr id="106" name=""/>
              <p:cNvSpPr/>
              <p:nvPr/>
            </p:nvSpPr>
            <p:spPr>
              <a:xfrm>
                <a:off x="496404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6404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6404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112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117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118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076560" y="4156200"/>
            <a:ext cx="633600" cy="490320"/>
            <a:chOff x="3076560" y="4156200"/>
            <a:chExt cx="633600" cy="490320"/>
          </a:xfrm>
        </p:grpSpPr>
        <p:sp>
          <p:nvSpPr>
            <p:cNvPr id="166" name=""/>
            <p:cNvSpPr/>
            <p:nvPr/>
          </p:nvSpPr>
          <p:spPr>
            <a:xfrm>
              <a:off x="3076560" y="425592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6560" y="415620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6560" y="445932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110040" y="4460760"/>
            <a:ext cx="633240" cy="490680"/>
            <a:chOff x="3110040" y="4460760"/>
            <a:chExt cx="633240" cy="490680"/>
          </a:xfrm>
        </p:grpSpPr>
        <p:sp>
          <p:nvSpPr>
            <p:cNvPr id="170" name=""/>
            <p:cNvSpPr/>
            <p:nvPr/>
          </p:nvSpPr>
          <p:spPr>
            <a:xfrm>
              <a:off x="3110040" y="4560840"/>
              <a:ext cx="63324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10040" y="4460760"/>
              <a:ext cx="633240" cy="1890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10040" y="4764240"/>
              <a:ext cx="63324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59000" y="4799160"/>
            <a:ext cx="633600" cy="490320"/>
            <a:chOff x="3159000" y="4799160"/>
            <a:chExt cx="633600" cy="490320"/>
          </a:xfrm>
        </p:grpSpPr>
        <p:sp>
          <p:nvSpPr>
            <p:cNvPr id="174" name=""/>
            <p:cNvSpPr/>
            <p:nvPr/>
          </p:nvSpPr>
          <p:spPr>
            <a:xfrm>
              <a:off x="3159000" y="4898880"/>
              <a:ext cx="633600" cy="29376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59000" y="4799160"/>
              <a:ext cx="633600" cy="1886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59000" y="5102280"/>
              <a:ext cx="633600" cy="1872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7328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20680" y="3855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4440" y="3862440"/>
            <a:ext cx="946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0680" y="499896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005440"/>
            <a:ext cx="1201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49480" y="33228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22560" y="34401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1760" y="4357800"/>
            <a:ext cx="0" cy="642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562040" y="3205080"/>
            <a:ext cx="319320" cy="642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8040" y="4249800"/>
            <a:ext cx="1028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95520" y="2625840"/>
            <a:ext cx="419400" cy="689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386160" y="3828600"/>
            <a:ext cx="0" cy="328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3720" y="334656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6160" y="345276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64280" y="335772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2160" y="344016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083360" y="4224240"/>
            <a:ext cx="622440" cy="1025640"/>
            <a:chOff x="7083360" y="4224240"/>
            <a:chExt cx="622440" cy="1025640"/>
          </a:xfrm>
        </p:grpSpPr>
        <p:sp>
          <p:nvSpPr>
            <p:cNvPr id="195" name=""/>
            <p:cNvSpPr/>
            <p:nvPr/>
          </p:nvSpPr>
          <p:spPr>
            <a:xfrm>
              <a:off x="7083360" y="4224240"/>
              <a:ext cx="622440" cy="1025640"/>
            </a:xfrm>
            <a:prstGeom prst="rect">
              <a:avLst/>
            </a:prstGeom>
            <a:gradFill rotWithShape="0">
              <a:gsLst>
                <a:gs pos="0">
                  <a:srgbClr val="8f8f8f"/>
                </a:gs>
                <a:gs pos="100000">
                  <a:srgbClr val="636363"/>
                </a:gs>
              </a:gsLst>
              <a:lin ang="5400000"/>
            </a:gra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2920" y="4422600"/>
              <a:ext cx="293400" cy="73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0040" y="4332240"/>
              <a:ext cx="87120" cy="2350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1720" y="4367160"/>
              <a:ext cx="39600" cy="128520"/>
            </a:xfrm>
            <a:prstGeom prst="rect">
              <a:avLst/>
            </a:prstGeom>
            <a:solidFill>
              <a:srgbClr val="ff2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6280" y="4511520"/>
              <a:ext cx="166680" cy="16524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832280"/>
              <a:ext cx="166680" cy="166680"/>
            </a:xfrm>
            <a:prstGeom prst="ellipse">
              <a:avLst/>
            </a:prstGeom>
            <a:gradFill rotWithShape="0">
              <a:gsLst>
                <a:gs pos="0">
                  <a:srgbClr val="636363"/>
                </a:gs>
                <a:gs pos="100000">
                  <a:srgbClr val="8f8f8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42924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Arch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1800" y="3865320"/>
            <a:ext cx="152640" cy="339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13440" y="3852720"/>
            <a:ext cx="987480" cy="5652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1200" y="2509920"/>
            <a:ext cx="424080" cy="8287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95840" y="3726000"/>
            <a:ext cx="1447920" cy="946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71840" y="33336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54640" y="3451320"/>
            <a:ext cx="77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K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209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Transaction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4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ébut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u démarrage d’une sess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la fin d’une transaction précéden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n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nsaction valid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n ordre SQL COMMIT est ém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n ordre SQL entraîne un commit implicit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rtie normale d’un programme utilisateur avec déconnexion du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Transaction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n de Transaction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nsaction annul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rdre SQL ROLLBACK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rtie anormale d’un programme utilisateur sans déconnexion du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rreur du processe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rreur disqu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236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241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242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290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Perte de Transactions en Mémoir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25800" y="2046240"/>
            <a:ext cx="1650960" cy="133524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960720" y="2030400"/>
            <a:ext cx="1611360" cy="131760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Buffer de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03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toutes les modifications effectuée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construit les modifications effectuées sur la base de données et les entrées de rollback segments, lorsqu’une restauration est nécessai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e mécanisme peut être ignoré en utilisant le mot-clé UNRECOVERABLE dans les ordres CREATE TABLE et CREATE INDEX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racle Loader peut ignorer ce mécanism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314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319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368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ut des Fichiers Redo Log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5400" y="3971880"/>
            <a:ext cx="4817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Les fichiers redo log sont utilisés pour restaurer les données modifiées qui étaient en mémoire au moment d’une perte de l’insta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925800" y="1963800"/>
            <a:ext cx="1650960" cy="13348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960720" y="1947960"/>
            <a:ext cx="1611360" cy="131760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45200" y="3740040"/>
            <a:ext cx="1457280" cy="959040"/>
            <a:chOff x="6145200" y="3740040"/>
            <a:chExt cx="1457280" cy="959040"/>
          </a:xfrm>
        </p:grpSpPr>
        <p:grpSp>
          <p:nvGrpSpPr>
            <p:cNvPr id="382" name=""/>
            <p:cNvGrpSpPr/>
            <p:nvPr/>
          </p:nvGrpSpPr>
          <p:grpSpPr>
            <a:xfrm>
              <a:off x="6313320" y="3740040"/>
              <a:ext cx="750960" cy="424080"/>
              <a:chOff x="6313320" y="3740040"/>
              <a:chExt cx="750960" cy="424080"/>
            </a:xfrm>
          </p:grpSpPr>
          <p:sp>
            <p:nvSpPr>
              <p:cNvPr id="383" name=""/>
              <p:cNvSpPr/>
              <p:nvPr/>
            </p:nvSpPr>
            <p:spPr>
              <a:xfrm>
                <a:off x="6313320" y="3827520"/>
                <a:ext cx="750960" cy="25380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13320" y="374004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13320" y="4003560"/>
                <a:ext cx="750960" cy="16056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851520" y="4021200"/>
              <a:ext cx="750960" cy="423720"/>
              <a:chOff x="6851520" y="4021200"/>
              <a:chExt cx="750960" cy="423720"/>
            </a:xfrm>
          </p:grpSpPr>
          <p:sp>
            <p:nvSpPr>
              <p:cNvPr id="387" name=""/>
              <p:cNvSpPr/>
              <p:nvPr/>
            </p:nvSpPr>
            <p:spPr>
              <a:xfrm>
                <a:off x="6851520" y="4108320"/>
                <a:ext cx="750960" cy="2541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51520" y="4021200"/>
                <a:ext cx="750960" cy="1634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51520" y="4284720"/>
                <a:ext cx="750960" cy="1602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145200" y="4087800"/>
              <a:ext cx="750960" cy="426960"/>
              <a:chOff x="6145200" y="4087800"/>
              <a:chExt cx="750960" cy="426960"/>
            </a:xfrm>
          </p:grpSpPr>
          <p:sp>
            <p:nvSpPr>
              <p:cNvPr id="391" name=""/>
              <p:cNvSpPr/>
              <p:nvPr/>
            </p:nvSpPr>
            <p:spPr>
              <a:xfrm>
                <a:off x="6145200" y="4176720"/>
                <a:ext cx="750960" cy="2541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5200" y="4087800"/>
                <a:ext cx="750960" cy="16524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45200" y="435276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588000" y="4275000"/>
              <a:ext cx="750960" cy="424080"/>
              <a:chOff x="6588000" y="4275000"/>
              <a:chExt cx="750960" cy="424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588000" y="4362480"/>
                <a:ext cx="750960" cy="25236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88000" y="4275000"/>
                <a:ext cx="750960" cy="1605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88000" y="4537080"/>
                <a:ext cx="750960" cy="16200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897520" y="4800600"/>
            <a:ext cx="189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1695600"/>
            <a:ext cx="7256520" cy="1469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2081a"/>
              </a:gs>
              <a:gs pos="50000">
                <a:srgbClr val="081d58"/>
              </a:gs>
              <a:gs pos="100000">
                <a:srgbClr val="02081a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73160" y="2062080"/>
            <a:ext cx="2197080" cy="978120"/>
            <a:chOff x="1073160" y="2062080"/>
            <a:chExt cx="2197080" cy="978120"/>
          </a:xfrm>
        </p:grpSpPr>
        <p:sp>
          <p:nvSpPr>
            <p:cNvPr id="405" name=""/>
            <p:cNvSpPr/>
            <p:nvPr/>
          </p:nvSpPr>
          <p:spPr>
            <a:xfrm>
              <a:off x="1073160" y="2062080"/>
              <a:ext cx="2197080" cy="9781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1428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2760" y="2306520"/>
              <a:ext cx="854280" cy="561960"/>
            </a:xfrm>
            <a:prstGeom prst="roundRect">
              <a:avLst>
                <a:gd name="adj" fmla="val 30500"/>
              </a:avLst>
            </a:prstGeom>
            <a:gradFill rotWithShape="0">
              <a:gsLst>
                <a:gs pos="0">
                  <a:srgbClr val="007f72"/>
                </a:gs>
                <a:gs pos="50000">
                  <a:srgbClr val="00b7a5"/>
                </a:gs>
                <a:gs pos="100000">
                  <a:srgbClr val="007f7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451320" y="1722600"/>
            <a:ext cx="212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816360" y="2124000"/>
            <a:ext cx="1914480" cy="854280"/>
            <a:chOff x="3816360" y="2124000"/>
            <a:chExt cx="1914480" cy="854280"/>
          </a:xfrm>
        </p:grpSpPr>
        <p:grpSp>
          <p:nvGrpSpPr>
            <p:cNvPr id="410" name=""/>
            <p:cNvGrpSpPr/>
            <p:nvPr/>
          </p:nvGrpSpPr>
          <p:grpSpPr>
            <a:xfrm>
              <a:off x="3816360" y="2124000"/>
              <a:ext cx="1914480" cy="854280"/>
              <a:chOff x="3816360" y="2124000"/>
              <a:chExt cx="1914480" cy="854280"/>
            </a:xfrm>
          </p:grpSpPr>
          <p:sp>
            <p:nvSpPr>
              <p:cNvPr id="411" name=""/>
              <p:cNvSpPr/>
              <p:nvPr/>
            </p:nvSpPr>
            <p:spPr>
              <a:xfrm>
                <a:off x="3822840" y="2130480"/>
                <a:ext cx="1901520" cy="841320"/>
              </a:xfrm>
              <a:prstGeom prst="roundRect">
                <a:avLst>
                  <a:gd name="adj" fmla="val 12495"/>
                </a:avLst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1308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4012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70400" y="2124000"/>
                <a:ext cx="0" cy="85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16360" y="24620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16360" y="273672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484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4021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43440" y="2128680"/>
                <a:ext cx="0" cy="838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7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9896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7520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05480" y="2131920"/>
                <a:ext cx="0" cy="83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32520" y="2131920"/>
                <a:ext cx="0" cy="84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65760" y="2124000"/>
                <a:ext cx="0" cy="84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213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43720" y="2128680"/>
                <a:ext cx="0" cy="84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16360" y="259236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16360" y="286848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16360" y="23432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16360" y="2233440"/>
                <a:ext cx="1914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828960" y="2235240"/>
              <a:ext cx="11772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5520" y="2235240"/>
              <a:ext cx="13176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3080" y="2239920"/>
              <a:ext cx="65160" cy="954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38640" y="2238480"/>
              <a:ext cx="127080" cy="1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6880" y="2238480"/>
              <a:ext cx="12204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9880" y="2238480"/>
              <a:ext cx="12672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2597040"/>
              <a:ext cx="1317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9040" y="2600280"/>
              <a:ext cx="1396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51280" y="2139840"/>
              <a:ext cx="95400" cy="79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6600" y="2347920"/>
              <a:ext cx="106560" cy="1000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10160" y="2600280"/>
              <a:ext cx="119160" cy="12384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9880" y="2463840"/>
              <a:ext cx="11736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040" y="2743200"/>
              <a:ext cx="105120" cy="1144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33960" y="2595600"/>
              <a:ext cx="1317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9880" y="2747880"/>
              <a:ext cx="109440" cy="10656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8400" y="2868480"/>
              <a:ext cx="12204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38640" y="2739960"/>
              <a:ext cx="135000" cy="12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75440" y="2738520"/>
              <a:ext cx="1206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78440" y="2873520"/>
              <a:ext cx="12852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9560" y="2881440"/>
              <a:ext cx="108000" cy="810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18000" y="2471760"/>
              <a:ext cx="92160" cy="1062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3640" y="2468520"/>
              <a:ext cx="119160" cy="11268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3320" y="2744640"/>
              <a:ext cx="96840" cy="10980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46600" y="2468520"/>
              <a:ext cx="11448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1880" y="2347920"/>
              <a:ext cx="122400" cy="10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00760" y="2868480"/>
              <a:ext cx="1267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507000" y="2057400"/>
            <a:ext cx="1221120" cy="988920"/>
            <a:chOff x="6507000" y="2057400"/>
            <a:chExt cx="1221120" cy="988920"/>
          </a:xfrm>
        </p:grpSpPr>
        <p:sp>
          <p:nvSpPr>
            <p:cNvPr id="459" name=""/>
            <p:cNvSpPr/>
            <p:nvPr/>
          </p:nvSpPr>
          <p:spPr>
            <a:xfrm>
              <a:off x="6507000" y="2057400"/>
              <a:ext cx="1221120" cy="988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30467d"/>
                </a:gs>
                <a:gs pos="50000">
                  <a:srgbClr val="618ffd"/>
                </a:gs>
                <a:gs pos="100000">
                  <a:srgbClr val="30467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5280" y="291780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5280" y="27687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10240" y="2060640"/>
              <a:ext cx="552600" cy="646200"/>
            </a:xfrm>
            <a:custGeom>
              <a:avLst/>
              <a:gdLst>
                <a:gd name="textAreaLeft" fmla="*/ 20160 w 552600"/>
                <a:gd name="textAreaRight" fmla="*/ 532440 w 552600"/>
                <a:gd name="textAreaTop" fmla="*/ 20160 h 646200"/>
                <a:gd name="textAreaBottom" fmla="*/ 626040 h 646200"/>
              </a:gdLst>
              <a:ahLst/>
              <a:rect l="textAreaLeft" t="textAreaTop" r="textAreaRight" b="textAreaBottom"/>
              <a:pathLst>
                <a:path w="21600" h="25256">
                  <a:moveTo>
                    <a:pt x="2699" y="0"/>
                  </a:moveTo>
                  <a:arcTo wR="2699" hR="2699" stAng="16200000" swAng="-5400000"/>
                  <a:lnTo>
                    <a:pt x="0" y="22557"/>
                  </a:lnTo>
                  <a:arcTo wR="2699" hR="2699" stAng="10800000" swAng="-5400000"/>
                  <a:lnTo>
                    <a:pt x="18901" y="2525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544c"/>
                </a:gs>
                <a:gs pos="50000">
                  <a:srgbClr val="007a6e"/>
                </a:gs>
                <a:gs pos="100000">
                  <a:srgbClr val="0054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10240" y="2330280"/>
              <a:ext cx="120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15280" y="26193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15280" y="247968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15280" y="2189160"/>
              <a:ext cx="12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39160" y="2060640"/>
              <a:ext cx="0" cy="9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rocess Log Writer (LGWR)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005280" y="4264200"/>
            <a:ext cx="779400" cy="428400"/>
            <a:chOff x="3005280" y="4264200"/>
            <a:chExt cx="779400" cy="428400"/>
          </a:xfrm>
        </p:grpSpPr>
        <p:sp>
          <p:nvSpPr>
            <p:cNvPr id="470" name=""/>
            <p:cNvSpPr/>
            <p:nvPr/>
          </p:nvSpPr>
          <p:spPr>
            <a:xfrm>
              <a:off x="3005280" y="435132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05280" y="4264200"/>
              <a:ext cx="779400" cy="1648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05280" y="452916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38400" y="4568760"/>
            <a:ext cx="779400" cy="428760"/>
            <a:chOff x="3038400" y="4568760"/>
            <a:chExt cx="779400" cy="428760"/>
          </a:xfrm>
        </p:grpSpPr>
        <p:sp>
          <p:nvSpPr>
            <p:cNvPr id="474" name=""/>
            <p:cNvSpPr/>
            <p:nvPr/>
          </p:nvSpPr>
          <p:spPr>
            <a:xfrm>
              <a:off x="3038400" y="465624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38400" y="4568760"/>
              <a:ext cx="779400" cy="165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8400" y="483408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087720" y="4906800"/>
            <a:ext cx="779400" cy="428760"/>
            <a:chOff x="3087720" y="4906800"/>
            <a:chExt cx="779400" cy="428760"/>
          </a:xfrm>
        </p:grpSpPr>
        <p:sp>
          <p:nvSpPr>
            <p:cNvPr id="478" name=""/>
            <p:cNvSpPr/>
            <p:nvPr/>
          </p:nvSpPr>
          <p:spPr>
            <a:xfrm>
              <a:off x="3087720" y="4994280"/>
              <a:ext cx="779400" cy="25704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87720" y="4906800"/>
              <a:ext cx="779400" cy="1652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7720" y="5172120"/>
              <a:ext cx="779400" cy="163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120680" y="39258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20680" y="5068800"/>
            <a:ext cx="930240" cy="50508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49480" y="339264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35160" y="347508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81120" y="4429080"/>
            <a:ext cx="0" cy="6382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542960" y="3042720"/>
            <a:ext cx="571680" cy="876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066760" y="4389120"/>
            <a:ext cx="935280" cy="32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179880" y="2562120"/>
            <a:ext cx="635040" cy="812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386160" y="3903480"/>
            <a:ext cx="0" cy="3553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84920" y="3416400"/>
            <a:ext cx="930240" cy="504720"/>
          </a:xfrm>
          <a:prstGeom prst="rect">
            <a:avLst/>
          </a:prstGeom>
          <a:gradFill rotWithShape="0">
            <a:gsLst>
              <a:gs pos="0">
                <a:srgbClr val="30467d"/>
              </a:gs>
              <a:gs pos="50000">
                <a:srgbClr val="618ffd"/>
              </a:gs>
              <a:gs pos="100000">
                <a:srgbClr val="30467d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67360" y="3498840"/>
            <a:ext cx="77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GW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327640" y="3925440"/>
            <a:ext cx="1440" cy="49860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67320" y="2567160"/>
            <a:ext cx="1038240" cy="838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809960" y="4430880"/>
            <a:ext cx="1398600" cy="839520"/>
            <a:chOff x="4809960" y="4430880"/>
            <a:chExt cx="1398600" cy="839520"/>
          </a:xfrm>
        </p:grpSpPr>
        <p:grpSp>
          <p:nvGrpSpPr>
            <p:cNvPr id="495" name=""/>
            <p:cNvGrpSpPr/>
            <p:nvPr/>
          </p:nvGrpSpPr>
          <p:grpSpPr>
            <a:xfrm>
              <a:off x="4971960" y="4430880"/>
              <a:ext cx="720720" cy="371160"/>
              <a:chOff x="4971960" y="4430880"/>
              <a:chExt cx="720720" cy="371160"/>
            </a:xfrm>
          </p:grpSpPr>
          <p:sp>
            <p:nvSpPr>
              <p:cNvPr id="496" name=""/>
              <p:cNvSpPr/>
              <p:nvPr/>
            </p:nvSpPr>
            <p:spPr>
              <a:xfrm>
                <a:off x="4971960" y="450684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971960" y="44308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71960" y="466092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487840" y="4676760"/>
              <a:ext cx="720720" cy="371520"/>
              <a:chOff x="5487840" y="4676760"/>
              <a:chExt cx="720720" cy="371520"/>
            </a:xfrm>
          </p:grpSpPr>
          <p:sp>
            <p:nvSpPr>
              <p:cNvPr id="500" name=""/>
              <p:cNvSpPr/>
              <p:nvPr/>
            </p:nvSpPr>
            <p:spPr>
              <a:xfrm>
                <a:off x="5487840" y="475308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87840" y="4676760"/>
                <a:ext cx="720720" cy="14292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87840" y="490680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4809960" y="4735440"/>
              <a:ext cx="720720" cy="372960"/>
              <a:chOff x="4809960" y="4735440"/>
              <a:chExt cx="720720" cy="372960"/>
            </a:xfrm>
          </p:grpSpPr>
          <p:sp>
            <p:nvSpPr>
              <p:cNvPr id="504" name=""/>
              <p:cNvSpPr/>
              <p:nvPr/>
            </p:nvSpPr>
            <p:spPr>
              <a:xfrm>
                <a:off x="4809960" y="4813200"/>
                <a:ext cx="720720" cy="22248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809960" y="4735440"/>
                <a:ext cx="720720" cy="14436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09960" y="4967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235480" y="4898880"/>
              <a:ext cx="720720" cy="371520"/>
              <a:chOff x="5235480" y="4898880"/>
              <a:chExt cx="720720" cy="37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5235480" y="4975200"/>
                <a:ext cx="720720" cy="222120"/>
              </a:xfrm>
              <a:prstGeom prst="rect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35480" y="4898880"/>
                <a:ext cx="720720" cy="141480"/>
              </a:xfrm>
              <a:prstGeom prst="ellipse">
                <a:avLst/>
              </a:prstGeom>
              <a:gradFill rotWithShape="0">
                <a:gsLst>
                  <a:gs pos="0">
                    <a:srgbClr val="fafd00"/>
                  </a:gs>
                  <a:gs pos="100000">
                    <a:srgbClr val="636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35480" y="5129280"/>
                <a:ext cx="72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adaf00"/>
                  </a:gs>
                  <a:gs pos="50000">
                    <a:srgbClr val="fafd00"/>
                  </a:gs>
                  <a:gs pos="100000">
                    <a:srgbClr val="ada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2573280" y="532440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s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09520" y="3908520"/>
            <a:ext cx="946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36800" y="5064120"/>
            <a:ext cx="1096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53006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ichiers Redo 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6:35:32Z</dcterms:created>
  <dc:creator>Hanne Rue Rasmussen</dc:creator>
  <dc:description/>
  <dc:language>en-US</dc:language>
  <cp:lastModifiedBy>MEDI TELECOM</cp:lastModifiedBy>
  <cp:lastPrinted>1996-03-20T15:31:44Z</cp:lastPrinted>
  <dcterms:modified xsi:type="dcterms:W3CDTF">2001-04-11T14:57:58Z</dcterms:modified>
  <cp:revision>15251</cp:revision>
  <dc:subject>Oracle7: Administration</dc:subject>
  <dc:title>Manage Transaction Concurrency and Consistency</dc:title>
</cp:coreProperties>
</file>